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5E8-1A7D-4A01-B781-7C8D6A44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FA4-07D5-42E9-9570-BEAA9AC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2F9-3246-4459-AAD8-BE6B84E3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372-37EC-4A25-853E-4437A8CF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AE0-219D-4E72-B913-010F877B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1AB-993D-4466-B71F-6E6DA42A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287-E31F-44CD-91A4-F4A52E7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87C-9A76-4492-BE2C-E60A7A4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413-8F51-4D47-924A-289715F1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63C-4C55-4A8A-A8BB-7F550EDB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42F-0DEF-4855-93E8-B99047C9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95A-93EB-4017-B520-8D1BEC9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90FDDB-B5CB-4B8D-AC55-92DD5F36DA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SLE@CBS.N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editing and valid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20500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SLE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NECE-Eurostat Meeting on Population and Housing Censuses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13-15 May 2008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he French paper (Working Paper 8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he Italian paper (Working Paper 9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07B-3E13-4451-ADED-4AFEE7CE87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97000"/>
            <a:ext cx="75247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376280"/>
            <a:ext cx="7524720" cy="49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ctivit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gular international meetings (e.g. UNSD, UNECE and Eurostat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ular contacts and visits between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 Recommendations and European regul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im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etter comparability over tim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etter comparability between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rance and Italy both contribute to the aims in their own wa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B93-F537-48F7-99DC-98151DA84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225360"/>
            <a:ext cx="7524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French paper (Working Paper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5640" y="1197000"/>
            <a:ext cx="748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idation of the census data in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olling census with advantages (e.g. no longer an enormous peak in the work load) and disadvantages (e.g. more complicated struc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ess attention for the resul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ference year? Assumption of stability of Census variables over time (research, e.g. based on EU-SILC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any checks to improve quality, but how large are the final overcount and undercou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Hot deck (within classes?) seems a logical choice for the imputation method, but what do we know about the selectivity of the non-respon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5CC-6F75-4214-B003-687915D1C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225360"/>
            <a:ext cx="7524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Italian paper (Working Paper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5640" y="1197000"/>
            <a:ext cx="748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overview of editing and imputation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the next Italian cens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rong link to methodology (department) at Is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lemma of timeliness versus quality: automate the editing procedure, but what is the effect of the order of the imputations (check on outliers, not inliers, Winkler)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Interesting link with graph theory, but a picture is missing (Blaise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inimum change approach (Chernikova algorithm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ong / short form reduces number of possible don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rogress in quality: unique identifier (fiscal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7DC-2A3D-4ED2-A47F-95C7275F04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08-05-07T07:36:27Z</dcterms:modified>
  <cp:revision>322</cp:revision>
  <dc:subject/>
  <dc:title>Combined use of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9331173</vt:r8>
  </property>
  <property fmtid="{D5CDD505-2E9C-101B-9397-08002B2CF9AE}" pid="3" name="_AuthorEmail">
    <vt:lpwstr>ESLE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Meeting on censuses 13-15 May 2008</vt:lpwstr>
  </property>
</Properties>
</file>