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E49-9711-442B-8CA7-6E82C896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480-21F2-4BA8-BE36-57BED1E5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943-2B71-4DDB-90F4-42C3BDB9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3D0-0FF1-4C4F-99AD-D4A8768A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102-4D9F-41AD-8DE4-4933DBE1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3A7-ABB9-47BA-9CA9-5EDA60F2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DE6-6A75-42F9-BB44-3A7AB77C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943-A571-430C-A51B-123B22E4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189-2B17-452F-BFD6-12CB9A4F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2FF-78A3-4EAD-987C-0FAE5CD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425-939B-4D04-A1FE-34FECD61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EFE-686A-4370-BAEF-2A9586FF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ACA0BA-BBBC-4988-8DC5-0560957D25F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SLE@CBS.N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6280"/>
            <a:ext cx="748836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ata editing and valid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205000"/>
            <a:ext cx="7559640" cy="38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nior researcher and project leader of the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al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epartment Support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Section Research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SLE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NECE-Eurostat Meeting on Population and Housing Censuses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 Genev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13-15 May 2008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The French paper (Working Paper 8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The Italian paper (Working Paper 9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F2E-CBAC-4DF1-A840-86015659B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97000"/>
            <a:ext cx="752472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376280"/>
            <a:ext cx="7524720" cy="49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ctivit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gular international meetings (e.g. UNSD, UNECE and Eurostat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ular contacts and visits between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N Recommendations and European regul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im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etter comparability over tim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etter comparability between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France and Italy both contribute to the aims in their own wa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F26-A001-42F7-BA35-BB7D684471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19280" y="225360"/>
            <a:ext cx="7524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French paper (Working Paper 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5640" y="1197000"/>
            <a:ext cx="748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idation of the census data in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olling census with advantages (e.g. no longer an enormous peak in the work load) and disadvantages (e.g. more complicated struc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Less attention for the resul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ference year? Assumption of stability of Census variables over time (research, e.g. based on EU-SILC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any checks to improve quality, but how large are the final overcount and undercou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Hot deck (within classes?) seems a logical choice for the imputation method, but what do we know about the selectivity of the non-respon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2AF-0A0E-4F45-B4D1-17BD17AB83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9280" y="225360"/>
            <a:ext cx="7524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Italian paper (Working Paper 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5640" y="1197000"/>
            <a:ext cx="748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overview of editing and imputation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the next Italian cens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rong link to methodology (department) at Ist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lemma of timeliness versus quality: automate the editing procedure, but what is the effect of the order of the imputations (check on outliers, not inliers, Winkler)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Interesting link with graph theory, but a picture is missing (Blaise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inimum change approach (Chernikova algorithm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Long / short form reduces number of possible don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rogress in quality: unique identifier (fiscal c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396-EC70-4AD9-922F-EE72A53DF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08-05-07T07:36:27Z</dcterms:modified>
  <cp:revision>322</cp:revision>
  <dc:subject/>
  <dc:title>Combined use of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9331173</vt:r8>
  </property>
  <property fmtid="{D5CDD505-2E9C-101B-9397-08002B2CF9AE}" pid="3" name="_AuthorEmail">
    <vt:lpwstr>ESLE@CBS.nl</vt:lpwstr>
  </property>
  <property fmtid="{D5CDD505-2E9C-101B-9397-08002B2CF9AE}" pid="4" name="_AuthorEmailDisplayName">
    <vt:lpwstr>Schulte Nordholt, drs E.</vt:lpwstr>
  </property>
  <property fmtid="{D5CDD505-2E9C-101B-9397-08002B2CF9AE}" pid="5" name="_EmailSubject">
    <vt:lpwstr>Meeting on censuses 13-15 May 2008</vt:lpwstr>
  </property>
</Properties>
</file>