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40BB-3268-4DB9-B681-1FBEB9232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74616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10CA-6E22-4E83-892D-25967B64F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29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88B6-402B-4CB9-898F-4153193F4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6765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3280" y="16765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7461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37461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3280" y="37461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4FC5-45E4-449F-BFCD-44425346F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C811-5DF0-4C0E-A951-AD15C09758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83809-363C-447B-8D5F-F463F54D96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DC2C-EBCA-4334-84B7-AB4D979920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02C6-9B63-4B4E-AF64-A6CC693148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27FF-1E67-449F-BDDD-0428C1CF8B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7E38-3EFC-450D-8517-E0B8FAA6C9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8A67-1EFA-46A7-A910-19CFC6078F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3094-4349-400B-BFC4-ADDCE8AB2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29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0847-FC1E-411F-97D3-D873B95923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374616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46E6-7592-4FBC-ADA0-CDC201083D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374616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ED95-4C17-4F21-901E-80B244AACD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29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C136-837A-4137-8261-4E6148662B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1200" y="16765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13280" y="16765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37461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1200" y="37461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13280" y="37461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F9F3B-70DE-48E7-9E11-481AE2AFC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E4E0-4854-4796-BC05-956E3CC88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7C9A-79B8-4BF2-A0BA-3FE16BA30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A317-A59A-4A1C-A7D7-30FF618D1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8576-219D-4147-8DE5-CE19B4A33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DA35-3A9A-489E-BBEB-61D71C8AC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29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58DA-FB3B-40F4-8B46-614E893BA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74616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CC56-594B-4C08-94E2-2B07B6DF3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BB18-7C60-46BB-A6A5-CC6E8DCE3A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3" descr="wordCyan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4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5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7" descr="census2010logo"/>
          <p:cNvPicPr/>
          <p:nvPr/>
        </p:nvPicPr>
        <p:blipFill>
          <a:blip r:embed="rId3"/>
          <a:srcRect l="0" t="7417" r="2131" b="3694"/>
          <a:stretch/>
        </p:blipFill>
        <p:spPr>
          <a:xfrm>
            <a:off x="8153280" y="6248520"/>
            <a:ext cx="8384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29" descr="wordCyan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30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31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091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8E31-125B-4736-A738-DB4A20FED7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2467-286A-48C6-851F-02D0EA19CD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Arial"/>
              </a:rPr>
              <a:t>Kathleen M. Styles</a:t>
            </a: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Arial"/>
              </a:rPr>
              <a:t>Assistant Division Chief for Content and Outreach</a:t>
            </a: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Arial"/>
              </a:rPr>
              <a:t>Decennial Management Division</a:t>
            </a: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Arial"/>
              </a:rPr>
              <a:t>United States Census Bureau</a:t>
            </a:r>
            <a:br>
              <a:rPr sz="1600"/>
            </a:br>
            <a:br>
              <a:rPr sz="1400"/>
            </a:br>
            <a:r>
              <a:rPr b="1" lang="en-US" sz="1000" spc="-1" strike="noStrike">
                <a:solidFill>
                  <a:srgbClr val="ffff99"/>
                </a:solidFill>
                <a:latin typeface="Arial"/>
                <a:ea typeface="Times New Roman"/>
              </a:rPr>
              <a:t>Prepared for the Joint United Nations Economic Council for Europe/Eurostat </a:t>
            </a:r>
            <a:br>
              <a:rPr sz="1000"/>
            </a:br>
            <a:r>
              <a:rPr b="1" lang="en-US" sz="1000" spc="-1" strike="noStrike">
                <a:solidFill>
                  <a:srgbClr val="ffff99"/>
                </a:solidFill>
                <a:latin typeface="Arial"/>
                <a:ea typeface="Times New Roman"/>
              </a:rPr>
              <a:t>Meeting on Population and Housing Censuses</a:t>
            </a:r>
            <a:br>
              <a:rPr sz="1000"/>
            </a:br>
            <a:r>
              <a:rPr b="1" lang="en-US" sz="1000" spc="-1" strike="noStrike">
                <a:solidFill>
                  <a:srgbClr val="ffff99"/>
                </a:solidFill>
                <a:latin typeface="Arial"/>
                <a:ea typeface="Times New Roman"/>
              </a:rPr>
              <a:t>Geneva, Switzerland, May 2008</a:t>
            </a:r>
            <a:endParaRPr b="1" lang="en-US" sz="1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09480" y="838080"/>
            <a:ext cx="760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The 2010 Censu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Enumerating the Hard to Count, including Migrant and Seasonal Farm Work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AE8A-5F86-46DE-B4A2-57043E2B77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80880" y="1371600"/>
            <a:ext cx="80010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cff"/>
                </a:solidFill>
                <a:latin typeface="Arial"/>
                <a:ea typeface="Times New Roman"/>
              </a:rPr>
              <a:t>Migrant and seasonal farm worker populations pose several census challenges, includ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7200" y="2286000"/>
            <a:ext cx="800100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Fear and Mistrust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99ccff"/>
                </a:solidFill>
                <a:latin typeface="Arial"/>
                <a:ea typeface="Times New Roman"/>
              </a:rPr>
              <a:t>  Many are recent immigrants and distrust governmental authoritie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Unconventional housing arrangements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99ccff"/>
                </a:solidFill>
                <a:latin typeface="Arial"/>
                <a:ea typeface="Times New Roman"/>
              </a:rPr>
              <a:t>  Many live in temporary, unconventional, or overcrowded dwelli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Language and literacy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99ccff"/>
                </a:solidFill>
                <a:latin typeface="Arial"/>
                <a:ea typeface="Times New Roman"/>
              </a:rPr>
              <a:t>  Many speak languages other than English and some are not fully litera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Mobility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99ccff"/>
                </a:solidFill>
                <a:latin typeface="Arial"/>
                <a:ea typeface="Times New Roman"/>
              </a:rPr>
              <a:t>  Migrant workers are, by their nature, mobile.</a:t>
            </a:r>
            <a:r>
              <a:rPr b="1" lang="en-US" sz="2200" spc="-1" strike="noStrike">
                <a:solidFill>
                  <a:srgbClr val="99ccff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522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Challenges of Measuring MSFW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2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25AB-B772-4899-87E1-A13A51A7B1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Reaching Hard to Count Populations Through The Language Program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1447920"/>
            <a:ext cx="81532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Inability to communicate in English is a barrier to enumeration in the censu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Growth of the linguistically isolated population (4.8% of all households in 2006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2010 Census Languag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4CEB-BA31-4890-94EE-9B214DEBF6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80880" y="228600"/>
            <a:ext cx="815364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Key Elements of Languag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Mailing of bilingual Spanish/English census for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Translation of questionnaire into five primary non-English languages: Spanish, Chinese, Korean, Vietnamese, Russi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Language guides in at least 50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Telephone assistance in 5 primary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6595-BD35-4536-8913-A0E9B1673D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Reaching Hard to Count Populations Through An 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Integrated Communications Program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905120"/>
            <a:ext cx="82296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Census 2000 expanded outreach campaign, including the use of paid med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Integrated communications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Advertising and public re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Segmentation resear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Local and national partnership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2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384C-5C1D-4E3F-B83D-24DFB45805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Reaching Hard to Count Populations Through Specialized Operat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04920" y="1676520"/>
            <a:ext cx="815328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Research about the po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Accurate census address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Address Canvassing the year before the census, using a HH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Diverse workfo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Be Counted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Service based enum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Enumeration of transitory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Tailored enumeration effo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2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5F77-F340-40B7-863B-694A89C9F1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Questions? 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Comments?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3:40Z</dcterms:created>
  <dc:creator>lowe0309</dc:creator>
  <dc:description/>
  <dc:language>en-US</dc:language>
  <cp:lastModifiedBy>Daniel Cork</cp:lastModifiedBy>
  <dcterms:modified xsi:type="dcterms:W3CDTF">2008-05-13T15:27:58Z</dcterms:modified>
  <cp:revision>230</cp:revision>
  <dc:subject/>
  <dc:title>PowerPoint Presentation</dc:title>
</cp:coreProperties>
</file>