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52E6-F84D-41D1-8CAA-300DFC2FF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74616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0AC0-A4EB-4232-824F-0006961D5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7461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2920" y="37461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2340-F72A-4D8E-A434-57AFA835E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200" y="16765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3280" y="16765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7461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200" y="37461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3280" y="37461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63B5-C29F-4405-8420-99FBCF0F6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5E60-A206-437A-BBC2-6838C5DC49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F037E-8EAF-4ED8-B582-05D50474C4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CB77-A529-4853-9AEB-E3C604A477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9C2B-4A96-4246-80A0-FA3544AD8C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7C81-30EF-4034-968F-46AA37E3CA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D5703-B24D-4B4D-9FE8-BDF0C11262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120" y="37461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2FEA-5C76-4D32-9EFD-CC42E8C93C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613B-20DD-4C09-A9FD-B9C3D71F9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2920" y="37461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51F3-D38C-4FA7-968A-63475EB770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374616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A19A-A9CC-4394-ABA0-8B1363BBFC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120" y="374616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88F9-B7B7-44D9-B221-823F89AAE6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37461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2920" y="37461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92C1-E944-4C15-8F73-218627D35C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1200" y="16765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13280" y="16765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120" y="37461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1200" y="37461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13280" y="37461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1195-7FCB-442D-8D44-06FCB82E30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4F4C-0047-482A-B611-84E7F64B8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E626-F8C5-41A0-BFB1-09DE61BB3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E0B9-5C9E-43D2-804C-0DAE0EB0C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46AA-1C65-431A-B91D-394BF073F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7461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BF9E-A8E9-4EEA-A558-207C1C837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2920" y="37461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7E5A-D0F9-4B32-8CBD-88E23C679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2920" y="16765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74616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194F-4F6B-4A9C-BB86-ED2756200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5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895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8906-BB00-4A99-85B1-489ACF2E25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3" descr="wordCyan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4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5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7" descr="census2010logo"/>
          <p:cNvPicPr/>
          <p:nvPr/>
        </p:nvPicPr>
        <p:blipFill>
          <a:blip r:embed="rId3"/>
          <a:srcRect l="0" t="7417" r="2131" b="3694"/>
          <a:stretch/>
        </p:blipFill>
        <p:spPr>
          <a:xfrm>
            <a:off x="8153280" y="6248520"/>
            <a:ext cx="8384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29" descr="wordCyan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30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31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09120" y="16765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F865-E17B-4645-B007-1F32A1A814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2895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897B-EA81-497C-9E34-2066846EC9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Arial"/>
              </a:rPr>
              <a:t>Kathleen M. Styles</a:t>
            </a:r>
            <a:br>
              <a:rPr sz="1600"/>
            </a:b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Arial"/>
              </a:rPr>
              <a:t>Assistant Division Chief for Content and Outreach</a:t>
            </a:r>
            <a:br>
              <a:rPr sz="1600"/>
            </a:b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Arial"/>
              </a:rPr>
              <a:t>Decennial Management Division</a:t>
            </a:r>
            <a:br>
              <a:rPr sz="1600"/>
            </a:br>
            <a:r>
              <a:rPr b="1" lang="en-US" sz="1600" spc="-1" strike="noStrike">
                <a:solidFill>
                  <a:srgbClr val="ccccff"/>
                </a:solidFill>
                <a:latin typeface="Arial"/>
                <a:ea typeface="Arial"/>
              </a:rPr>
              <a:t>United States Census Bureau</a:t>
            </a:r>
            <a:br>
              <a:rPr sz="1600"/>
            </a:br>
            <a:br>
              <a:rPr sz="1400"/>
            </a:br>
            <a:r>
              <a:rPr b="1" lang="en-US" sz="1000" spc="-1" strike="noStrike">
                <a:solidFill>
                  <a:srgbClr val="ffff99"/>
                </a:solidFill>
                <a:latin typeface="Arial"/>
                <a:ea typeface="Times New Roman"/>
              </a:rPr>
              <a:t>Prepared for the Joint United Nations Economic Council for Europe/Eurostat </a:t>
            </a:r>
            <a:br>
              <a:rPr sz="1000"/>
            </a:br>
            <a:r>
              <a:rPr b="1" lang="en-US" sz="1000" spc="-1" strike="noStrike">
                <a:solidFill>
                  <a:srgbClr val="ffff99"/>
                </a:solidFill>
                <a:latin typeface="Arial"/>
                <a:ea typeface="Times New Roman"/>
              </a:rPr>
              <a:t>Meeting on Population and Housing Censuses</a:t>
            </a:r>
            <a:br>
              <a:rPr sz="1000"/>
            </a:br>
            <a:r>
              <a:rPr b="1" lang="en-US" sz="1000" spc="-1" strike="noStrike">
                <a:solidFill>
                  <a:srgbClr val="ffff99"/>
                </a:solidFill>
                <a:latin typeface="Arial"/>
                <a:ea typeface="Times New Roman"/>
              </a:rPr>
              <a:t>Geneva, Switzerland, May 2008</a:t>
            </a:r>
            <a:endParaRPr b="1" lang="en-US" sz="1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09480" y="838080"/>
            <a:ext cx="760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The 2010 Censu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Enumerating the Hard to Count, including Migrant and Seasonal Farm Work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"/>
          <p:cNvSpPr/>
          <p:nvPr/>
        </p:nvSpPr>
        <p:spPr>
          <a:xfrm>
            <a:off x="2895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3997-8487-44B6-AD12-BD457B0D15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80880" y="1371600"/>
            <a:ext cx="80010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ccff"/>
                </a:solidFill>
                <a:latin typeface="Arial"/>
                <a:ea typeface="Times New Roman"/>
              </a:rPr>
              <a:t>Migrant and seasonal farm worker populations pose several census challenges, includin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7200" y="2286000"/>
            <a:ext cx="800100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Fear and Mistrust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99ccff"/>
                </a:solidFill>
                <a:latin typeface="Arial"/>
                <a:ea typeface="Times New Roman"/>
              </a:rPr>
              <a:t>  Many are recent immigrants and distrust governmental authorities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Unconventional housing arrangements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99ccff"/>
                </a:solidFill>
                <a:latin typeface="Arial"/>
                <a:ea typeface="Times New Roman"/>
              </a:rPr>
              <a:t>  Many live in temporary, unconventional, or overcrowded dwelli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Language and literacy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99ccff"/>
                </a:solidFill>
                <a:latin typeface="Arial"/>
                <a:ea typeface="Times New Roman"/>
              </a:rPr>
              <a:t>  Many speak languages other than English and some are not fully litera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Mobility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99ccff"/>
                </a:solidFill>
                <a:latin typeface="Arial"/>
                <a:ea typeface="Times New Roman"/>
              </a:rPr>
              <a:t>  Migrant workers are, by their nature, mobile.</a:t>
            </a:r>
            <a:r>
              <a:rPr b="1" lang="en-US" sz="2200" spc="-1" strike="noStrike">
                <a:solidFill>
                  <a:srgbClr val="99ccff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1522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Challenges of Measuring MSFW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2"/>
          <p:cNvSpPr/>
          <p:nvPr/>
        </p:nvSpPr>
        <p:spPr>
          <a:xfrm>
            <a:off x="2895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3DEA-6DE5-47B0-8708-51C9AF3CCE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Reaching Hard to Count Populations Through The Language Program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1447920"/>
            <a:ext cx="815328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Inability to communicate in English is a barrier to enumeration in the census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Growth of the linguistically isolated population (4.8% of all households in 2006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2010 Census Languag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2895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6701-E833-4AF2-B9C6-0EC86390F2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80880" y="228600"/>
            <a:ext cx="815364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Key Elements of Languag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Mailing of bilingual Spanish/English census for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Translation of questionnaire into five primary non-English languages: Spanish, Chinese, Korean, Vietnamese, Russi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Language guides in at least 50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Telephone assistance in 5 primary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2895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B5B3-4933-4A45-B961-A8517EC534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Reaching Hard to Count Populations Through An 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Integrated Communications Program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1905120"/>
            <a:ext cx="82296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Census 2000 expanded outreach campaign, including the use of paid med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Integrated communications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Advertising and public re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Segmentation resear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Local and national partnership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2"/>
          <p:cNvSpPr/>
          <p:nvPr/>
        </p:nvSpPr>
        <p:spPr>
          <a:xfrm>
            <a:off x="2895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E951-0247-4420-A210-1947F79FCA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Reaching Hard to Count Populations Through Specialized Operatio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04920" y="1676520"/>
            <a:ext cx="8153280" cy="55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Research about the po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Accurate census address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Address Canvassing the year before the census, using a HH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Diverse workfo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Be Counted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Service based enum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Enumeration of transitory l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  <a:ea typeface="Times New Roman"/>
              </a:rPr>
              <a:t>Tailored enumeration effo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2"/>
          <p:cNvSpPr/>
          <p:nvPr/>
        </p:nvSpPr>
        <p:spPr>
          <a:xfrm>
            <a:off x="2895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EDDC-2D2E-47DA-8C30-C0769A1195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Questions? 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Comments?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5:03:40Z</dcterms:created>
  <dc:creator>lowe0309</dc:creator>
  <dc:description/>
  <dc:language>en-US</dc:language>
  <cp:lastModifiedBy>Daniel Cork</cp:lastModifiedBy>
  <dcterms:modified xsi:type="dcterms:W3CDTF">2008-05-13T15:27:58Z</dcterms:modified>
  <cp:revision>230</cp:revision>
  <dc:subject/>
  <dc:title>PowerPoint Presentation</dc:title>
</cp:coreProperties>
</file>