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D09-EF7E-4579-A311-449977C4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1BE-B1FC-41BE-B55C-0656760C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C5D-771D-4AB1-A51B-05F172AC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F26-E476-4DAC-B9D2-E618BBC7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7A42-F38B-42DD-9EB9-438FE55D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B49B-4CD3-4538-9435-551D82AA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3BC0-4B3D-47BC-8B33-803A3911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296E-F6CC-48AC-8B81-0D31AEF3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F366-4E33-4C71-8458-00246F67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C268-DC80-41E6-895E-419B2232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E0E2-4DDF-4B38-8544-D4C88435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772-4475-4E88-A251-CD199747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1ED5-A20D-4BD8-8162-4DB87591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3164-6B15-4A70-BFDA-8BA9D63F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1949-1873-4620-9137-F272D722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8716-CEC5-4249-B495-BC066187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A156-C602-460F-BA0A-3837335A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B7D-7F5E-4793-85D7-71B2088C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0B6-27A7-4D05-B1C7-E92CC82E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CA1-F515-42CA-80D0-A93C49F3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26B-E789-4D50-96CE-3FC0C9B2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1DD-8275-48BF-93FD-38E4F799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378-ABD6-486E-A9DA-69A23BAC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AB79-C091-4FF0-8082-CD28DCBF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26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0" y="65163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866B-CB4B-45B1-AD6C-F1EA9230717C}" type="datetime">
              <a:rPr b="0" lang="en-GB" sz="10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8840" y="6516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6505560"/>
            <a:ext cx="469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B34B-4F00-417A-819F-FE06218856EA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23852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76AB-2E5D-4E59-AB54-F95A33768831}" type="datetime">
              <a:rPr b="0" lang="en-GB" sz="10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4267080" y="6477120"/>
            <a:ext cx="2819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F7AF-79BD-4AD2-B1E5-5D7750AF4059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53416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E38F-9CF7-4878-B679-E278DBEDAD08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algn="ctr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buClr>
                <a:srgbClr val="003399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ald.utne@ssb.no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Topics difficult to measure in a register-based censu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414936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rald Ut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su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stics 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c0000"/>
                </a:solidFill>
                <a:uFillTx/>
                <a:latin typeface="Arial"/>
                <a:hlinkClick r:id="rId1"/>
              </a:rPr>
              <a:t>harald.utne@ssb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UNECE-Eurostat Meeting on Population and Housing Censuses 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in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13-15 Ma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1CD1-054B-4DA0-A111-8448C7275F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lace of usual residence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f twelve month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wegian CPR: Six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ountries: Different rules, no such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s’ address or place of study (Norway: Voluntari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egal immi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-cove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moving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incentives to de-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-cove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old-ag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s not de-registered will never 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1EBB-2EB2-4B2D-AB02-327FE27DF5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emographic, family and household characteristic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welling household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of CPR and dwelling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way: No household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ousekeeping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 between household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: Spouses and children – parents (missing for older pers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d links: Siblings, children – grandparents (also mis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abitating cou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 based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x, common children, kinship, age difference, date of moving into dw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A16-0736-485D-BD5D-DE036A536E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igration and ethno-cultural characteristic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 resided abroad, year of arr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ver-eve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of birth according to existing 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ive dimension, normally not reco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s based on availabl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 background, ethnical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,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national regist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B06-E098-429F-85B5-E6F123855A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conomic characteristic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ctivity status: Use of multipl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urces may not have duration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LFS for benchmarking or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in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workers difficult to ide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, location of place of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 local kind of activity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s working ab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dic countries: Data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mployed never worked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identify jobs for those who have been working long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s not currently 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: Enrolled vs. a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makers: Estim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31E-AE5A-456E-837E-D283121F00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ducational characteristic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taken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ing for new administrativ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ement by statistical surve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A4C4-CE53-4AAC-A895-FCD5838169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Housing topic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R: Most people registered in conventional dwel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registered homeless, not de fac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registered a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living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ly information on conventional dwel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ants according to CPR (leg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distinguish between dwel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rved for seasonal or secondary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welling occupied by students may be classified as “vacant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0B1-C954-4257-8CED-CEE4115C54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Housing topics (cont.)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 on housin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 buildings: Information may be mi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ing depending on administrativ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way: Floor space updated, problems with number of r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ity, piped ga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specialized regis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F23-FB8E-4FE5-BC0A-EB5437B1D6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ics difficult to measure using register-bas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set-up of national regist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olve th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may also depend on national circum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ing for new administrative 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ample surveys for benchmarking, imputation,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roblems in common: Cooperation betwe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dat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4950-955E-4F68-A45E-EF7B677249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egister-based censuses - common problems? 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 difficult to measure depen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age and quality of administrative data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ilities to link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betwe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ly on Norwegian experien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ther Nordic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other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pres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information difficult to obtain from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pics are difficult to measur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roblems for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EFD-C557-4A59-A08A-1CF876C7B4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ypes of information difficult to obtain from register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21654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recently established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f minor importance for administrative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ver-eve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events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n topics not relevant for administrative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C51-48A2-49F0-8AE0-438ED39740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Data from recently established register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elapsing from registers are established till good quality data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between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betwe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way: Labour marke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 on employees: 19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egisters available: 1988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census: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way: Dwelling regi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ed in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ing and household topics most difficult in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3BC-1C23-4F47-BDC9-29EBBAA5DD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ata of minor importance for administrative purpose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21654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wegian register on dwellings and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 mandatory to update: low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wate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opics: coverage more than 90 per 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wegian register on wage s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identify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ion on employment not important for tax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recorded even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786C-B98E-4881-897A-B34B51C693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never-ever proble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data describing the situation before the register wa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 resided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d abroad after 19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mployed persons never 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mployed after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CF8-0B4E-4D07-BF42-CF3C841A9E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Data from events abroad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ly a problem for immi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not recorded at the time of im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taken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marit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A8F-6887-43E8-97A4-AF1F658F6A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ata on topics not relevant for administrative registration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22366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 on emotional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eneral cohabitation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corded if relevant for administrative purpose (taxation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 on behavior or 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of transport to work/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energy uses for 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6CE-4AFC-45B7-82C9-E8F4E5C318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opulation to be enumerated and geographical characteristic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of usual res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registers: Legal resid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 also for household and housing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ve rules and practices do not fully comply with census 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ing population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F1E-5521-49E4-8290-F09EE3F0F7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7:36:44Z</dcterms:created>
  <dc:creator>Espen Andersen</dc:creator>
  <dc:description/>
  <cp:keywords/>
  <dc:language>en-US</dc:language>
  <cp:lastModifiedBy>Harald Utne</cp:lastModifiedBy>
  <cp:lastPrinted>1999-08-31T12:20:00Z</cp:lastPrinted>
  <dcterms:modified xsi:type="dcterms:W3CDTF">2008-05-09T14:51:03Z</dcterms:modified>
  <cp:revision>38</cp:revision>
  <dc:subject/>
  <dc:title>The first register-based Census in Norway in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