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9E4-DAA7-455C-957D-7D70365F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0E3-5E15-4B5C-A121-5BFED098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26D-816C-4C9A-B583-68A59CC3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378-9F91-4C78-BA09-CA9AAD5D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B6B7-3C69-4C00-B30D-32AA949B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E20A-49F9-4375-BF51-0581962F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A4E4-CF0B-4120-B523-457C3484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B157-538F-48ED-9601-C12B7AEB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F83F-317D-4D32-B02A-EAB7BDD9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52E4-82C7-4265-8CB4-E82036EE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04C0-84CB-4A5E-BB57-808E54F9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BDF-8330-49B0-8F68-E01FCD8F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1950-51E4-4A10-A7F2-9A953653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2B35-CF61-40DA-84AD-F0DC88A3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CCED-B8F2-4DAA-9BDD-EA2174CE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3588-E1EE-4441-AD3A-F6CD7B60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7ECE-B639-4F9B-BD28-A7D54BD1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BEDE-8367-4BBC-A737-CFAB478F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88B-5D75-4F4A-99DC-FE887753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255-1F08-43AA-9500-5E145603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760-8C7E-4C2E-84CF-5865FE49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879-3501-4643-B6BA-34B808F2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45F-2565-45C1-8D76-48DE35F8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D8F-A861-42A7-B49D-5C510E40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26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0" y="65163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AE83-9A00-4CEF-BCED-1395AEF3B9F2}" type="datetime">
              <a:rPr b="0" lang="en-GB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8840" y="6516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6505560"/>
            <a:ext cx="469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FB71-5272-4B3E-BDC7-79FC8760F8E9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23852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B96C-896B-43C1-85D1-DA22F5E8465C}" type="datetime">
              <a:rPr b="0" lang="en-GB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4267080" y="6477120"/>
            <a:ext cx="2819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6029-F7E9-4233-953A-DE105B3C7C39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53416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C97D-C5F1-45C8-B844-B45F9BD614C7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algn="ctr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buClr>
                <a:srgbClr val="003399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ald.utne@ssb.no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Topics difficult to measure in a register-based censu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414936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rald Ut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su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stics 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c0000"/>
                </a:solidFill>
                <a:uFillTx/>
                <a:latin typeface="Arial"/>
                <a:hlinkClick r:id="rId1"/>
              </a:rPr>
              <a:t>harald.utne@ssb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UNECE-Eurostat Meeting on Population and Housing Censuses 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in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13-15 Ma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D372-0CDD-41A0-9A02-7FE8858D2A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lace of usual residence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f twelve month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wegian CPR: Six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ountries: Different rules, no such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s’ address or place of study (Norway: Voluntari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egal immi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-cove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moving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incentives to de-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-cove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old-ag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s not de-registered will never 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25B-334F-4991-990B-4B27EF6A56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emographic, family and household characteristic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welling household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of CPR and dwelling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way: No household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ousekeeping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 between household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: Spouses and children – parents (missing for older pers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d links: Siblings, children – grandparents (also mis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abitating cou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 based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x, common children, kinship, age difference, date of moving into dw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25D-A386-47AC-B757-F98BCFCB55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igration and ethno-cultural characteristic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 resided abroad, year of arr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ver-eve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of birth according to existing 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ive dimension, normally not reco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s based on availabl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 background, ethnical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,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national regist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266-D00B-40D5-8B2D-1116690B35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conomic characteristic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ctivity status: Use of multipl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urces may not have duration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LFS for benchmarking or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in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workers difficult to ide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, location of place of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 local kind of activity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s working ab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dic countries: Data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mployed never worked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identify jobs for those who have been working long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s not currently 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: Enrolled vs. a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makers: Estim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F347-3C11-4D79-AE92-67D7432AA6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ducational characteristic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taken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ing for new administrativ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ement by statistical surve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6C62-0046-4297-B08D-9C6F1D0B8D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Housing topic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R: Most people registered in conventional dwel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registered homeless, not de fac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registered a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living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ly information on conventional dwel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ants according to CPR (leg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distinguish between dwel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rved for seasonal or secondary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welling occupied by students may be classified as “vacant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BF6-BDBE-4D60-B86F-1A4E4DF189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Housing topics (cont.)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 on housin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 buildings: Information may be mi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ing depending on administrativ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way: Floor space updated, problems with number of r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ity, piped ga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specialized regis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8F8-C4F0-42B9-9E1D-7B7CF03058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ics difficult to measure using register-bas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set-up of national regist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olve th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may also depend on national circum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ing for new administrative 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ample surveys for benchmarking, imputation,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roblems in common: Cooperation betwe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dat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B7B-B799-4485-9EBF-7AD29647E9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egister-based censuses - common problems? 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 difficult to measure depen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age and quality of administrative data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ilities to link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betwe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ly on Norwegian experien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ther Nordic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other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pres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information difficult to obtain from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pics are difficult to measur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roblems for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48B-6400-4CB8-83CC-A52DE34BBB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ypes of information difficult to obtain from register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21654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recently established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f minor importance for administrative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ver-eve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events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n topics not relevant for administrative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6CA-F7B9-4E84-866D-1C38298981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Data from recently established register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elapsing from registers are established till good quality data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between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betwe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way: Labour marke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 on employees: 19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egisters available: 198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census: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way: Dwelling regi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ed in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ing and household topics most difficult in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93C-1C97-4273-BA63-4DBD39F407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ata of minor importance for administrative purpose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21654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wegian register on dwellings and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 mandatory to update: low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wate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opics: coverage more than 90 per 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wegian register on wage s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identify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ion on employment not important for tax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recorded even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37B-82EF-4D52-93FB-9560449D78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never-ever proble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data describing the situation before the register wa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 resided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d abroad after 19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mployed persons never 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mployed after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C885-15D9-4165-BC24-8951FE518C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Data from events abroad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ly a problem for immi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not recorded at the time of im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taken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marit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BC6-94F4-4E1C-A04F-E6F2E26177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ata on topics not relevant for administrative registration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22366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 on emotional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eneral cohabitation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corded if relevant for administrative purpose (taxation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 on behavior or 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of transport to work/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energy uses for 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F4C-3C77-4EA5-8D53-4862046F65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opulation to be enumerated and geographical characteristic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of usual res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registers: Legal resid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 also for household and housing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ve rules and practices do not fully comply with census 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ing population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71E-1917-4CF1-B799-835EE2BBDB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7:36:44Z</dcterms:created>
  <dc:creator>Espen Andersen</dc:creator>
  <dc:description/>
  <cp:keywords/>
  <dc:language>en-US</dc:language>
  <cp:lastModifiedBy>Harald Utne</cp:lastModifiedBy>
  <cp:lastPrinted>1999-08-31T12:20:00Z</cp:lastPrinted>
  <dcterms:modified xsi:type="dcterms:W3CDTF">2008-05-09T14:51:03Z</dcterms:modified>
  <cp:revision>38</cp:revision>
  <dc:subject/>
  <dc:title>The first register-based Census in Norway in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