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641-910E-4410-985B-BD6C5B2C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659-6D62-4E13-B497-1B0D7313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641-2E6C-408F-B91C-3F8424EB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CC8-B835-4FB9-8B0C-A55DAC43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02F-E5F8-4981-97BC-A1B541F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497-87C1-4375-8C41-69BB148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3FD-EF97-4B6A-916A-C5836D2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1EA-80BB-4840-B754-F4ECB67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A86-3EBC-4419-A65A-C0489FDB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0B7-2867-48EF-A6AF-762AA75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A29-44BE-4D85-96C6-44C600A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891-9DC9-41D6-9517-6D5BC942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B99-D292-4122-B264-96FA3AC46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93080" y="115920"/>
            <a:ext cx="1890720" cy="1800000"/>
            <a:chOff x="7093080" y="115920"/>
            <a:chExt cx="1890720" cy="1800000"/>
          </a:xfrm>
        </p:grpSpPr>
        <p:sp>
          <p:nvSpPr>
            <p:cNvPr id="42" name=""/>
            <p:cNvSpPr/>
            <p:nvPr/>
          </p:nvSpPr>
          <p:spPr>
            <a:xfrm>
              <a:off x="7093080" y="135360"/>
              <a:ext cx="1873080" cy="178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11" descr=""/>
            <p:cNvPicPr/>
            <p:nvPr/>
          </p:nvPicPr>
          <p:blipFill>
            <a:blip r:embed="rId1"/>
            <a:srcRect l="8548" t="8201" r="5849" b="10504"/>
            <a:stretch/>
          </p:blipFill>
          <p:spPr>
            <a:xfrm>
              <a:off x="7110360" y="115920"/>
              <a:ext cx="1873440" cy="170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0" y="2033640"/>
            <a:ext cx="91440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CENSUS ORGANIZ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OF DIFFICULT-TO-MEASURE</a:t>
            </a:r>
            <a:r>
              <a:rPr b="1" lang="ru-RU" sz="41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447"/>
                </a:solidFill>
                <a:latin typeface="Tahoma"/>
              </a:rPr>
              <a:t>POPULATION GROUP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5373720"/>
            <a:ext cx="89773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8447"/>
                </a:solidFill>
                <a:latin typeface="Tahoma"/>
              </a:rPr>
              <a:t>Irina Zbarskaya</a:t>
            </a:r>
            <a:r>
              <a:rPr b="1" i="1" lang="ru-RU" sz="35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447"/>
                </a:solidFill>
                <a:latin typeface="Tahoma"/>
              </a:rPr>
              <a:t>Federal State Statistics Service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382800" y="281160"/>
            <a:ext cx="1529280" cy="1527840"/>
            <a:chOff x="6382800" y="281160"/>
            <a:chExt cx="1529280" cy="1527840"/>
          </a:xfrm>
        </p:grpSpPr>
        <p:sp>
          <p:nvSpPr>
            <p:cNvPr id="47" name=""/>
            <p:cNvSpPr/>
            <p:nvPr/>
          </p:nvSpPr>
          <p:spPr>
            <a:xfrm rot="3223200">
              <a:off x="7012080" y="625680"/>
              <a:ext cx="507960" cy="1229040"/>
            </a:xfrm>
            <a:prstGeom prst="rightArrow">
              <a:avLst>
                <a:gd name="adj1" fmla="val 54444"/>
                <a:gd name="adj2" fmla="val 69120"/>
              </a:avLst>
            </a:prstGeom>
            <a:gradFill rotWithShape="0">
              <a:gsLst>
                <a:gs pos="0">
                  <a:srgbClr val="d9b3ff"/>
                </a:gs>
                <a:gs pos="100000">
                  <a:srgbClr val="645275"/>
                </a:gs>
              </a:gsLst>
              <a:lin ang="33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3223200">
              <a:off x="6630120" y="363240"/>
              <a:ext cx="692280" cy="964080"/>
            </a:xfrm>
            <a:prstGeom prst="ellipse">
              <a:avLst/>
            </a:prstGeom>
            <a:solidFill>
              <a:srgbClr val="000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184400" y="268560"/>
            <a:ext cx="1517400" cy="1515960"/>
            <a:chOff x="1184400" y="268560"/>
            <a:chExt cx="1517400" cy="1515960"/>
          </a:xfrm>
        </p:grpSpPr>
        <p:sp>
          <p:nvSpPr>
            <p:cNvPr id="50" name=""/>
            <p:cNvSpPr/>
            <p:nvPr/>
          </p:nvSpPr>
          <p:spPr>
            <a:xfrm rot="7422000">
              <a:off x="1582560" y="617400"/>
              <a:ext cx="508320" cy="1229040"/>
            </a:xfrm>
            <a:prstGeom prst="rightArrow">
              <a:avLst>
                <a:gd name="adj1" fmla="val 54444"/>
                <a:gd name="adj2" fmla="val 69120"/>
              </a:avLst>
            </a:prstGeom>
            <a:gradFill rotWithShape="0">
              <a:gsLst>
                <a:gs pos="0">
                  <a:srgbClr val="d9b3ff"/>
                </a:gs>
                <a:gs pos="100000">
                  <a:srgbClr val="645275"/>
                </a:gs>
              </a:gsLst>
              <a:lin ang="33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422000">
              <a:off x="1762200" y="342000"/>
              <a:ext cx="692640" cy="964080"/>
            </a:xfrm>
            <a:prstGeom prst="ellipse">
              <a:avLst/>
            </a:prstGeom>
            <a:solidFill>
              <a:srgbClr val="000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943280" y="549360"/>
            <a:ext cx="5184720" cy="431640"/>
          </a:xfrm>
          <a:prstGeom prst="roundRect">
            <a:avLst>
              <a:gd name="adj" fmla="val 40440"/>
            </a:avLst>
          </a:prstGeom>
          <a:solidFill>
            <a:srgbClr val="000068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6360" y="6224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DIFFICULT-TO-MEASURE POPULATION GROUPS</a:t>
            </a:r>
            <a:r>
              <a:rPr b="0" lang="ru-RU" sz="16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800360"/>
            <a:ext cx="2737080" cy="14191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mmigrants not hav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ermission to enter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4829040"/>
            <a:ext cx="2737080" cy="1295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ersons not having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any definite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living  pl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(homeles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2760" y="1773360"/>
            <a:ext cx="2665440" cy="14382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Rich families liv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n guarded hou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3287880"/>
            <a:ext cx="2737080" cy="14270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mmigrants hav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ermission to enter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but not official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registe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4278240" y="734760"/>
            <a:ext cx="432000" cy="1358640"/>
          </a:xfrm>
          <a:prstGeom prst="rightArrow">
            <a:avLst>
              <a:gd name="adj1" fmla="val 62556"/>
              <a:gd name="adj2" fmla="val 75486"/>
            </a:avLst>
          </a:prstGeom>
          <a:gradFill rotWithShape="0">
            <a:gsLst>
              <a:gs pos="0">
                <a:srgbClr val="d9b3ff"/>
              </a:gs>
              <a:gs pos="100000">
                <a:srgbClr val="645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1840" y="3232080"/>
            <a:ext cx="2665440" cy="1295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tudents  renting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dwellings  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laces of edu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1773360"/>
            <a:ext cx="2754360" cy="14382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Members of crews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of Russian trade 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assenger shi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940360" y="1782720"/>
            <a:ext cx="2378160" cy="1079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zation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umeration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763640"/>
            <a:ext cx="2378160" cy="1081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dentify the loc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f gath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5760" y="1782720"/>
            <a:ext cx="2441520" cy="10778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sure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afety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405320" y="463320"/>
            <a:ext cx="431640" cy="206064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864440" y="394200"/>
            <a:ext cx="431640" cy="216072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3371760"/>
            <a:ext cx="5759280" cy="79236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ssistance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of  Ministry of the Interior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ederal Migr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rvice and local auth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20640"/>
            <a:ext cx="727236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cap="rnd" w="190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MMIGRANTS AND HOM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6938640" y="414000"/>
            <a:ext cx="431640" cy="215892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181320" y="2047680"/>
            <a:ext cx="431640" cy="206064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773680" y="2043000"/>
            <a:ext cx="431640" cy="206064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2880" y="5052960"/>
            <a:ext cx="2235240" cy="1081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dentification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well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fficult-to-access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6840" y="5145120"/>
            <a:ext cx="2232000" cy="9367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ood interrel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th securit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163160" y="3571560"/>
            <a:ext cx="2521080" cy="137484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RICH FAMILIES</a:t>
            </a:r>
            <a:r>
              <a:rPr b="0" lang="ru-RU" sz="1800" spc="-1" strike="noStrike">
                <a:solidFill>
                  <a:srgbClr val="e99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LIVING IN GU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HO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6752400">
            <a:off x="1436400" y="4233960"/>
            <a:ext cx="431640" cy="133020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405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4051200">
            <a:off x="2934360" y="4227840"/>
            <a:ext cx="431640" cy="13827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675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08240" y="2060640"/>
            <a:ext cx="2232000" cy="1054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blicit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2215080" y="2621520"/>
            <a:ext cx="432000" cy="13827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162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1866960"/>
            <a:ext cx="2622600" cy="13460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zation of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umeration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t educ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stablish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5486040" y="227880"/>
            <a:ext cx="3048120" cy="14461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STUDENT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RENTING DW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AT PLAC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6628800">
            <a:off x="5882040" y="835920"/>
            <a:ext cx="432000" cy="15825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417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4201800">
            <a:off x="7634160" y="784080"/>
            <a:ext cx="431640" cy="172080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66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1897200"/>
            <a:ext cx="1838520" cy="1054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blicit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92720" y="2708280"/>
            <a:ext cx="2735280" cy="254016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gle members of crews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gistered at the 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 the organization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they work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e enumerated there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fore the ship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ave  th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2637000"/>
            <a:ext cx="2406600" cy="2663640"/>
          </a:xfrm>
          <a:custGeom>
            <a:avLst/>
            <a:gdLst>
              <a:gd name="textAreaLeft" fmla="*/ 67320 w 2406600"/>
              <a:gd name="textAreaRight" fmla="*/ 2339280 w 2406600"/>
              <a:gd name="textAreaTop" fmla="*/ 67320 h 2663640"/>
              <a:gd name="textAreaBottom" fmla="*/ 2596320 h 2663640"/>
            </a:gdLst>
            <a:ahLst/>
            <a:rect l="textAreaLeft" t="textAreaTop" r="textAreaRight" b="textAreaBottom"/>
            <a:pathLst>
              <a:path w="21600" h="23907">
                <a:moveTo>
                  <a:pt x="2072" y="0"/>
                </a:moveTo>
                <a:arcTo wR="2072" hR="2072" stAng="16200000" swAng="-5400000"/>
                <a:lnTo>
                  <a:pt x="0" y="21835"/>
                </a:lnTo>
                <a:arcTo wR="2072" hR="2072" stAng="10800000" swAng="-5400000"/>
                <a:lnTo>
                  <a:pt x="19528" y="23907"/>
                </a:lnTo>
                <a:arcTo wR="2072" hR="2072" stAng="5400000" swAng="-5400000"/>
                <a:lnTo>
                  <a:pt x="21600" y="2072"/>
                </a:lnTo>
                <a:arcTo wR="2072" hR="2072" stAng="0" swAng="-5400000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embers of crews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iving at households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um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uring censu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t the household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manent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s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2743200" y="980640"/>
            <a:ext cx="3657600" cy="165600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MEMBERS OF CR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OF RUSSIAN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AND PASSENGER </a:t>
            </a:r>
            <a:r>
              <a:rPr b="0" lang="ru-RU" sz="1800" spc="-1" strike="noStrike">
                <a:solidFill>
                  <a:srgbClr val="e99c2b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Tahoma"/>
              </a:rPr>
              <a:t>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281600">
            <a:off x="5365080" y="1550880"/>
            <a:ext cx="432000" cy="201276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6516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6552600">
            <a:off x="3309840" y="1576080"/>
            <a:ext cx="431640" cy="1943280"/>
          </a:xfrm>
          <a:prstGeom prst="rightArrow">
            <a:avLst>
              <a:gd name="adj1" fmla="val 83278"/>
              <a:gd name="adj2" fmla="val 84560"/>
            </a:avLst>
          </a:prstGeom>
          <a:gradFill rotWithShape="0">
            <a:gsLst>
              <a:gs pos="0">
                <a:srgbClr val="d9b3ff"/>
              </a:gs>
              <a:gs pos="100000">
                <a:srgbClr val="3333cc"/>
              </a:gs>
            </a:gsLst>
            <a:lin ang="4248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13120" y="2755800"/>
            <a:ext cx="5184720" cy="57492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ist to difficult-to-access regions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260280"/>
            <a:ext cx="5256360" cy="57492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CENSUS</a:t>
            </a:r>
            <a:r>
              <a:rPr b="1" lang="ru-RU" sz="16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IN DIFFICULT-TO-ACCESS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8080" y="4038480"/>
            <a:ext cx="5184720" cy="86364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ordination with local authorities of  constitu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ntities of Russia, approval of the Gover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f the Russian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9079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0960" y="34099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19240" y="1522440"/>
            <a:ext cx="5184720" cy="57456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dentification of criteria to refer reg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 difficult-to-access 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21319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7800" y="5572080"/>
            <a:ext cx="5184720" cy="863640"/>
          </a:xfrm>
          <a:prstGeom prst="roundRect">
            <a:avLst>
              <a:gd name="adj" fmla="val 40440"/>
            </a:avLst>
          </a:prstGeom>
          <a:gradFill rotWithShape="0">
            <a:gsLst>
              <a:gs pos="0">
                <a:srgbClr val="2b2bab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termination of the sched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d means to send documen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d personnel to difficult-to-access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90960" y="4943520"/>
            <a:ext cx="1224000" cy="576360"/>
          </a:xfrm>
          <a:prstGeom prst="downArrow">
            <a:avLst>
              <a:gd name="adj1" fmla="val 64722"/>
              <a:gd name="adj2" fmla="val 53995"/>
            </a:avLst>
          </a:prstGeom>
          <a:gradFill rotWithShape="0">
            <a:gsLst>
              <a:gs pos="0">
                <a:srgbClr val="00005c"/>
              </a:gs>
              <a:gs pos="100000">
                <a:srgbClr val="00e6a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42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9c2b"/>
                </a:solidFill>
                <a:latin typeface="Tahoma"/>
              </a:rPr>
              <a:t>Thanks for your attention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38:39Z</dcterms:created>
  <dc:creator>User</dc:creator>
  <dc:description/>
  <dc:language>en-US</dc:language>
  <cp:lastModifiedBy>Nata</cp:lastModifiedBy>
  <dcterms:modified xsi:type="dcterms:W3CDTF">2008-05-07T11:39:52Z</dcterms:modified>
  <cp:revision>59</cp:revision>
  <dc:subject/>
  <dc:title>Презентация PowerPoint</dc:title>
</cp:coreProperties>
</file>