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1B8-ED01-44F5-AE59-F5990B8E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5EE-3C03-41A8-B171-42B4C03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64F-0896-4397-BDDF-A5DCB91F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F9C-EBB7-48D7-BE54-DF0FED87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63D-3909-43C1-A014-7EC8F99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2AF-D795-41A4-B9E6-21B573E6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7AF-4B3B-4AAE-AECB-D74BA32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43C-2865-4825-A78C-8308E138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F72-2505-4EE7-B850-FE3BF046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CCE-0922-4091-8660-C4B6179F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5A5-329A-4EC2-8799-3FC47B2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B79-18DC-473C-A500-589AAAC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9C67-EBB8-4207-AEAD-12A7FF053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93080" y="115920"/>
            <a:ext cx="1890720" cy="1800000"/>
            <a:chOff x="7093080" y="115920"/>
            <a:chExt cx="1890720" cy="1800000"/>
          </a:xfrm>
        </p:grpSpPr>
        <p:sp>
          <p:nvSpPr>
            <p:cNvPr id="42" name=""/>
            <p:cNvSpPr/>
            <p:nvPr/>
          </p:nvSpPr>
          <p:spPr>
            <a:xfrm>
              <a:off x="7093080" y="135360"/>
              <a:ext cx="1873080" cy="178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11" descr=""/>
            <p:cNvPicPr/>
            <p:nvPr/>
          </p:nvPicPr>
          <p:blipFill>
            <a:blip r:embed="rId1"/>
            <a:srcRect l="8548" t="8201" r="5849" b="10504"/>
            <a:stretch/>
          </p:blipFill>
          <p:spPr>
            <a:xfrm>
              <a:off x="7110360" y="115920"/>
              <a:ext cx="1873440" cy="170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0" y="2033640"/>
            <a:ext cx="9144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CENSUS ORGANIZ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OF DIFFICULT-TO-MEASURE</a:t>
            </a:r>
            <a:r>
              <a:rPr b="1" lang="ru-RU" sz="41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POPULATION GROUP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5373720"/>
            <a:ext cx="89773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8447"/>
                </a:solidFill>
                <a:latin typeface="Tahoma"/>
              </a:rPr>
              <a:t>Irina Zbarskaya</a:t>
            </a:r>
            <a:r>
              <a:rPr b="1" i="1" lang="ru-RU" sz="35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447"/>
                </a:solidFill>
                <a:latin typeface="Tahoma"/>
              </a:rPr>
              <a:t>Federal State Statistics Service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382800" y="281160"/>
            <a:ext cx="1529280" cy="1527840"/>
            <a:chOff x="6382800" y="281160"/>
            <a:chExt cx="1529280" cy="1527840"/>
          </a:xfrm>
        </p:grpSpPr>
        <p:sp>
          <p:nvSpPr>
            <p:cNvPr id="47" name=""/>
            <p:cNvSpPr/>
            <p:nvPr/>
          </p:nvSpPr>
          <p:spPr>
            <a:xfrm rot="3223200">
              <a:off x="7012080" y="625680"/>
              <a:ext cx="507960" cy="1229040"/>
            </a:xfrm>
            <a:prstGeom prst="rightArrow">
              <a:avLst>
                <a:gd name="adj1" fmla="val 54444"/>
                <a:gd name="adj2" fmla="val 69120"/>
              </a:avLst>
            </a:prstGeom>
            <a:gradFill rotWithShape="0">
              <a:gsLst>
                <a:gs pos="0">
                  <a:srgbClr val="d9b3ff"/>
                </a:gs>
                <a:gs pos="100000">
                  <a:srgbClr val="645275"/>
                </a:gs>
              </a:gsLst>
              <a:lin ang="33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3223200">
              <a:off x="6630120" y="363240"/>
              <a:ext cx="692280" cy="964080"/>
            </a:xfrm>
            <a:prstGeom prst="ellipse">
              <a:avLst/>
            </a:prstGeom>
            <a:solidFill>
              <a:srgbClr val="000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184400" y="268560"/>
            <a:ext cx="1517400" cy="1515960"/>
            <a:chOff x="1184400" y="268560"/>
            <a:chExt cx="1517400" cy="1515960"/>
          </a:xfrm>
        </p:grpSpPr>
        <p:sp>
          <p:nvSpPr>
            <p:cNvPr id="50" name=""/>
            <p:cNvSpPr/>
            <p:nvPr/>
          </p:nvSpPr>
          <p:spPr>
            <a:xfrm rot="7422000">
              <a:off x="1582560" y="617400"/>
              <a:ext cx="508320" cy="1229040"/>
            </a:xfrm>
            <a:prstGeom prst="rightArrow">
              <a:avLst>
                <a:gd name="adj1" fmla="val 54444"/>
                <a:gd name="adj2" fmla="val 69120"/>
              </a:avLst>
            </a:prstGeom>
            <a:gradFill rotWithShape="0">
              <a:gsLst>
                <a:gs pos="0">
                  <a:srgbClr val="d9b3ff"/>
                </a:gs>
                <a:gs pos="100000">
                  <a:srgbClr val="645275"/>
                </a:gs>
              </a:gsLst>
              <a:lin ang="33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422000">
              <a:off x="1762200" y="342000"/>
              <a:ext cx="692640" cy="964080"/>
            </a:xfrm>
            <a:prstGeom prst="ellipse">
              <a:avLst/>
            </a:prstGeom>
            <a:solidFill>
              <a:srgbClr val="000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943280" y="549360"/>
            <a:ext cx="5184720" cy="431640"/>
          </a:xfrm>
          <a:prstGeom prst="roundRect">
            <a:avLst>
              <a:gd name="adj" fmla="val 40440"/>
            </a:avLst>
          </a:prstGeom>
          <a:solidFill>
            <a:srgbClr val="000068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6360" y="6224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DIFFICULT-TO-MEASURE POPULATION GROUPS</a:t>
            </a:r>
            <a:r>
              <a:rPr b="0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800360"/>
            <a:ext cx="2737080" cy="14191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mmigrants not hav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ermission to enter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829040"/>
            <a:ext cx="2737080" cy="1295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ersons not having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any definite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living  pl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(homeles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2760" y="1773360"/>
            <a:ext cx="2665440" cy="14382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Rich families liv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n guarded hou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3287880"/>
            <a:ext cx="2737080" cy="14270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mmigrants hav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ermission to enter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but not official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registe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278240" y="734760"/>
            <a:ext cx="432000" cy="1358640"/>
          </a:xfrm>
          <a:prstGeom prst="rightArrow">
            <a:avLst>
              <a:gd name="adj1" fmla="val 62556"/>
              <a:gd name="adj2" fmla="val 75486"/>
            </a:avLst>
          </a:prstGeom>
          <a:gradFill rotWithShape="0">
            <a:gsLst>
              <a:gs pos="0">
                <a:srgbClr val="d9b3ff"/>
              </a:gs>
              <a:gs pos="100000">
                <a:srgbClr val="645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1840" y="3232080"/>
            <a:ext cx="2665440" cy="1295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tudents  renting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dwellings  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laces of edu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1773360"/>
            <a:ext cx="2754360" cy="14382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Members of crews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of Russian trade 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assenger shi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940360" y="1782720"/>
            <a:ext cx="2378160" cy="1079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zation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eration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763640"/>
            <a:ext cx="2378160" cy="1081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dentify the loc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f gat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5760" y="1782720"/>
            <a:ext cx="2441520" cy="10778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sure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afety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405320" y="463320"/>
            <a:ext cx="431640" cy="206064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864440" y="394200"/>
            <a:ext cx="431640" cy="216072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3371760"/>
            <a:ext cx="5759280" cy="7923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ssistance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of  Ministry of the Interior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ederal Migr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rvice and local 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20640"/>
            <a:ext cx="727236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cap="rnd" w="190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MMIGRANTS AND HOM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938640" y="414000"/>
            <a:ext cx="431640" cy="215892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181320" y="2047680"/>
            <a:ext cx="431640" cy="206064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773680" y="2043000"/>
            <a:ext cx="431640" cy="206064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2880" y="5052960"/>
            <a:ext cx="2235240" cy="1081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dentification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well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fficult-to-access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6840" y="5145120"/>
            <a:ext cx="2232000" cy="9367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ood interrel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th securit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163160" y="3571560"/>
            <a:ext cx="2521080" cy="137484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RICH FAMILIES</a:t>
            </a:r>
            <a:r>
              <a:rPr b="0" lang="ru-RU" sz="1800" spc="-1" strike="noStrike">
                <a:solidFill>
                  <a:srgbClr val="e99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LIVING IN GU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HO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6752400">
            <a:off x="1436400" y="4233960"/>
            <a:ext cx="431640" cy="133020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405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4051200">
            <a:off x="2934360" y="4227840"/>
            <a:ext cx="431640" cy="13827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675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8240" y="2060640"/>
            <a:ext cx="2232000" cy="1054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blicit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2215080" y="2621520"/>
            <a:ext cx="432000" cy="13827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162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1866960"/>
            <a:ext cx="2622600" cy="13460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zation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eration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educ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stablish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5486040" y="227880"/>
            <a:ext cx="3048120" cy="14461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STUDENT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RENTING DW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AT PLAC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6628800">
            <a:off x="5882040" y="835920"/>
            <a:ext cx="432000" cy="15825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417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4201800">
            <a:off x="7634160" y="784080"/>
            <a:ext cx="431640" cy="172080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66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1897200"/>
            <a:ext cx="1838520" cy="1054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blicit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92720" y="2708280"/>
            <a:ext cx="2735280" cy="25401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le members of crews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gistered at the 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 the organiz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they work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e enumerated there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fore the ship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ave  th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2637000"/>
            <a:ext cx="2406600" cy="2663640"/>
          </a:xfrm>
          <a:custGeom>
            <a:avLst/>
            <a:gdLst>
              <a:gd name="textAreaLeft" fmla="*/ 67320 w 2406600"/>
              <a:gd name="textAreaRight" fmla="*/ 2339280 w 2406600"/>
              <a:gd name="textAreaTop" fmla="*/ 67320 h 2663640"/>
              <a:gd name="textAreaBottom" fmla="*/ 2596320 h 2663640"/>
            </a:gdLst>
            <a:ahLst/>
            <a:rect l="textAreaLeft" t="textAreaTop" r="textAreaRight" b="textAreaBottom"/>
            <a:pathLst>
              <a:path w="21600" h="23907">
                <a:moveTo>
                  <a:pt x="2072" y="0"/>
                </a:moveTo>
                <a:arcTo wR="2072" hR="2072" stAng="16200000" swAng="-5400000"/>
                <a:lnTo>
                  <a:pt x="0" y="21835"/>
                </a:lnTo>
                <a:arcTo wR="2072" hR="2072" stAng="10800000" swAng="-5400000"/>
                <a:lnTo>
                  <a:pt x="19528" y="23907"/>
                </a:lnTo>
                <a:arcTo wR="2072" hR="2072" stAng="5400000" swAng="-5400000"/>
                <a:lnTo>
                  <a:pt x="21600" y="2072"/>
                </a:lnTo>
                <a:arcTo wR="2072" hR="2072" stAng="0" swAng="-5400000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embers of crews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iving at households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uring censu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the household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manent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743200" y="980640"/>
            <a:ext cx="3657600" cy="165600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MEMBERS OF CR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OF RUSSIAN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AND PASSENGER </a:t>
            </a:r>
            <a:r>
              <a:rPr b="0" lang="ru-RU" sz="1800" spc="-1" strike="noStrike">
                <a:solidFill>
                  <a:srgbClr val="e99c2b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281600">
            <a:off x="5365080" y="1550880"/>
            <a:ext cx="432000" cy="20127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6516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6552600">
            <a:off x="3309840" y="1576080"/>
            <a:ext cx="431640" cy="194328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4248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13120" y="2755800"/>
            <a:ext cx="5184720" cy="57492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ist to difficult-to-access regions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260280"/>
            <a:ext cx="5256360" cy="57492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CENSUS</a:t>
            </a: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IN DIFFICULT-TO-ACCESS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8080" y="4038480"/>
            <a:ext cx="5184720" cy="86364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ordination with local authorities of  constitu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ntities of Russia, approval of the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f the Russ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9079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0960" y="34099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9240" y="1522440"/>
            <a:ext cx="5184720" cy="57456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dentification of criteria to refer reg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 difficult-to-access 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21319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7800" y="5572080"/>
            <a:ext cx="5184720" cy="86364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termination of the sched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d means to send documen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d personnel to difficult-to-access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90960" y="49435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42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9c2b"/>
                </a:solidFill>
                <a:latin typeface="Tahoma"/>
              </a:rPr>
              <a:t>Thanks for your attention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38:39Z</dcterms:created>
  <dc:creator>User</dc:creator>
  <dc:description/>
  <dc:language>en-US</dc:language>
  <cp:lastModifiedBy>Nata</cp:lastModifiedBy>
  <dcterms:modified xsi:type="dcterms:W3CDTF">2008-05-07T11:39:52Z</dcterms:modified>
  <cp:revision>59</cp:revision>
  <dc:subject/>
  <dc:title>Презентация PowerPoint</dc:title>
</cp:coreProperties>
</file>