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86361D-49E0-4FCE-9867-DD35E9B0C39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cting information on emigration at the cens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239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lga Chudinovskikh (Lomonosov Uni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dolf Anich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nrico Bisogno (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ldova (200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abroad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rdless of the duration and reason of abs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ousehold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ldov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2:00 a.m. of census day the person w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absent, and left on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locality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oad (please indicate the country: ________________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year (please indicate the year when left: ___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4724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and (2002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esident registered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‘temporarily’ staying abroa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months (regardless of the period of st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amily members of the absen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rsons living with the absentee before his/her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nd: questions in the census questionnaire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s asked in the individual questionnai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you live here permanently and were you present or absent on census reference day or do you stay here temporaril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in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permanently – absent stay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other place in Po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y temporarily – arrived from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l durati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2 and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ween 6 and 12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months and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ason of your absence or stay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9933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4114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main typologie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parat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fr-CH" sz="3200" spc="-1" strike="noStrike" u="sng">
                <a:solidFill>
                  <a:srgbClr val="000000"/>
                </a:solidFill>
                <a:uFillTx/>
                <a:latin typeface="Arial"/>
              </a:rPr>
              <a:t>questions in the main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fferent impact on population cou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orgia and Tunisia: 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ex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rom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Moldova and Poland: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migrants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include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curacy of emigration 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to assess if these modules were successful to count emigra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 obtained from the census compared with data collected in  receiving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destinatio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itizens of Poland living in other countries (2004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Poland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migrants by year of 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14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1852560"/>
            <a:ext cx="7486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in questions on emigra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s/previous residents are li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 of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been emigrants absent from the country of ori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ving ab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-demograph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of the emigra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inte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turn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emigrant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conomic 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riginal househ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unisia: looking a bit deeper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813040"/>
            <a:ext cx="3886200" cy="222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886200" cy="229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Lessons lear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worked well for emigran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left the country in the years just before the census (up to 5 y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likely to keep close ties with the country (Polish data were better for Italy and Germany than for emigrants in the US or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embers of the family nucleus that is left behind (e.g. Tunisian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ill included in an administrative register (Po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fundamental to keep separate the count of population from the count of emigrants (persons residing abroad for 1 year or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us cannot provide a good estimate of the total number of emigrants li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rtant to identify what group of emigrants we can reasonably count in a census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xample, those having left the country in the last  years and having close family 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o conclude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migration module can provide important information on ‘qualitative’ aspects such as: geographical distribution of emigrants, information on households left behind, reason of migration, socio-economic characteristic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ccurate test of questions/module is necessary (use experience of other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oice of respondents is fundamental (undercounting vs. overcou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data from receiving countries is a good source for total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ing the census for estimating emigration: some countries tried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447920"/>
          <a:ext cx="7239240" cy="46386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orgia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Tunisi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anam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who left the country during a period before the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Nepal 1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l Salvador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uatemala 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Dominican Republic 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Venezuela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al modu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household members living abroad regardless of when they left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Moldova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oland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Singapor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cific ques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census form, as any other household member (emigrants identified in data process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f this exercise: 4 countrie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752480"/>
          <a:ext cx="7924680" cy="4343400"/>
        </p:xfrm>
        <a:graphic>
          <a:graphicData uri="http://schemas.openxmlformats.org/drawingml/2006/table">
            <a:tbl>
              <a:tblPr/>
              <a:tblGrid>
                <a:gridCol w="2630520"/>
                <a:gridCol w="1352520"/>
                <a:gridCol w="1350720"/>
                <a:gridCol w="1239840"/>
                <a:gridCol w="1351080"/>
              </a:tblGrid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ni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ld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.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7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91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8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gr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 emigrants/resid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743200" y="4495680"/>
            <a:ext cx="5791320" cy="609840"/>
          </a:xfrm>
          <a:prstGeom prst="ellipse">
            <a:avLst/>
          </a:prstGeom>
          <a:solidFill>
            <a:srgbClr val="ff0000">
              <a:alpha val="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of analysi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 of emigrants vs. popul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of emigration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rgia (200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household members who left the country after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rom Georgia for 12 month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ult member of th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s, neighbours, administrativ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eorg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-social characteristics: Relationship to reference person, sex, date of birth, place of birth, education, 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emigration and currently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of 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suppo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grant and emigr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unisia (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s who at the time of the cen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road for 6 months or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f the family nucleus 5 years before the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pon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mbers of the family nucleus (spouse and unmarried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unisi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census module for emigrants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estions as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-social characteristics: sex, date and country of birth, country of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 to reference 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 of e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son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untry of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Bisogno</cp:lastModifiedBy>
  <dcterms:modified xsi:type="dcterms:W3CDTF">2008-05-14T12:00:38Z</dcterms:modified>
  <cp:revision>290</cp:revision>
  <dc:subject/>
  <dc:title>PowerPoint Presentation</dc:title>
</cp:coreProperties>
</file>