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90920" y="63244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UNECE Statistica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0C1CC32-E855-4ECD-9533-891C516C3B31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21333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llecting information on emigration at the censu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37720" y="3962520"/>
            <a:ext cx="7239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lga Chudinovskikh (Lomonosov Univ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udolf Anich (UNE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nrico Bisogno (UNE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oldova (2004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noFill/>
          <a:ln w="9360">
            <a:solidFill>
              <a:srgbClr val="0066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Target grou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anent resident registered in the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 ‘temporarily’ abroad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ardless of the duration and reason of abs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Responden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Household members of the absent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Moldova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: questions in the census questionnaire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noFill/>
          <a:ln w="9360">
            <a:solidFill>
              <a:srgbClr val="0066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estions asked in the individual questionna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12:00 a.m. of census day the person w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orarily absent, and left on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ther locality of the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oad (please indicate the country: ________________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rea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ence dur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than one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than one year (please indicate the year when left: ________________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2362320"/>
            <a:ext cx="47242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oland (2002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Target grou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anent resident registered in Po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 ‘temporarily’ staying abroad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 months (regardless of the period of sta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Responden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Family members of the absent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ersons living with the absentee before his/her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Neighb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oland: questions in the census questionnaire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uestions asked in the individual questionnair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you live here permanently and were you present or absent on census reference day or do you stay here temporarily?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ve permanently – pres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ve permanently – absent stay in other place in Po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ve permanently – absent stay abr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y temporarily – arrived from other place in Po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y temporarily – arrived from abr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the real duration of your absence or stayi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2 month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ween 2 and 6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ween 6 and 12 month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 months and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the reason of your absence or stayi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mily rea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895480"/>
            <a:ext cx="4114800" cy="304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wo main typologies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Georgia and Tunisia: </a:t>
            </a:r>
            <a:r>
              <a:rPr b="1" i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eparate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200" spc="-1" strike="noStrike">
                <a:solidFill>
                  <a:srgbClr val="000000"/>
                </a:solidFill>
                <a:latin typeface="Arial"/>
              </a:rPr>
              <a:t>Moldova and Poland: </a:t>
            </a:r>
            <a:r>
              <a:rPr b="1" i="1" lang="fr-CH" sz="3200" spc="-1" strike="noStrike" u="sng">
                <a:solidFill>
                  <a:srgbClr val="000000"/>
                </a:solidFill>
                <a:uFillTx/>
                <a:latin typeface="Arial"/>
              </a:rPr>
              <a:t>questions in the main questionn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ifferent impact on population count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Georgia and Tunisia: emigrants</a:t>
            </a:r>
            <a:r>
              <a:rPr b="1" i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 excluded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from population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200" spc="-1" strike="noStrike">
                <a:solidFill>
                  <a:srgbClr val="000000"/>
                </a:solidFill>
                <a:latin typeface="Arial"/>
              </a:rPr>
              <a:t>Moldova and Poland: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emigrants</a:t>
            </a:r>
            <a:r>
              <a:rPr b="1" i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 included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in population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ccuracy of emigration cou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to assess if these modules were successful to count emigran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ata obtained from the census compared with data collected in  receiving count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ain destination count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9246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itizens of Poland living in other countries (2004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7162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Poland: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migrants by year of mig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1444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52400" y="1852560"/>
            <a:ext cx="74865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ain questions on emigration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w m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tionals/previous residents are living abro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m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untries of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w lo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been emigrants absent from the country of origi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m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as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moving abro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cial-demograph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file of the emigrants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emigrants intend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turn b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emigrants hav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conomic 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he original househo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unisi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162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unisia: looking a bit deeper…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3520" y="2813040"/>
            <a:ext cx="3886200" cy="2222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0" y="2743200"/>
            <a:ext cx="3886200" cy="2292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066680" y="1752480"/>
            <a:ext cx="70106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Lessons learn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collection worked well for emigrants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left the country in the years just before the census (up to 5 yr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more likely to keep close ties with the country (Polish data were better for Italy and Germany than for emigrants in the US or Can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members of the family nucleus that is left behind (e.g. Tunisian m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still included in an administrative register (Pol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To conclude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fundamental to keep separate the count of population from the count of emigrants (persons residing abroad for 1 year or m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nsus cannot provide a good estimate of the total number of emigrants living ab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important to identify what group of emigrants we can reasonably count in a census.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xample, those having left the country in the last  years and having close family 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To conclude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emigration module can provide important information on ‘qualitative’ aspects such as: geographical distribution of emigrants, information on households left behind, reason of migration, socio-economic characteristic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Accurate test of questions/module is necessary (use experience of other count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Choice of respondents is fundamental (undercounting vs. overcoun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of data from receiving countries is a good source for total 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Using the census for estimating emigration: some countries tried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1447920"/>
          <a:ext cx="7239240" cy="4638600"/>
        </p:xfrm>
        <a:graphic>
          <a:graphicData uri="http://schemas.openxmlformats.org/drawingml/2006/table">
            <a:tbl>
              <a:tblPr/>
              <a:tblGrid>
                <a:gridCol w="3619800"/>
                <a:gridCol w="3619440"/>
              </a:tblGrid>
              <a:tr h="16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Georgia 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Tunisia 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Panama 19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66cc"/>
                      </a:solidFill>
                    </a:lnT>
                    <a:lnB w="1872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pecial modu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or household members who left the country during a period before the cens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66cc"/>
                      </a:solidFill>
                    </a:lnR>
                    <a:lnT w="18720">
                      <a:solidFill>
                        <a:srgbClr val="0066cc"/>
                      </a:solidFill>
                    </a:lnT>
                    <a:lnB w="1872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Nepal 19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El Salvador 1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Guatemala 19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Dominican Republic 1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Venezuela 19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66cc"/>
                      </a:solidFill>
                    </a:lnT>
                    <a:lnB w="1872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pecial modu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or household members living abroad regardless of when they left the 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66cc"/>
                      </a:solidFill>
                    </a:lnR>
                    <a:lnT w="18720">
                      <a:solidFill>
                        <a:srgbClr val="0066cc"/>
                      </a:solidFill>
                    </a:lnT>
                    <a:lnB w="1872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130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Moldova 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Poland 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Singapore 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66cc"/>
                      </a:solidFill>
                    </a:lnT>
                    <a:lnB w="1872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luded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pecific questi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the census form, as any other household member (emigrants identified in data process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66cc"/>
                      </a:solidFill>
                    </a:lnR>
                    <a:lnT w="18720">
                      <a:solidFill>
                        <a:srgbClr val="0066cc"/>
                      </a:solidFill>
                    </a:lnT>
                    <a:lnB w="18720">
                      <a:solidFill>
                        <a:srgbClr val="0066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ocus of this exercise: 4 countries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520" y="1752480"/>
          <a:ext cx="7924680" cy="4343400"/>
        </p:xfrm>
        <a:graphic>
          <a:graphicData uri="http://schemas.openxmlformats.org/drawingml/2006/table">
            <a:tbl>
              <a:tblPr/>
              <a:tblGrid>
                <a:gridCol w="2630520"/>
                <a:gridCol w="1352520"/>
                <a:gridCol w="1350720"/>
                <a:gridCol w="1239840"/>
                <a:gridCol w="1351080"/>
              </a:tblGrid>
              <a:tr h="112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org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ni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ldo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of cens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n. 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ril 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t. 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y 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ident Pop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372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911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383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.23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igr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4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3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86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io emigrants/resident pop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2743200" y="4495680"/>
            <a:ext cx="5791320" cy="609840"/>
          </a:xfrm>
          <a:prstGeom prst="ellipse">
            <a:avLst/>
          </a:prstGeom>
          <a:solidFill>
            <a:srgbClr val="ff0000">
              <a:alpha val="7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Outline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of analysis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5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ption of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5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nt of emigrants vs. population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5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Accuracy of emigration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5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Georgia (200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rget grou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ous household members who left the country after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ent from Georgia for 12 months or lo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ponden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adult member of the househo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s, neighbours, administrative 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Georgia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: census module for emigrants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estions ask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graphic-social characteristics: Relationship to reference person, sex, date of birth, place of birth, education, na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of e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of emigration and currently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 of e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suppor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migrant and emigra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tion to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unisia (2004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arget grou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sons who at the time of the cens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road for 6 months or long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ber of the family nucleus 5 years before the c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Responden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Members of the family nucleus (spouse and unmarried child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Tunisia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: census module for emigrants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Questions ask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ographic-social characteristics: sex, date and country of birth, country of citize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onship to reference per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e of e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son to 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Country of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12:43:08Z</dcterms:created>
  <dc:creator>Jessica Gardner</dc:creator>
  <dc:description/>
  <dc:language>en-US</dc:language>
  <cp:lastModifiedBy>Bisogno</cp:lastModifiedBy>
  <dcterms:modified xsi:type="dcterms:W3CDTF">2008-05-14T12:00:38Z</dcterms:modified>
  <cp:revision>290</cp:revision>
  <dc:subject/>
  <dc:title>PowerPoint Presentation</dc:title>
</cp:coreProperties>
</file>