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7C53-C8A6-4AE2-934A-3A20C26B7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71CE-5ECF-4279-8230-7C0DCF583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0A7E-EC16-4111-AB6F-CAD689F5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7C95-A574-4EE7-8C66-BB706D109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59D4-3C97-4745-8ADC-AFD5155DB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899A-1F66-486E-AB95-F38C849DF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34E0-C9DE-47E9-9800-15F04F14C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0F03-4041-4775-BB44-A5B48C633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D855-1200-4C2B-A83C-5CC7DC075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109A-3FE6-49D9-A066-8A21A8A2E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0242-36CF-412D-849A-C4D6DC31D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3AD6-99B6-43D0-822D-D51FAA02C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79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58200" y="81000"/>
            <a:ext cx="151920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504720"/>
            <a:ext cx="9112320" cy="0"/>
          </a:xfrm>
          <a:prstGeom prst="line">
            <a:avLst/>
          </a:prstGeom>
          <a:ln w="31680">
            <a:solidFill>
              <a:srgbClr val="186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62560"/>
            <a:ext cx="9201240" cy="613080"/>
          </a:xfrm>
          <a:prstGeom prst="rect">
            <a:avLst/>
          </a:prstGeom>
          <a:solidFill>
            <a:srgbClr val="2a6b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455760" y="6380280"/>
            <a:ext cx="5736960" cy="341280"/>
          </a:xfrm>
          <a:prstGeom prst="rect">
            <a:avLst/>
          </a:prstGeom>
          <a:solidFill>
            <a:srgbClr val="dee7f5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1280" y="6381360"/>
            <a:ext cx="2133720" cy="343080"/>
          </a:xfrm>
          <a:prstGeom prst="rect">
            <a:avLst/>
          </a:prstGeom>
          <a:solidFill>
            <a:srgbClr val="dee7f5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FCF-585A-4340-9FC4-2DC202F0C879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4699080" cy="433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0067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35280" y="21301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79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5280" y="21301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79a"/>
                </a:solidFill>
                <a:latin typeface="Verdana"/>
              </a:rPr>
              <a:t>Outsourcing the 2002 Census in Slovenia</a:t>
            </a:r>
            <a:endParaRPr b="0" lang="en-US" sz="36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24000" y="4076640"/>
            <a:ext cx="453708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100" spc="-1" strike="noStrike">
                <a:solidFill>
                  <a:srgbClr val="000000"/>
                </a:solidFill>
                <a:latin typeface="Verdana"/>
              </a:rPr>
              <a:t>Danilo Dolenc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Verdana"/>
              </a:rPr>
              <a:t>Statistical Office of the Republic of Sloven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The role of the Statistical Office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Determination of basic demands for data process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Mostly already published in the tend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Methodological sup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Staff trai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Monitoring the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On daily ba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The contrac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Only two companies compe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Cetis Celje offered lower pr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First cooperation with S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Company known by printing pass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Value of contra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1,5 mio EUR (15 % of total budget of 2002 Censu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No additional charge, no anne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ome features (1)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Printing and personal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13 mio of A4 pages, 4,5 mio personaliz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Data edi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Scanning 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scanners, 3 months, 4 persons per shift, 2 shif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Optical photo archive creat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ultaneously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Recognition and verification 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5 months, 12 persons per shift, 2 shif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Including automatic co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ome features (2)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ncy</a:t>
            </a: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 chec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90 % autom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rocessing on-line without pap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P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2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nths, 4 persons per shift, 3 shif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Very short time for the data   processing – 7 month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Manageman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Contractor (Ceti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roject manager (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IT experts 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S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roject leader (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Methodological experts 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Advantages for the SOR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Less burden on SORS sta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more time for methodological wor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IT experts involved only in data storage and applications for dissemin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no logistic proble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no feeling of pressure because of cens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No expenditure for once used hardw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ransfer of knowledge from contra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Key factors for sucsess story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lfillment</a:t>
            </a: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 of very clearly specified contracting du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Permanent communication and current solving of arising probl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Regular monito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rust between partn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Great enthusiasm of staff invol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Conclusion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Outsourcing was the best solution in demanding circumsta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We maintain public trust – no misuse of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he sam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 rules applied for regular staff and contractor’s sta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Cost efficiency – we estimate we got the best value for the money inves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Our experience is absolutely posi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lovenia - some</a:t>
            </a:r>
            <a:r>
              <a:rPr b="0" lang="sl-SI" sz="4000" spc="-1" strike="noStrike">
                <a:solidFill>
                  <a:srgbClr val="1586cb"/>
                </a:solidFill>
                <a:latin typeface="Verdana"/>
              </a:rPr>
              <a:t> </a:t>
            </a: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fact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2 million peop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he most western part of former Yugoslavia – independent since 199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Bordering to Austria, Italy, Hungary and Croat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EU Member State since 1 May 200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GDP per capita 14.800 EUR (200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84 % of EU-25 (based on PP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2700360" y="3716280"/>
            <a:ext cx="287280" cy="2174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526" h="21600">
                <a:moveTo>
                  <a:pt x="0" y="0"/>
                </a:moveTo>
                <a:lnTo>
                  <a:pt x="28526" y="0"/>
                </a:lnTo>
                <a:lnTo>
                  <a:pt x="28526" y="21600"/>
                </a:lnTo>
                <a:lnTo>
                  <a:pt x="0" y="21600"/>
                </a:lnTo>
                <a:close/>
              </a:path>
              <a:path fill="lightenLess" w="28526" h="21600">
                <a:moveTo>
                  <a:pt x="0" y="0"/>
                </a:moveTo>
                <a:lnTo>
                  <a:pt x="28526" y="0"/>
                </a:lnTo>
                <a:lnTo>
                  <a:pt x="27126" y="1400"/>
                </a:lnTo>
                <a:lnTo>
                  <a:pt x="1400" y="1400"/>
                </a:lnTo>
                <a:close/>
              </a:path>
              <a:path fill="darken" w="28526" h="21600">
                <a:moveTo>
                  <a:pt x="28526" y="0"/>
                </a:moveTo>
                <a:lnTo>
                  <a:pt x="28526" y="21600"/>
                </a:lnTo>
                <a:lnTo>
                  <a:pt x="27126" y="20200"/>
                </a:lnTo>
                <a:lnTo>
                  <a:pt x="27126" y="1400"/>
                </a:lnTo>
                <a:close/>
              </a:path>
              <a:path fill="darkenLess" w="28526" h="21600">
                <a:moveTo>
                  <a:pt x="2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26" y="20200"/>
                </a:lnTo>
                <a:close/>
              </a:path>
              <a:path fill="lighten" w="2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26" h="21600">
                <a:moveTo>
                  <a:pt x="7257" y="3794"/>
                </a:moveTo>
                <a:lnTo>
                  <a:pt x="21270" y="10800"/>
                </a:lnTo>
                <a:lnTo>
                  <a:pt x="72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83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A  U  S  T  R  I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89000"/>
            <a:ext cx="28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1280" y="465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Arial"/>
              </a:rPr>
              <a:t>C  R  O  A  T  I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3120000">
            <a:off x="7950960" y="772920"/>
            <a:ext cx="158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ff"/>
                </a:solidFill>
                <a:latin typeface="Arial"/>
              </a:rPr>
              <a:t>HUNG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3645000"/>
            <a:ext cx="100800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468360" y="5229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Basics about 2002 Censu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First Census after in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Carried out under new circumsta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methodologic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financia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lack of human resources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rivacy and confidentiality iss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tarting-points in preparation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Register orienta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Maximum use of available data 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Rational use of financial sourc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Introducing new techn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Shortening of data proces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No additional employ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Even for part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Limited number of SORS employees can be invol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Two main decision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Combined method of enum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Register based (perso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bout 10 administrative and statistical sources have been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Pre-print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10 topics entirely taken over (not included in questionnaire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Complete field enumeration (dwellings, households, persons – data not available in source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Verdana"/>
              </a:rPr>
              <a:t>OUTSOUR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Before outsourcing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Dilemma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Is there a conflict of interests between public and private s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How to ensure privacy and confidenti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How to maintain public tru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What is census outsourcing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hree domai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Contracts with suppliers of IT infrastructure and services in preparatory phase – classical cooperation between public and private s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Novelty - public ten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Organization of field enumer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Novelty – decentralization of financial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Data processing – </a:t>
            </a: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real outsourc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Choosing a partner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ublic tender announced in June 2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Complete serv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Printing and person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Distribution and stor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Data proces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Selected tender had to prov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Complete hardware and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Adequate number of staff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3:26:04Z</dcterms:created>
  <dc:creator>v3user</dc:creator>
  <dc:description/>
  <dc:language>en-US</dc:language>
  <cp:lastModifiedBy>v3user</cp:lastModifiedBy>
  <dcterms:modified xsi:type="dcterms:W3CDTF">2007-06-04T15:12:05Z</dcterms:modified>
  <cp:revision>38</cp:revision>
  <dc:subject/>
  <dc:title>Slide 1</dc:title>
</cp:coreProperties>
</file>