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184-8867-40C7-924B-06E20FAE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C18-8DD4-49F5-8336-810A4A02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9AD-8C9A-4130-928C-805AFA02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99D-8AAD-4938-8CBA-5ABE4076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9F45E-F80E-4AE0-846B-F4872241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C35EB-4E58-477E-A33A-9C6DD4B0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4141F-1563-49DE-B802-5F35514D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D249A-488A-4BB5-9457-752B79B6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1CC97-2E78-4BF3-A46A-2D1349E8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8CAE3-15BD-403A-AD2B-6C41EE4D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8A6CB-1D1F-42E9-AD18-76AA7F1B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05F-CF62-4A15-B02D-76C53B32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90386-C011-43DB-B260-5AC5CCAB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3F02C-3A45-464F-84F9-B6C9A363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CA9D6-F119-49DF-ABA9-4DDEAD54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7FCF7-38F2-4803-B0AB-229D8EF4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FBE3C-FF81-43AC-80B7-F3D38BEA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BEF6-48D1-45B1-9EDA-68F09833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246-25A7-47C2-A3BB-37A46B54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439-B562-4E8D-9193-3D3890D0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060-8D07-42A1-8E4D-9337898F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DC8-51F4-489E-97DA-9DF1F7CE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06D-F335-464B-A5AB-4FE9BA4D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F8E-6A5B-45D5-9631-9642C66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17892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9 May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8F1E-12C2-483F-A0A6-71395F47B78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C8F3-666B-43FA-AEB9-C9AF8030C693}" type="datetime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r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7A06124-9C4E-4702-9279-7FC94F3988A9}" type="datetime10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15:17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94D6-3722-4B40-8620-719AF7EB4AC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96472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пределение связи и соответствующих процедур для обеспечения качества в интегрированном регистр-переписи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нин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ое бюро статист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раи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1F5D1-4CB0-4FAE-B250-8221E42FFC1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5206730-215F-4DE1-8163-9D925105A571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вязь данных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е соответствие с НР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ерминированная процеду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мер документа, удостоверяющего личность, в т.ч. контрольная циф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рожде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Данные объединялись только в случае полного соответствия, таким образом создавалась исчерпывающая информация, включающая данные всех объединенных файлов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95F-7FCA-44EE-A268-A32E574041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CCEF0-B155-44B9-AB74-196EE1E18626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вязь данных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ная процедур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м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амилия и им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ошибками в написании и упущениями гласных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д рож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звешенная иерархия переменных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Порог вероятности точности соответствия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превышающий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85% (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ероятность, подсчитанная на основе данных пилотной переписи и предыдущей переписи населения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33"/>
                </a:solidFill>
                <a:latin typeface="Arial"/>
              </a:rPr>
              <a:t>Адрес для соответствия не использовался</a:t>
            </a: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ccff33"/>
                </a:solidFill>
                <a:latin typeface="Arial"/>
              </a:rPr>
              <a:t>основную переменную необходимо изменить</a:t>
            </a: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393-79C0-4B5F-B33D-D93805868E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2B759-2624-4673-932F-01D428E0AAF6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министративные источники являются важными и доступными источниками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и данных необходимо проверять на присущие ошиб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установить иерархию точности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итеративных методов объ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ка процесса при помощи традиционной переписи методом обхода нас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A04-1A7C-4D5C-A522-6CB4CE6C2E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28C43-A8DC-432A-AEEA-2FE985DCF8DC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ние презента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06532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и данны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а источников д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язь дан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дуры обеспечения качества источников д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AF7-C220-40BC-A295-8A8A377B23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5C075-5746-4FE7-8322-B6314F7BF54D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907920"/>
            <a:ext cx="8510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дминистративные источники данных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циональный регистр насел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Р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итут национального страхова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е и медицинское страхова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оходный на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ниципальное социальное обеспеч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граничны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ефонные ном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ингент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AF4-1C80-4FDE-A67F-925DC816B3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5AFFC-0DC1-4039-8016-2110DE3773E7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8930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3e3ff"/>
                </a:solidFill>
                <a:latin typeface="Arial"/>
              </a:rPr>
              <a:t>Проверка административных</a:t>
            </a:r>
            <a:r>
              <a:rPr b="0" lang="en-US" sz="3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e3e3ff"/>
                </a:solidFill>
                <a:latin typeface="Arial"/>
              </a:rPr>
              <a:t>данных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ие потенциальных ошиб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овер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нота охв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0B9-73BB-4C92-8859-6B28EA5CF5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92DA3-888E-4D50-8C6B-50528F4AF94C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6551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3e3ff"/>
                </a:solidFill>
                <a:latin typeface="Arial"/>
              </a:rPr>
              <a:t>Потенциальные административные ошибки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министративные ошибки в адре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ог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иферийные населенные пунк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тингент учащих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ональные  преферен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уден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о на получение стипендии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ие места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шибки ввод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Источники с известными ошибками в адресе использовались только в случае, когда адрес проверялся по всем членам сем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155-EA07-47EA-9C0C-22C24A9438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D3D8F-139F-4D66-BBEB-B2459AF53A99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510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3e3ff"/>
                </a:solidFill>
                <a:latin typeface="Arial"/>
              </a:rPr>
              <a:t>Потенциальные административные ошибки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06532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министративные ошибки в учете нас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резидент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ч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женц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бегающие контакта с официальными властя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ступни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ющ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меющие права на обслуживан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Добавление лиц из дополнительных источников с двойной проверкой путем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ключения деталей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имени и номера документа, удостоверяющего личность при помощи связи детерминированных/вероятностных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6D5-3F9F-453D-A143-235B714DEE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CDE23-FE65-4C48-8A28-34A9ED511693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10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верка на достовер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оверность номера документа, удостоверяющего ли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ка законности контрольных циф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основе используемой формул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номера в НР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Для обновления и добавления информации, не включенной в НРН, рассматривались только данные, прошедшие проверку на достовер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647-0103-4C93-8720-B62B6EFF0C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FB36D-7F97-43AF-8E95-A59818831F70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ответствие данных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новление данных по насел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Р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граничный контро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ждаемость и смер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е обеспе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новление адре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четчики электроэнер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ингент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т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CF9-B2D0-4791-BE27-1B768EBD5E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3054D-46C8-4106-909C-D893FF25C3FA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Р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семейные отноше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живающие по тому же адресу Н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авление произвольных адре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гласование одиноких ли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Воссоздание семьи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тератив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примерно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терации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оздание административных семей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F30-938A-42E2-B631-D35D645A2B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87BBB-27E5-4438-919A-09693EAA3FD0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3:26:08Z</dcterms:created>
  <dc:creator>pninaz</dc:creator>
  <dc:description/>
  <dc:language>en-US</dc:language>
  <cp:lastModifiedBy>User</cp:lastModifiedBy>
  <dcterms:modified xsi:type="dcterms:W3CDTF">2007-06-01T05:03:21Z</dcterms:modified>
  <cp:revision>22</cp:revision>
  <dc:subject/>
  <dc:title>Record Linkage and Preference Procedures to Assure Quality in an Integrated Register Based Census </dc:title>
</cp:coreProperties>
</file>