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586-A138-48D5-949D-CDA661EF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6FC-9BE0-4854-A696-64CEC77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3A8-C818-4813-B9BE-7CD6EBB7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24B-358C-4E93-B0B6-F94A0530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6A33-FF7B-4063-89DC-9D93B29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FFA0F-504D-44B0-9019-1AC855A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92EC7-59D8-4652-8CCE-8DAD9155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21CA1-396D-4791-8C72-2C9A804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13A42-B30F-4955-81C2-8F8C2F2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80055-A2D5-4B70-AA7C-650A724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BE8D8-8F81-41C9-B5B7-C5293F9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803-D9BF-4FBC-910E-EF517785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726EA-BDAB-4E94-A190-56FFC58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A4F28-3B21-4D68-85F4-B1EC9308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5157-3DC0-4EAF-9FB8-8E1C328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7ED31-21B2-4EDE-B37E-147F0B08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0DA8-3F4B-4CCA-A778-193F5C11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205-D1DC-466B-ACA6-305981BA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F76-1FAF-470B-8CCD-1E42329A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0EA-5DB5-49DF-999F-4565125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4CB-E340-4AEB-A1B4-BA012B38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AA5-DB0B-440B-9F8A-906ACC8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3E8-8F1D-4391-AE34-74A2850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D73-82F1-446C-9538-BEE1EDD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1789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E69-0895-4D9D-B399-52B046C11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820-950B-481A-A19C-FF4C336BC953}" type="datetime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6753766-82E8-4002-A2EE-D7107CE6D69A}" type="datetime10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15:1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B14-42D9-4FD3-81E8-F32D9885151D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Record Linkage and Preference Procedures in an Integrated Register Based Census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ina ZAD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Bureau of Stat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2A74-96F0-4678-ACF3-62BEDEE451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DAC462-AD62-4334-A10E-561D88B67B61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cord Lin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ompatibility with NP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terministic procedure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 number including control dig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name, sex, date of bi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ecords were matched if all were ident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nd a comprehensive record was formed including information from all matched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CEC-3BC0-4B1B-9893-F28DBE235D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FC519-CF78-41A8-B36E-7F4D16FACB92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cord Lin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proced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(sure and given) with spelling errors and vowels omissions. 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of 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eighted Hierarchy of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hreshold of probability matched correctly, exceeding 85% (probability computed from pilot censuses and previous traditional censu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ddress was not used for matching - a core variable to be updated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63B-334C-48AB-9C8E-9FDAB30C7F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BCBD2-C9D8-4CDA-9BE4-51148A4E91AD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sources are important and affordable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ources should be examined for inherent f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of validity should be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converging iterative proced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of process  with traditional enumeration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C40-0626-4AC6-BA52-D80F535837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02D60-C69C-468D-BC60-8BCB3E5223E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ent of Presen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ng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lin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ources preferenc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4C2-A2A9-43F7-B32C-91CEE66DC8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58754-CAA5-4DD7-8271-1F7D1CA4CC0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20640"/>
            <a:ext cx="8510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Data Sources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Population Register (NP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Insurance Institute (Social security and National Health Insur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nro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819-E723-44F8-A874-93DF489B1B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5CA1-074B-4F9D-9DF7-F611CC302752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510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uditing Administrative f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ing potential b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D4E-2A0D-4F04-943C-CFB2BCB701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E048-3C61-40E8-B0F4-3A1D7D7727C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Potential  Bia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812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biases i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(peripheral localiti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enrolment (region preferen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scholarship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g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entry mi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Arial"/>
              </a:rPr>
              <a:t>Sources with known biases in address were used only if the address was consistent for all administrative family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9E9-5C8B-4623-BC12-04C1BB6621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DB4CC-803E-4EE4-8AD2-F520C50C60A3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Potential  Bia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ministrative population o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residents ( students, workers, displac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ing contact with official authorities (felon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gible/not eligible for the ser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dding persons from complementary  sources with duplication check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clusion specific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names and ID using deterministic/probability record linkag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8F1-57F7-4CDC-8E03-7F6D2A28F0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098F3-416B-47BC-BC3F-AABD1C563052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lidity Chec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 of ID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of legitimacy of control digit (based on the formula in 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ence of the number in the N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Only records passing the validity checks were considered</a:t>
            </a:r>
            <a:r>
              <a:rPr b="0" lang="he-IL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ff"/>
                </a:solidFill>
                <a:latin typeface="Arial"/>
              </a:rPr>
              <a:t> for updates or adding information not included in the N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4ED-8FCD-49E0-8D68-3525FD1FD8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8128-2F37-463F-91BB-AA0A25603FFC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ching files Hierarc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for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  control + Births and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ity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nro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regi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DD1-F94E-4D1B-AD34-6D63CAC307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11E4B-EFAD-4681-BC38-72BAECFF5BDF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R - all family rel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ing in the same NPR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optional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ing of single pers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amily reconstruction – iterativ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(approximately 3 iter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ating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Families</a:t>
            </a:r>
            <a:br>
              <a:rPr sz="40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82D-2A12-440F-9945-48AB999DCC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1907D-4A9A-4752-B352-750783471737}" type="datetime8">
              <a:rPr lang="en-US"/>
              <a:t>07/29/26 15: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pninaz</cp:lastModifiedBy>
  <dcterms:modified xsi:type="dcterms:W3CDTF">2007-05-29T11:14:30Z</dcterms:modified>
  <cp:revision>11</cp:revision>
  <dc:subject/>
  <dc:title>Record Linkage and Preference Procedures to Assure Quality in an Integrated Register Based Census </dc:title>
</cp:coreProperties>
</file>