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317-4484-4A0E-BA3C-E84D2811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00000" y="4080600"/>
            <a:ext cx="7786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8D0-1283-4104-B921-A18C4F6A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024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F93D-A1E4-4AC5-8E78-8380C9B6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2680" y="184428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84428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00000" y="408060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2680" y="408060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08060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7CB3-377A-4AC4-9EEB-C0B2EDF6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30C-3DD6-42E2-BBAB-068B8C7C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8481-BD26-41CE-B88A-68E8B0F9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D58-D07C-42FB-94AA-DFB08EE6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494-5F1B-45D4-8AAE-338AF1CB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63640" y="291960"/>
            <a:ext cx="72216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F40-F0CB-4F71-9727-E7E5067E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0000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B48-A4CB-4377-A8A4-F3A12C2F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024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BC8-2636-41B6-825B-00671A07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00000" y="4080600"/>
            <a:ext cx="7786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FB9-D61F-4A91-A927-1E6F5B82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04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10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104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104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B9FE-5255-4301-8A3B-5404D7020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urvo.unescap@un.or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ho.int/whosis/database/gis/salb/salb_home.htm" TargetMode="External"/><Relationship Id="rId2" Type="http://schemas.openxmlformats.org/officeDocument/2006/relationships/hyperlink" Target="http://www.who.int/whosis/database/gis/salb/salb_home.htm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w3.org/Graphics/SVG/" TargetMode="External"/><Relationship Id="rId2" Type="http://schemas.openxmlformats.org/officeDocument/2006/relationships/hyperlink" Target="http://www.adobe.com/svg/" TargetMode="External"/><Relationship Id="rId3" Type="http://schemas.openxmlformats.org/officeDocument/2006/relationships/hyperlink" Target="http://www.adobe.com/svg/" TargetMode="External"/><Relationship Id="rId4" Type="http://schemas.openxmlformats.org/officeDocument/2006/relationships/hyperlink" Target="http://www.adobe.com/svg/" TargetMode="External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apminder.org/" TargetMode="External"/><Relationship Id="rId2" Type="http://schemas.openxmlformats.org/officeDocument/2006/relationships/hyperlink" Target="http://www.gapminder.org/" TargetMode="External"/><Relationship Id="rId3" Type="http://schemas.openxmlformats.org/officeDocument/2006/relationships/hyperlink" Target="http://www.gapminder.org/" TargetMode="External"/><Relationship Id="rId4" Type="http://schemas.openxmlformats.org/officeDocument/2006/relationships/hyperlink" Target="http://www.oecd.org/document/26/0,2340,en_21571361_31938349_38241306_1_1_1_1,00.html" TargetMode="External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devinfo.org/" TargetMode="External"/><Relationship Id="rId2" Type="http://schemas.openxmlformats.org/officeDocument/2006/relationships/hyperlink" Target="http://www.devinfo.org/" TargetMode="External"/><Relationship Id="rId3" Type="http://schemas.openxmlformats.org/officeDocument/2006/relationships/hyperlink" Target="http://www.devinfo.org/" TargetMode="External"/><Relationship Id="rId4" Type="http://schemas.openxmlformats.org/officeDocument/2006/relationships/hyperlink" Target="http://www.pc-axis.scb.se/" TargetMode="External"/><Relationship Id="rId5" Type="http://schemas.openxmlformats.org/officeDocument/2006/relationships/hyperlink" Target="http://www.pc-axis.scb.se/" TargetMode="External"/><Relationship Id="rId6" Type="http://schemas.openxmlformats.org/officeDocument/2006/relationships/hyperlink" Target="http://www.str.com.au/" TargetMode="External"/><Relationship Id="rId7" Type="http://schemas.openxmlformats.org/officeDocument/2006/relationships/hyperlink" Target="http://www.str.com.au/" TargetMode="External"/><Relationship Id="rId8" Type="http://schemas.openxmlformats.org/officeDocument/2006/relationships/hyperlink" Target="http://www.str.com.au/" TargetMode="External"/><Relationship Id="rId9" Type="http://schemas.openxmlformats.org/officeDocument/2006/relationships/hyperlink" Target="http://www.beyond2020.com/" TargetMode="External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comtrade.un.org/db/help/ComtradeSDMX.aspx" TargetMode="External"/><Relationship Id="rId2" Type="http://schemas.openxmlformats.org/officeDocument/2006/relationships/hyperlink" Target="http://comtrade.un.org/db/help/ComtradeSDMX.aspx" TargetMode="External"/><Relationship Id="rId3" Type="http://schemas.openxmlformats.org/officeDocument/2006/relationships/hyperlink" Target="http://www.sdmx.org/" TargetMode="External"/><Relationship Id="rId4" Type="http://schemas.openxmlformats.org/officeDocument/2006/relationships/hyperlink" Target="http://www.sdmx.org/" TargetMode="External"/><Relationship Id="rId5" Type="http://schemas.openxmlformats.org/officeDocument/2006/relationships/hyperlink" Target="http://www.sdmx.org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clac.org/estadisticas/" TargetMode="External"/><Relationship Id="rId2" Type="http://schemas.openxmlformats.org/officeDocument/2006/relationships/hyperlink" Target="http://www.eclac.org/estadisticas/" TargetMode="External"/><Relationship Id="rId3" Type="http://schemas.openxmlformats.org/officeDocument/2006/relationships/hyperlink" Target="http://www.eclac.org/estadisticas/" TargetMode="Externa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1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Технологии распространения информации при проведении переписи населения и жилищного фонда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568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по Серво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СКАТО ОО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нгкок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rvo.unescap@un.or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учающего семинара ЕЭК ОНН по технологии переписи для стран-членов СПЕКА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Астана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7-8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юня 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007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76676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Знание заказчика</a:t>
            </a: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3/3</a:t>
            </a:r>
            <a:br>
              <a:rPr sz="2800"/>
            </a:b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респонденты как заказчики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спространение информации и проведении переписи населения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тимулирование использования данных предстоящей переписи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едоставление информации обратной связи респондентам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Значимость данных по переписи населения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ременное использование данны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ование данных в будуще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ышение значимости данных переписи путем объеди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анных предыдущей и предстоящей переписи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 другими данными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рос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дминистративные данны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3640" y="628560"/>
            <a:ext cx="7221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Доступ</a:t>
            </a: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наличие и использование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786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Данные могут быть использованными. если</a:t>
            </a:r>
            <a:r>
              <a:rPr b="1" lang="en-GB" sz="20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анные размещены на веб-сайт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ьзователи знают об этом</a:t>
            </a:r>
            <a:r>
              <a:rPr b="1" lang="en-GB" sz="1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ьзователи могут найти данные при необходимост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ьзователи могут извлечь данные когда и куда им необходим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ьзователи понимают данные и могут их представи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" dur="1" fill="hold"/>
                                  <p:tgtEl>
                                    <p:spTgt spid="65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Определение целостной картины и будущих нужд 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ументирование и сохранение данных как часть культурного наслед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ументирование и структурирование с самого начала выполнено на половин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иентированность на пользователя в широком смысл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 и презент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42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B. 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Современные технологии распространения данных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Знание имеющихся технологий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адиционные понятия публикации устарел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Т – это всего лишь инструмент, совершенствованию которого нет предел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ификация технологии распространен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ассивная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=&gt;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активн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Автономная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&gt;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автономн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татистическая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=&gt;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динамическ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Без сети Интернет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=&gt;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 сетью Интерн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Активная доставка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=&gt;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доставка по запрос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Аналог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ечать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=&gt;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цифров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тправление файлов вручную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=&gt;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автоматические веб-услуг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" dur="1" fill="hold"/>
                                  <p:tgtEl>
                                    <p:spTgt spid="7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Разработка веб-сайта по распространению</a:t>
            </a: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структурирование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деление от производственных и стратегических деловых приложений и баз дан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и четкость посредством классификации и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виг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Элементы глобальной навигации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Элементы навигации, чувствительные к содержанию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еме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Локальные элементы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ображение метаданных и данных, создаваемых в базах дан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леживание доступа и поведения пользовате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Разработка веб-сайта по распространению</a:t>
            </a:r>
            <a:br>
              <a:rPr sz="2400"/>
            </a:b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веб-страницы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1/3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принципы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зический размер страницы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труктура, независимая от разрешения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труктура, независимая от браузера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следовательность сайта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аблица стилей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Разработка веб-сайта по распространению</a:t>
            </a:r>
            <a:br>
              <a:rPr sz="2400"/>
            </a:b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веб-страницы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2/3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одвижные страниц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Для часто используемой информации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большие страницы для быстрой загрузки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Для постоянной информации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ументы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бликац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ксированные таблицы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афик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рт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88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я об организац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оздать просто, но трудно актуализировать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бычно не для больших объемов данных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Разработка веб-сайта по распространению</a:t>
            </a:r>
            <a:br>
              <a:rPr sz="2400"/>
            </a:b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веб-страницы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3/3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намичные страниц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ребуют специальных знаний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оддержание требует меньше усилий, чем объем данных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Гибкий доступ к базе данных путем раскрывающихся списков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абулирование с использованием ресурсов Веб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Динамичное графическое представление данных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437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Содержание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2276280"/>
            <a:ext cx="77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овершенствование ИТ и их влияние на распространение информ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ременные технологии распространения дан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очные приложения и расширенные возможно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Разработка веб-сайта по распространению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ответственность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ходимая сегодня стратегия технического развит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и необходимости использование знаний третьей стороны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презентативная редакционная коллегия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вечает з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труктуру сайта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Функциональность сайта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оцедуры обновления сайта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одержание 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азмещение 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матические специалисты отвечают за обновление своего содерж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хническое обслуживание и развитие проводится отделом И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Разработка веб-сайта по распространению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представление организации 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годня веб-сайт является одним из основных создателей имиджа организа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эффективное представление несет негативное влияние, что вызывает отток пользователе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тавление статистических данных в соответствии с нуждами различных групп пользователе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иск и навигация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нтеграция данных из различных сборников, в т.ч. прошлого периода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оянное обновление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.ч. дата размещ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ключить ссылки на другие официальные статистические данные и соответствующие третьи стороны для того, чтобы продемонстрировать релевантность. Сотрудничество и отношение к услуга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Разработка веб-сайта по распространению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метаданные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трализованная база данных является наиболее предпочтительным способом сохранения метадан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беспечивает последовательность хранилищ данных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Управляет определениями, методологической информацией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зменяющейся информацией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нформацией по сбору данных одновременно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беспечивает подход, эффективный для планирования, сбора данных, обработки, анализа и распространения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Разработка веб-сайта по распространению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графическое представление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карты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ты являются идеальным способом представления результатов переписи на веб-сайт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оект ОНН по сбору данных Второго административного уровня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(SALB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who.int/whosis/database/gis/salb/salb_home.htm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имеры карт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Разработка веб-сайта по распространению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графическое представление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графики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(1/2)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а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VG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ый стандарт для масштабируемой векторной график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Язык для описания текстовой двухмерной векторной графики и графических приложений в формате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XML,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3.org/Graphics/SVG/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adobe.com/svg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еб-браузеры включают программу просмотра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VG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ак подключаемый модуль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акже и для мобильных телефонов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ткрытые исходные тексты и имеющиеся в продаже редакторы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пример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LIPS Graffit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dobe Illustrat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яд программ импортеров, экспортеров и преобразователе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Разработка веб-сайта по распространению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графическое представление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графики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(2/2)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ash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имация и интерактивн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minder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apminder.org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ЭС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ТА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минар по динамической графике представления статистических показателе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oecd.org/document/26/0,2340,en_21571361_31938349_38241306_1_1_1_1,00.htm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2708280"/>
            <a:ext cx="7653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Обсуждение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Практическая технология распространения информации для проведения переписи населения в  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2010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году</a:t>
            </a:r>
            <a:endParaRPr b="0" lang="en-US" sz="32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8588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C. 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Выборочные приложения и расширенные возможности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Выборочные приложения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vInfo,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evinfo.org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C-Axi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X-Web,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c-axis.scb.se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erSTAR software suite,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str.com.au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yond 20/20,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beyond2020.com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Расширенные возможности </a:t>
            </a: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– SDMX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мен статистическим и метаданны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тистики определяют коды и структурированный образец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точник данных используе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ля описания и структурирования данных и метаданных и размещает их на веб-сервер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стемы сбора данных собирают данные по своей инициативе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отрит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UN Comtrade,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trade.un.org/db/help/ComtradeSDMX.asp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DMX sponsors,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sdmx.org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08280"/>
            <a:ext cx="7437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A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Усовершенствование ИТ и их влияние на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распространение информации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Расширенные возможности</a:t>
            </a: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веб-услуги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б-услуго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’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зывается система программного обеспечения, разработанная для поддержки взаимодействующих операций различных компьютеров в се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матическое обновление данных при помощи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добно для часто меняющихся данны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их как краткосрочные показател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оммерческие данные ЭКЛАК ООН, полученные при помощи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trade,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clac.org/estadisticas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ругое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Расширенные возможности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знание стоимости технологии распространения информации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86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Стоимость нераспространения информации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100000"/>
              </a:lnSpc>
              <a:spcBef>
                <a:spcPts val="737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Неиспользуемые данные являются самыми дорогостоящими </a:t>
            </a:r>
            <a:endParaRPr b="0" lang="en-US" sz="1700" spc="-1" strike="noStrike">
              <a:solidFill>
                <a:srgbClr val="ffff00"/>
              </a:solidFill>
              <a:latin typeface="Verdana"/>
            </a:endParaRPr>
          </a:p>
          <a:p>
            <a:pPr lvl="1" marL="690840" indent="-265680">
              <a:lnSpc>
                <a:spcPct val="100000"/>
              </a:lnSpc>
              <a:spcBef>
                <a:spcPts val="737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Если никто не использует результаты, не нужно проводить сбор данных</a:t>
            </a:r>
            <a:endParaRPr b="0" lang="en-US" sz="1700" spc="-1" strike="noStrike">
              <a:solidFill>
                <a:srgbClr val="ffff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Инвестиции в производительность и качество услуг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Негосударственное распространение данных в отношении у государственному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еры снижения себестоимости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100000"/>
              </a:lnSpc>
              <a:spcBef>
                <a:spcPts val="737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Ключевые результаты печати</a:t>
            </a:r>
            <a:r>
              <a:rPr b="0" lang="en-GB" sz="17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детализированные в электронном формате</a:t>
            </a:r>
            <a:endParaRPr b="0" lang="en-US" sz="1700" spc="-1" strike="noStrike">
              <a:solidFill>
                <a:srgbClr val="ffff00"/>
              </a:solidFill>
              <a:latin typeface="Verdana"/>
            </a:endParaRPr>
          </a:p>
          <a:p>
            <a:pPr lvl="1" marL="690840" indent="-265680">
              <a:lnSpc>
                <a:spcPct val="100000"/>
              </a:lnSpc>
              <a:spcBef>
                <a:spcPts val="737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Стандартизация и интеграция баз данных агентств и распространение приложений</a:t>
            </a:r>
            <a:r>
              <a:rPr b="0" lang="en-GB" sz="17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в т.ч. создание веб-содержания</a:t>
            </a:r>
            <a:endParaRPr b="0" lang="en-US" sz="1700" spc="-1" strike="noStrike">
              <a:solidFill>
                <a:srgbClr val="ffff00"/>
              </a:solidFill>
              <a:latin typeface="Verdana"/>
            </a:endParaRPr>
          </a:p>
          <a:p>
            <a:pPr lvl="1" marL="690840" indent="-265680">
              <a:lnSpc>
                <a:spcPct val="100000"/>
              </a:lnSpc>
              <a:spcBef>
                <a:spcPts val="737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Использование свободного программного обеспечения и бесплатных приложений</a:t>
            </a:r>
            <a:r>
              <a:rPr b="0" lang="en-GB" sz="17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но необходимо учесть, что они уже включают расходы</a:t>
            </a:r>
            <a:endParaRPr b="0" lang="en-US" sz="1700" spc="-1" strike="noStrike">
              <a:solidFill>
                <a:srgbClr val="ffff00"/>
              </a:solidFill>
              <a:latin typeface="Verdana"/>
            </a:endParaRPr>
          </a:p>
          <a:p>
            <a:pPr lvl="1" marL="690840" indent="-265680">
              <a:lnSpc>
                <a:spcPct val="100000"/>
              </a:lnSpc>
              <a:spcBef>
                <a:spcPts val="737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Проведение переговоров и использование рыночной власти для сокращения стоимости лицензий</a:t>
            </a:r>
            <a:endParaRPr b="0" lang="en-US" sz="17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2416320"/>
            <a:ext cx="5100480" cy="3235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51280" y="4365360"/>
            <a:ext cx="34923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Verdana"/>
              </a:rPr>
              <a:t>Спасибо</a:t>
            </a:r>
            <a:r>
              <a:rPr b="1" lang="en-US" sz="3200" spc="-1" strike="noStrike">
                <a:solidFill>
                  <a:srgbClr val="ff9933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Тенденция</a:t>
            </a: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1/3 –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Современные технологии являются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заимосвязанны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бильными, но в зависимости от местополож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зуально привлекательным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активным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иентированными на пользовате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окоскоростным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Тенденция</a:t>
            </a: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2/3 –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Разработка стандартов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тистические норматив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Более детальные и исчерпывающие стандарты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оличество и качество метаданных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бъединение и согласование методологий и метаданных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Административные данные как источник официальной статистики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тивы по обмену данным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МД (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DMX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бмен статистическими и метаданными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ДД (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DDI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нициатива документирования данных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Дублинская инициатива ключевых метаданных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Тенденция</a:t>
            </a: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3/3 –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Совместное применение технологии и стандартов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 эффективности статистической, административной и управленческой деятельнос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ивает прямой доступ к данным из любой точки нахождения круглые сутк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ивает дифференцированный доступ и варианты загрузки данны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ивает варианты нового содерж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ствует разработке гибких и разнообразных продукт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ивает процесс обмена и обновления данных без ручного вмешательств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и по переписи могут заниматься своей основ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еятельностью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оценка изменений в обществе для обоснованного и целевого принятия решен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Задачи распространения данных 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7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традиционного мыш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Цифровые продукты – это необходимо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зображение и обслуживание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омежуточный доступ к данным, независимо от того, какой отдел организации занимается созданием данных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утсорсинг отдельных частей соответствующих ИТ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юдские ресурсы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ем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учение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держание специалист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проекто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а системы динамического поиска/извлечения данны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фическое представление данны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точная презентация данных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ирование переписи начинается с заказчиков и распространения информаци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Знание заказчика</a:t>
            </a: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1/3</a:t>
            </a:r>
            <a:br>
              <a:rPr sz="2800"/>
            </a:b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виды заказчиков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ударст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интересованные граждан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удент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мерческие потребител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едприятия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Люди, занимающиеся изменением данных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ользователи данных конкретной местности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циональные пользователи по отношению к международны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Знание заказчика</a:t>
            </a: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 2/3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пользователи, которым необходима информация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татистики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ученые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етаданные и микроданные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Технологически продвинутые пользователи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литические деятели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ругие важные государственные заказчики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еждународные заказчики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4:43:29Z</dcterms:created>
  <dc:creator>Ilpo Survo</dc:creator>
  <dc:description/>
  <dc:language>en-US</dc:language>
  <cp:lastModifiedBy>Администратор</cp:lastModifiedBy>
  <dcterms:modified xsi:type="dcterms:W3CDTF">2007-06-03T09:58:58Z</dcterms:modified>
  <cp:revision>91</cp:revision>
  <dc:subject/>
  <dc:title>Dissemination technologies for population and housing censuses</dc:title>
</cp:coreProperties>
</file>