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A552-A832-4FB6-84FB-7662DC77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00000" y="4080600"/>
            <a:ext cx="7786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575D-10DC-48A0-BB0A-B33656DA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0240" y="184428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408060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0240" y="408060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EA26-547C-4423-8F47-8B1FE4C6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25070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2680" y="1844280"/>
            <a:ext cx="25070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844280"/>
            <a:ext cx="25070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00000" y="4080600"/>
            <a:ext cx="25070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2680" y="4080600"/>
            <a:ext cx="25070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080600"/>
            <a:ext cx="25070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2713-466C-4668-951F-29B8E325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2304-C99F-442C-8A94-1E6DCC43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1C97-9CC4-42F8-9191-2D14AB82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3799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0240" y="1844280"/>
            <a:ext cx="3799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F85D-2EB5-4EB3-A4F3-B78BE619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8480-E5CA-4AF4-885B-62F2BDAA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63640" y="291960"/>
            <a:ext cx="722160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895B-F6CB-4A2F-8166-2D89B733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0240" y="1844280"/>
            <a:ext cx="3799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00000" y="408060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5189-9C2A-4A77-B5F6-08EF92C4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3799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0240" y="184428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0240" y="408060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A8FE-4C1A-4756-B70E-DBAF4F27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0240" y="184428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00000" y="4080600"/>
            <a:ext cx="7786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6C05-3350-43C8-9355-B8309D4A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1049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10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1049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104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941F-1028-4D88-AF6B-96E9C45FC755}" type="slidenum">
              <a:rPr b="1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636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urvo.unescap@un.org" TargetMode="External"/><Relationship Id="rId2" Type="http://schemas.openxmlformats.org/officeDocument/2006/relationships/hyperlink" Target="mailto:survo.unescap@un.org" TargetMode="External"/><Relationship Id="rId3" Type="http://schemas.openxmlformats.org/officeDocument/2006/relationships/hyperlink" Target="mailto:survo.unescap@un.org" TargetMode="External"/><Relationship Id="rId4" Type="http://schemas.openxmlformats.org/officeDocument/2006/relationships/hyperlink" Target="mailto:survo.unescap@un.org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who.int/whosis/database/gis/salb/salb_home.htm" TargetMode="External"/><Relationship Id="rId2" Type="http://schemas.openxmlformats.org/officeDocument/2006/relationships/hyperlink" Target="http://www.who.int/whosis/database/gis/salb/salb_home.htm" TargetMode="External"/><Relationship Id="rId3" Type="http://schemas.openxmlformats.org/officeDocument/2006/relationships/hyperlink" Target="http://www.who.int/whosis/database/gis/salb/salb_home.htm" TargetMode="External"/><Relationship Id="rId4" Type="http://schemas.openxmlformats.org/officeDocument/2006/relationships/hyperlink" Target="http://www.who.int/whosis/database/gis/salb/salb_home.htm" TargetMode="External"/><Relationship Id="rId5" Type="http://schemas.openxmlformats.org/officeDocument/2006/relationships/hyperlink" Target="http://www.who.int/whosis/database/gis/salb/salb_home.htm" TargetMode="External"/><Relationship Id="rId6" Type="http://schemas.openxmlformats.org/officeDocument/2006/relationships/hyperlink" Target="http://www.who.int/whosis/database/gis/salb/salb_home.htm" TargetMode="External"/><Relationship Id="rId7" Type="http://schemas.openxmlformats.org/officeDocument/2006/relationships/hyperlink" Target="http://www.who.int/whosis/database/gis/salb/salb_home.htm" TargetMode="External"/><Relationship Id="rId8" Type="http://schemas.openxmlformats.org/officeDocument/2006/relationships/hyperlink" Target="http://www.who.int/whosis/database/gis/salb/salb_home.htm" TargetMode="External"/><Relationship Id="rId9" Type="http://schemas.openxmlformats.org/officeDocument/2006/relationships/hyperlink" Target="http://www.who.int/whosis/database/gis/salb/salb_home.htm" TargetMode="External"/><Relationship Id="rId10" Type="http://schemas.openxmlformats.org/officeDocument/2006/relationships/hyperlink" Target="http://www.who.int/whosis/database/gis/salb/salb_home.htm" TargetMode="External"/><Relationship Id="rId11" Type="http://schemas.openxmlformats.org/officeDocument/2006/relationships/hyperlink" Target="http://www.who.int/whosis/database/gis/salb/salb_home.htm" TargetMode="External"/><Relationship Id="rId12" Type="http://schemas.openxmlformats.org/officeDocument/2006/relationships/hyperlink" Target="http://www.who.int/whosis/database/gis/salb/salb_home.htm" TargetMode="External"/><Relationship Id="rId1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w3.org/Graphics/SVG/" TargetMode="External"/><Relationship Id="rId2" Type="http://schemas.openxmlformats.org/officeDocument/2006/relationships/hyperlink" Target="http://www.adobe.com/svg/" TargetMode="External"/><Relationship Id="rId3" Type="http://schemas.openxmlformats.org/officeDocument/2006/relationships/hyperlink" Target="http://www.adobe.com/svg/" TargetMode="External"/><Relationship Id="rId4" Type="http://schemas.openxmlformats.org/officeDocument/2006/relationships/hyperlink" Target="http://www.adobe.com/svg/" TargetMode="External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apminder.org/" TargetMode="External"/><Relationship Id="rId2" Type="http://schemas.openxmlformats.org/officeDocument/2006/relationships/hyperlink" Target="http://www.gapminder.org/" TargetMode="External"/><Relationship Id="rId3" Type="http://schemas.openxmlformats.org/officeDocument/2006/relationships/hyperlink" Target="http://www.gapminder.org/" TargetMode="External"/><Relationship Id="rId4" Type="http://schemas.openxmlformats.org/officeDocument/2006/relationships/hyperlink" Target="http://www.oecd.org/document/26/0,2340,en_21571361_31938349_38241306_1_1_1_1,00.html" TargetMode="External"/><Relationship Id="rId5" Type="http://schemas.openxmlformats.org/officeDocument/2006/relationships/hyperlink" Target="http://www.oecd.org/document/26/0,2340,en_21571361_31938349_38241306_1_1_1_1,00.html" TargetMode="External"/><Relationship Id="rId6" Type="http://schemas.openxmlformats.org/officeDocument/2006/relationships/hyperlink" Target="http://www.oecd.org/document/26/0,2340,en_21571361_31938349_38241306_1_1_1_1,00.html" TargetMode="External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devinfo.org/" TargetMode="External"/><Relationship Id="rId2" Type="http://schemas.openxmlformats.org/officeDocument/2006/relationships/hyperlink" Target="http://www.devinfo.org/" TargetMode="External"/><Relationship Id="rId3" Type="http://schemas.openxmlformats.org/officeDocument/2006/relationships/hyperlink" Target="http://www.devinfo.org/" TargetMode="External"/><Relationship Id="rId4" Type="http://schemas.openxmlformats.org/officeDocument/2006/relationships/hyperlink" Target="http://www.pc-axis.scb.se/" TargetMode="External"/><Relationship Id="rId5" Type="http://schemas.openxmlformats.org/officeDocument/2006/relationships/hyperlink" Target="http://www.pc-axis.scb.se/" TargetMode="External"/><Relationship Id="rId6" Type="http://schemas.openxmlformats.org/officeDocument/2006/relationships/hyperlink" Target="http://www.pc-axis.scb.se/" TargetMode="External"/><Relationship Id="rId7" Type="http://schemas.openxmlformats.org/officeDocument/2006/relationships/hyperlink" Target="http://www.str.com.au/" TargetMode="External"/><Relationship Id="rId8" Type="http://schemas.openxmlformats.org/officeDocument/2006/relationships/hyperlink" Target="http://www.str.com.au/" TargetMode="External"/><Relationship Id="rId9" Type="http://schemas.openxmlformats.org/officeDocument/2006/relationships/hyperlink" Target="http://www.str.com.au/" TargetMode="External"/><Relationship Id="rId10" Type="http://schemas.openxmlformats.org/officeDocument/2006/relationships/hyperlink" Target="http://www.beyond2020.com/" TargetMode="External"/><Relationship Id="rId1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comtrade.un.org/db/help/ComtradeSDMX.aspx" TargetMode="External"/><Relationship Id="rId2" Type="http://schemas.openxmlformats.org/officeDocument/2006/relationships/hyperlink" Target="http://comtrade.un.org/db/help/ComtradeSDMX.aspx" TargetMode="External"/><Relationship Id="rId3" Type="http://schemas.openxmlformats.org/officeDocument/2006/relationships/hyperlink" Target="http://comtrade.un.org/db/help/ComtradeSDMX.aspx" TargetMode="External"/><Relationship Id="rId4" Type="http://schemas.openxmlformats.org/officeDocument/2006/relationships/hyperlink" Target="http://comtrade.un.org/db/help/ComtradeSDMX.aspx" TargetMode="External"/><Relationship Id="rId5" Type="http://schemas.openxmlformats.org/officeDocument/2006/relationships/hyperlink" Target="http://comtrade.un.org/db/help/ComtradeSDMX.aspx" TargetMode="External"/><Relationship Id="rId6" Type="http://schemas.openxmlformats.org/officeDocument/2006/relationships/hyperlink" Target="http://comtrade.un.org/db/help/ComtradeSDMX.aspx" TargetMode="External"/><Relationship Id="rId7" Type="http://schemas.openxmlformats.org/officeDocument/2006/relationships/hyperlink" Target="http://www.sdmx.org/" TargetMode="External"/><Relationship Id="rId8" Type="http://schemas.openxmlformats.org/officeDocument/2006/relationships/hyperlink" Target="http://www.sdmx.org/" TargetMode="External"/><Relationship Id="rId9" Type="http://schemas.openxmlformats.org/officeDocument/2006/relationships/hyperlink" Target="http://www.sdmx.org/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clac.org/estadisticas/" TargetMode="External"/><Relationship Id="rId2" Type="http://schemas.openxmlformats.org/officeDocument/2006/relationships/hyperlink" Target="http://www.eclac.org/estadisticas/" TargetMode="External"/><Relationship Id="rId3" Type="http://schemas.openxmlformats.org/officeDocument/2006/relationships/hyperlink" Target="http://www.eclac.org/estadisticas/" TargetMode="External"/><Relationship Id="rId4" Type="http://schemas.openxmlformats.org/officeDocument/2006/relationships/hyperlink" Target="http://www.eclac.org/estadisticas/" TargetMode="External"/><Relationship Id="rId5" Type="http://schemas.openxmlformats.org/officeDocument/2006/relationships/hyperlink" Target="http://www.eclac.org/estadisticas/" TargetMode="External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1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33"/>
                </a:solidFill>
                <a:latin typeface="Arial"/>
              </a:rPr>
              <a:t>Dissemination technologies for population and housing censuses</a:t>
            </a:r>
            <a:endParaRPr b="0" lang="en-US" sz="32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568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lpo Survo, United Nations ESCAP, Bangkok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urvo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unescap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@un.or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ECE Training Workshop on Census Technology for SPECA member countries, Astana, 7-8 June 200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1476360" y="0"/>
            <a:ext cx="7667640" cy="112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5E27-E69B-417E-88C9-9B21019DE2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Understanding clients 3/3</a:t>
            </a:r>
            <a:br>
              <a:rPr sz="2800"/>
            </a:b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 - Respondents as clients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Disseminating information about forthcoming census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Promoting use of forthcoming census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Providing feedback data to respondents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0484-D093-4F8B-B556-63E8BF9B92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Understanding the value of census data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s of data toda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s in futu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dding value by linking census dat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ith previous and future censuses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ith other data sets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urvey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dministrative dat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1364-05D6-4754-B3D1-3BFCE6CDBD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63640" y="628560"/>
            <a:ext cx="7221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Access, availability and realized use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7786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be0e3"/>
                </a:solidFill>
                <a:latin typeface="Arial"/>
              </a:rPr>
              <a:t>Data use can only take place if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876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Data are posted on a web si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876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AN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876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Users know about i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876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AN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876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Users can find it when they need dat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876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AN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876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Users can retrieve data where and when they need i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876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AN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876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Users understand data and are able to present 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A836-0342-4308-B8A5-559A571476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" dur="1" fill="hold"/>
                                  <p:tgtEl>
                                    <p:spTgt spid="65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Seeing the big picture and future needs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cumenting and preserving census data as part of cultural herit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cumented and structured from the beginning is half-do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r friendliness in a broad sense: access and present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3645-24DA-4E0D-8A1F-DABBE0ECD2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852640"/>
            <a:ext cx="8424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B. Today’s technologies for data dissemination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50E0-5323-4ADD-8B0A-4F1A0CA129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Understanding available technologies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ditional publishing concepts are outdat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is a tool and only the sky is the lim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assification of dissemination technolog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Passive =&gt; ac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Offline =&gt; onl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tatic =&gt; dynam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Non-Internet =&gt; Intern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Push =&gt; pul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nalogue, print =&gt; digit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ending files manually =&gt; automatic web servi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47D4-3E6D-41FA-A01F-CBC9C9472F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8" dur="1" fill="hold"/>
                                  <p:tgtEl>
                                    <p:spTgt spid="7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Developing a dissemination website – Architecture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parate from production and business critical applications and databa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ructure and clarity through classification and navig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Global navigation elements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Content/subject-sensitive navigation elements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Local elements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-driven data and metadata displa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cking user access and behavio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7CED-E74B-4899-8663-12B6523627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Developing a dissemination website</a:t>
            </a:r>
            <a:br>
              <a:rPr sz="2800"/>
            </a:b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 – Web pages 1/3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eneral principl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Physical size of the page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Resolution-independent design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Browser-independent design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onsistency across the site – style sheets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E5E5-BABA-421A-82B9-AE055804E4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Developing a dissemination website</a:t>
            </a:r>
            <a:br>
              <a:rPr sz="2800"/>
            </a:b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 – Web pages 2/3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tic pag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For frequently accessed information – small pages for speed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For stable information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cuments, publica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ed tables, graphs, map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ganizational inform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Simple to create, laborious to keep up-to-date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Generally not for large volumes of data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CE08-7559-4A22-A73E-5E3C05272A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Developing a dissemination website</a:t>
            </a:r>
            <a:br>
              <a:rPr sz="2800"/>
            </a:b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 – Web pages 3/3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ynamic pag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Require expertise to create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Maintenance effort is low compared to volume of data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Flexible database access through drop-down lists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Web-enabled tabulation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Dynamic graphic presentation 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B0A2-26FE-41F8-AACB-72936B437C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437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00000" y="2276280"/>
            <a:ext cx="7786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. Changing IT environment and its impact on dissemin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. Today’s technologies for data disseminatio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. Sample applications and additional top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A924-D8C4-4787-A866-D15BDFE482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Developing a dissemination website</a:t>
            </a:r>
            <a:br>
              <a:rPr sz="2800"/>
            </a:b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 - Responsibilities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chnical development strategy required toda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Use third-party expertise if needed 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presentative editorial board – responsible f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Site structure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Site functionality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Procedures for the site updates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Layout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ubject-matter specialists responsible for updating their cont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chnical maintenance and development by IT depart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52F7-BF3B-429A-BA81-0EFF9B1BFE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Developing a dissemination website</a:t>
            </a:r>
            <a:br>
              <a:rPr sz="2800"/>
            </a:b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 – Organization’s image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b site is today one of the most important image creators of an organiz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ad presentation spoils good intentions and turns users awa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ent statistics according to the needs of various user group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Search and navigation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ntegrate data from different collections, including from the past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eep up-to-date, include posting d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lude links to other official statistics and relevant third parties to demonstrate relevance, and cooperation and service attitud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3ADC-1F25-4CF2-A356-346F30CCA2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Developing a dissemination website</a:t>
            </a:r>
            <a:br>
              <a:rPr sz="2800"/>
            </a:b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 – Metadata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centralised database is a preferred way for maintaining metada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Ensures consistency across data holdings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Manage definitions, methodology information, variable information, data collection information in one place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pproach useful for planning, data collection, processing, analysis and dissemination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DAEE-370D-45A3-B710-E00F010091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Developing a dissemination website</a:t>
            </a:r>
            <a:br>
              <a:rPr sz="2800"/>
            </a:b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– Graphical presentation - Maps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ps are ideal for presenting census results on the we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 Second Administrative Level Boundaries data set project (SALB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ho.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nt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hosis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database/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gis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salb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salb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_home.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m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Examples of maps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032A-7430-4959-90E9-AF01A7852C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Developing a dissemination website</a:t>
            </a:r>
            <a:br>
              <a:rPr sz="2800"/>
            </a:b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 – Graphical presentation – Charts (1/2)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VG - open standard for scalable vector graph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Language for describing text-based two-dimensional vector graphics and graphical applications in XML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3.org/Graphics/SVG/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dobe.com/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vg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Web browsers integrate SVG viewer as a plug-in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lso for mobile phones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Open source and commercial editors, e.g.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LIPS Graffit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dobe Illustrat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 number of importers, exporters and convert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018B-B63A-4560-BB58-C29566A4D5F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Developing a dissemination website</a:t>
            </a:r>
            <a:br>
              <a:rPr sz="2800"/>
            </a:b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– Graphical presentation – Charts (2/2)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lash - animation and interactiv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pminder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apminder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org/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ECD/ISTAT Seminar on Dynamic Graphics for Presenting Statistical Indicators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oecd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org/document/26/0,2340,en_21571361_31938349_38241306_1_1_1_1,00.htm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E3BE-C59E-4BDA-9DAD-33CD08A5363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6920" y="2708280"/>
            <a:ext cx="7653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33"/>
                </a:solidFill>
                <a:latin typeface="Arial"/>
              </a:rPr>
              <a:t>Discussion: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9933"/>
                </a:solidFill>
                <a:latin typeface="Arial"/>
              </a:rPr>
              <a:t>Feasible dissemination technology for the 2010 round census</a:t>
            </a:r>
            <a:endParaRPr b="0" lang="en-US" sz="32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E085-58DE-4A7E-AEEF-10A4E7919B6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2349360"/>
            <a:ext cx="85881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C. Sample applications and additional topics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3DDF-A844-4732-8C14-1D9D2E41E6C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Selected applications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vInfo,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evinfo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org/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C-Axis and PX-Web,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pc-axis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cb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se/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perSTAR software suite,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str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.com.au/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yond 20/20,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beyond2020.com/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7FE1-3E0B-409E-9C96-9AB36B3AAE7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Advanced topic – SDMX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atistical Data and Metadata Exchan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atistical community defines tags and structured templ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 provider uses XML to describe and structure data and metadata and makes available on a web serv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 collectors fetch the data at their initiativ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UN Comtrade,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mtrade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un.org/db/help/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omtradeSDMX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aspx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SDMX sponsors,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sdmx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.org/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D37C-72ED-4A68-A037-2788C815CC8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2708280"/>
            <a:ext cx="7437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A. Changing IT environment and its impact on dissemination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9B37-B2EE-4157-B357-384B89E433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Advanced topic – Web services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b service’ is software system designed to support interoperable machine-to-machine interaction over a net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XML-based automatic data upd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uitable for frequently changing data, such as short term indicato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UN ECLAC trade data from Comtrade,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clac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org/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estadisticas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Other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E9AD-29B1-4527-AB90-4D0202BA936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Additional topic - Understanding the cost of dissemination technology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st for not disseminat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Data not used are the most expensive data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13160" indent="-27432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f nobody uses the results, do not collect the data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vesting on productivity and better servic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SO dissemination vs. national dissemin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st savings measu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Key results in print, detailed in electronic format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13160" indent="-27432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Standardize and integrate agency-wide databases and dissemination applications, incl. web content creation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13160" indent="-27432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Use open source and free applications, but note that they have a cost involved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13160" indent="-27432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Negotiate and use bargaining power to reduce cost of licences 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65A3-02BF-40A4-BF65-9AF112441DA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8360" y="2416320"/>
            <a:ext cx="5100480" cy="3235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51280" y="4365360"/>
            <a:ext cx="34923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Verdana"/>
              </a:rPr>
              <a:t>Thank you!</a:t>
            </a:r>
            <a:endParaRPr b="0" lang="en-US" sz="32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ABBD-C159-4B6B-AB3E-8AA2CC97AF9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Trends 1/3 – Today’s applications are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ter-connect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bile but location-specif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sually attrac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terac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r-friend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6447-DF34-407F-8AAB-FA43A8D597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Trends 2/3 - Standards development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tistical standar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More complex and comprehensive standards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Quality and quantity of metadata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Convergence and harmonization of methodologies and metadata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dministrative data as source of official statistics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 exchange standar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SDMX – Statistical Data and Metadata Exchange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DDI - Data Documentation Initiative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Dublin Core Metadata Initiative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FEBB-778E-4544-9EBA-483EA50524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Trends 3/3 - Technology and standards applied together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rease productivity in all statistical, administrative and management oper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vide seamless 24/7 access to data from anywhe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ow differentiated access and charging op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vide new content op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acilitate flexible and diverse product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ow data interchange and update without manual interven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&gt; Census organizations can focus on their primary business, such as measuring the change in the society for just and targeted policy mak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32CE-99F3-4885-8932-32BA6E576E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Dissemination challenges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7786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nging the conventional dissemination mindse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Digital products are a must (image and service)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20720" indent="-27720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One-stop access to data irrespective which organizational unit produced the data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20720" indent="-27720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Outsourcing of selected parts of related IT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uman resources: recruitment, training, reten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velopment of dynamic data retrieval/mining syste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raphical presentation of dat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p-based data presentatio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ensus planning starts from clients and dissemin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0602-B8F8-4E0E-BE87-1267836B24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Understanding clients 1/3</a:t>
            </a:r>
            <a:br>
              <a:rPr sz="2800"/>
            </a:b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 - Types of clients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dinary interested citizens, stud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mercial us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Enterprises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Data re-packagers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Location-specific data users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tional vs international us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7F2E-4C04-428F-A184-D1FED57104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Understanding clients 2/3</a:t>
            </a:r>
            <a:br>
              <a:rPr sz="2800"/>
            </a:b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 - Demanding users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tatisticians, scientists (metadata and microdata)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echnologically advanced users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Politicians 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Other nationally important clients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rnational clients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EC44-76F6-4687-85CB-11B04B585C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04:43:29Z</dcterms:created>
  <dc:creator>Ilpo Survo</dc:creator>
  <dc:description/>
  <dc:language>en-US</dc:language>
  <cp:lastModifiedBy>Paolo Valente</cp:lastModifiedBy>
  <dcterms:modified xsi:type="dcterms:W3CDTF">2007-06-01T14:04:18Z</dcterms:modified>
  <cp:revision>18</cp:revision>
  <dc:subject/>
  <dc:title>Dissemination technologies for population and housing censuses</dc:title>
</cp:coreProperties>
</file>