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F933-25D7-4F70-BD6E-8F0E660D4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00000" y="4080600"/>
            <a:ext cx="7786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A563-26D9-4923-87F8-B4606E6E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0240" y="184428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408060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0240" y="408060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AD8D-7B86-4DF1-BA18-244892E5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25070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2680" y="1844280"/>
            <a:ext cx="25070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844280"/>
            <a:ext cx="25070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00000" y="4080600"/>
            <a:ext cx="25070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2680" y="4080600"/>
            <a:ext cx="25070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080600"/>
            <a:ext cx="25070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7235-C627-4122-BEF5-FE6CB0164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646D-6F1E-4C55-9A94-B48AD7AE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90E8-ACAB-4D1C-B3D6-2FBBB8E1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3799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0240" y="1844280"/>
            <a:ext cx="3799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1670-4198-4715-9BB6-F9862287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85A2-6A95-4127-8820-933B7E80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63640" y="291960"/>
            <a:ext cx="722160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06F2-DD14-4EAB-89B7-E9A0937E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0240" y="1844280"/>
            <a:ext cx="3799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00000" y="408060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2370-38E0-40A7-A936-4CF4FA04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3799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0240" y="184428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0240" y="408060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4C61-AC8E-4A4E-A2D3-6F3CA50B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0240" y="184428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00000" y="4080600"/>
            <a:ext cx="7786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04AA-E0C0-4743-A34E-F95CD81E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1049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10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1049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104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FE46-8422-440C-B4B9-2AC392C8C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636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urvo.unescap@un.or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1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Методы обмена опытом в области ИТ по переписи населения в регионе</a:t>
            </a:r>
            <a:endParaRPr b="0" lang="en-US" sz="32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568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лпо Серво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СКАТО ОО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ангкок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urvo.unescap@un.or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учающего семинара ЕЭК ОНН по технологии переписи для стран-членов СПЕКА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 Астана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7-8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юня 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007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76360" y="0"/>
            <a:ext cx="76676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Экспертные списки</a:t>
            </a: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 (2/3)</a:t>
            </a:r>
            <a:br>
              <a:rPr sz="2800"/>
            </a:b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управление</a:t>
            </a: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9200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о инициатив, но лишь некоторые из них являются устойчивым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ебует ресурсов для создания и поддержа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проверить предоставляемую информацию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зык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щественность посредни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Экспертные списки</a:t>
            </a: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 (3/3)</a:t>
            </a:r>
            <a:br>
              <a:rPr sz="2800"/>
            </a:b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 - </a:t>
            </a: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контроль качества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7640" y="1844280"/>
            <a:ext cx="69850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ранирование вопрос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сылк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комендаци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ценка выполненных задач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Проект ЭСКАТО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 1997-2001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г.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Применение новой технологии при проведении сбора данных по переписи населения, обработке, распространении и опубликовании</a:t>
            </a:r>
            <a:endParaRPr b="0" lang="en-US" sz="24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6000" y="1844280"/>
            <a:ext cx="72104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тоянная рабочая группа экспертов провела оценку новых технологи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тоянство было обеспечено созданием многолетнего проекта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нансируется ЮНФПА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зультаты были использованы дл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уководств по технологиям и лучшей практике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учения и экспозиционных семинаров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остав РГ вошли активные члены развитых и развивающихся стран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ыли даны надежные рекомендации, опробованные в ходе пилотного проект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Региональная программа ЭСКАТО по переписи населения в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2010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г.</a:t>
            </a:r>
            <a:endParaRPr b="0" lang="en-US" sz="24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7786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следование технологий проведения переписи населения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юнь-июль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2007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удет включать вопросы о наличии опыт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треча группы экспертов по вопросу эффективного использования ИТ для проведения переписи населения и жилищного фонда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3-5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тября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гиональные семинары СОООН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КАТО для стран Азии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пользование карт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ИС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Тихого океана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е по ИТ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 получении дополнительных ресурсов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азработка глобальных принципов и рекомендаций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егиональные семинары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уководства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13160" indent="-27432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оздание и управление фондом ресурсов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аза данных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13160" indent="-27432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мощь консультантов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13160" indent="-27432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мен опытом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13160" indent="-27432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еб-форум по обмену знаниями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99640" y="291960"/>
            <a:ext cx="80852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Созыв и планируемые мероприятия</a:t>
            </a:r>
            <a:endParaRPr b="0" lang="en-US" sz="24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95280" y="1844280"/>
            <a:ext cx="649116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ЕЭК ООН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Евростат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Другие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0920" y="291960"/>
            <a:ext cx="83739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Обмен опытом в области ИТ для стран СПЕКА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Обсуждение</a:t>
            </a:r>
            <a:endParaRPr b="0" lang="en-US" sz="24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7280" y="1844280"/>
            <a:ext cx="749952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рианты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Двусторонний обмен опыт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Создать региональный фонд ресурсов СПЕКА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Создать список на русском языке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Обратиться за помощью в вышеуказанные организа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Доступ к информации по технологии</a:t>
            </a:r>
            <a:r>
              <a:rPr b="1" lang="en-GB" sz="2600" spc="-1" strike="noStrike">
                <a:solidFill>
                  <a:srgbClr val="ff9933"/>
                </a:solidFill>
                <a:latin typeface="Arial"/>
              </a:rPr>
              <a:t> – </a:t>
            </a: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настольный поиск и электронная почта</a:t>
            </a:r>
            <a:endParaRPr b="0" lang="en-US" sz="26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исковые машины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исковые метод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йты производителе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уг пользователе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стные ИТ специалисты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щественный и частный секто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пись, проводимая повсеместн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довые национальные веб-разработ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дущие организации по статистике за границе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ждународные организа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63640" y="291600"/>
            <a:ext cx="7221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Источники опыта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00000" y="981000"/>
            <a:ext cx="7786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6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обственно организаци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хнологии развиваются очень быстро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-&gt;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ывшие специалисты или специалисты, привлеченные к предыдущей переписи, уже могут и не быть лучшими в своем деле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13160" indent="-27432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лезен опыт управления предыдущим проектом и оценка применяемых инструментов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96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обственно страна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пособы распознания символов и космические технологии являются универсальными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13160" indent="-27432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ак же как и веб-технологии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13160" indent="-27432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нновационные решения могут поступать от других отраслей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96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вусторонний обмен опытом с другими странами/организациями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96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егиональные или глобальные форумы, встречи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Обычные технологии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793116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лектронная почта для общения друг с друг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скуссионные группы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тевые групп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исок адресатов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исок рассылк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б-сайты, посвященные ИТ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бор ссылок на часто используемых ресурсах третьей сторон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63640" y="62244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Совместное создание содержания</a:t>
            </a: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новые возможности для проведения переписи 2010г.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32000" y="2174400"/>
            <a:ext cx="7354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йты Ви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дение электронных дневников (блогов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еративные автономные списки по типу браузер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Сайты Вики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786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6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озданы в середине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1990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х годов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96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66"/>
                </a:solidFill>
                <a:latin typeface="Arial"/>
              </a:rPr>
              <a:t>Самым крупным является оперативная энциклопедия Википедия с </a:t>
            </a:r>
            <a:r>
              <a:rPr b="1" lang="en-GB" sz="2200" spc="-1" strike="noStrike">
                <a:solidFill>
                  <a:srgbClr val="ffff66"/>
                </a:solidFill>
                <a:latin typeface="Arial"/>
              </a:rPr>
              <a:t>2001</a:t>
            </a:r>
            <a:r>
              <a:rPr b="1" lang="ru-RU" sz="2200" spc="-1" strike="noStrike">
                <a:solidFill>
                  <a:srgbClr val="ffff66"/>
                </a:solidFill>
                <a:latin typeface="Arial"/>
              </a:rPr>
              <a:t>г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96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спользуя простые редакторы маркировочного языка, любой пользователь может инициировать статью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96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66"/>
                </a:solidFill>
                <a:latin typeface="Arial"/>
              </a:rPr>
              <a:t>Возможность добавления дополнительной информации</a:t>
            </a:r>
            <a:r>
              <a:rPr b="1" lang="en-GB" sz="22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1" lang="ru-RU" sz="2200" spc="-1" strike="noStrike">
                <a:solidFill>
                  <a:srgbClr val="ffff66"/>
                </a:solidFill>
                <a:latin typeface="Arial"/>
              </a:rPr>
              <a:t>перекрестных ссылок и цитат</a:t>
            </a:r>
            <a:r>
              <a:rPr b="1" lang="en-GB" sz="22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1" lang="ru-RU" sz="2200" spc="-1" strike="noStrike">
                <a:solidFill>
                  <a:srgbClr val="ffff66"/>
                </a:solidFill>
                <a:latin typeface="Arial"/>
              </a:rPr>
              <a:t>делая содержание динамичным, если информация постоянна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96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оздание кумулятивного, расширяющегося по объему содержания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96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66"/>
                </a:solidFill>
                <a:latin typeface="Arial"/>
              </a:rPr>
              <a:t>Достоверность информации иногда ставится под сомнение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Блоги 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786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логом называется хронологический дневник, содержащий тексты, изображения и ссылки на другие блоги, веб-страницы, а также другие материалы по тем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личается незначительной структурой классификац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тенциально пригодный, но не был опробован для планирования и проведения перепис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граммы по созданию интернет-дневнико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риентированные на пользователя 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риентированные на разработчика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рпоративные блог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EO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(универсальные)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нутренние 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нешние 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Другое 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мен закладкам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рмирование содержа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ле- и видеоконференции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лосовая связь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део через Интернет-протоко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еративные и загружаемые мультимедийные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граммы по технологиям, обучающим курса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Экспертные списки</a:t>
            </a: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 (1/3)</a:t>
            </a:r>
            <a:br>
              <a:rPr sz="2800"/>
            </a:b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технология и задачи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7786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держание в качестве оперативной базы данны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сперты обновляют собственную информацию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ч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правление списком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ак заинтересовать экспертов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нтроль качества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го можно порекомендовать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стоянное обновление информации 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стойчивость  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3T06:22:57Z</dcterms:created>
  <dc:creator>Statistics Division</dc:creator>
  <dc:description/>
  <dc:language>en-US</dc:language>
  <cp:lastModifiedBy>stat2</cp:lastModifiedBy>
  <dcterms:modified xsi:type="dcterms:W3CDTF">2007-06-07T04:45:14Z</dcterms:modified>
  <cp:revision>59</cp:revision>
  <dc:subject/>
  <dc:title>Documenting and disseminating census and survey data sets</dc:title>
</cp:coreProperties>
</file>