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D6B-A0B6-478F-9FC8-15FC73F0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159-397C-4CD1-8757-67815A69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D23-3242-4B76-BDB7-E8167F57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7C0-454C-47FB-85F2-1308B060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931-5EC3-45FC-AB49-D451192C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A0C-8F3D-4677-BED5-0829B2B5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796-1BC2-4F47-BBF4-17518C6D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A8E-FE29-4C00-81F5-29FB6CC0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640" y="291960"/>
            <a:ext cx="7221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0CB-2830-4B5F-9FC2-023A4AB5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EDB-1C19-4F60-809A-40F74734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0D2-6889-4256-90F7-7E681E71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6E6-D74B-4F48-8263-B8AF967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E18A-240E-488E-9E70-9A19D0B93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rvo.unescap@un.or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odalities for exchanging census IT expertise in the region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lpo Survo, United Nations ESCAP, Bangkok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rvo.unescap@un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ECE Training Workshop on Census Technology for SPECA member countries, Astana, 7-8 June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7667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Expert rosters (2/3)</a:t>
            </a:r>
            <a:br>
              <a:rPr sz="2800"/>
            </a:b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– Management 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844280"/>
            <a:ext cx="6923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y initiatives but few sustain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quires resources to set up and main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to review submission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acilitator's role crit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Expert rosters (3/3)</a:t>
            </a:r>
            <a:br>
              <a:rPr sz="2800"/>
            </a:b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- Quality control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7640" y="1844280"/>
            <a:ext cx="69850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reening ques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stimoni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aluation of undertaken assign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ESCAP project 1997-2001: Application of New Technology in Population Data Collection, Processing, Dissemination and Presentation 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6000" y="1844280"/>
            <a:ext cx="7210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anding working party of experts assessed new technolog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tinuity was provided in a multi-year project setting (UNFPA fun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sults were channelled i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uidelines on technologies and good practices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raining and exposure workshops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WP had active members from developed and developing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commendations were credible and pilot-teste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ESCAP regional census programme for 2010 round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survey on census technologies (June-July 2007) will include questions on available experti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pert Group Meeting on effective use of IT for population and housing censuses (3-5 Octobe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SD/ESCAP regional workshops for Asia (use of maps/GIS) and for the Pacific (on IT more broadly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f additional resources can be obtained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moting Global Census Principles and Recommendations: Regional workshop, guidelines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stablish and manage a resource pool (database)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dvisory missions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xchange of expertise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eb-based knowledge sharing forum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291960"/>
            <a:ext cx="8085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Recall ongoing and planned activities of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95280" y="1844280"/>
            <a:ext cx="6491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UN E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Eurosta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Other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291960"/>
            <a:ext cx="83739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Exchange of IT expertise for SPECA countries</a:t>
            </a:r>
            <a:br>
              <a:rPr sz="2400"/>
            </a:b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- Discussion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499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Bilateral exchange of expert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Establish a SPECA regional resource poo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Establish a Russian language rost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Request specific assistance from the above agenci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Accessing information about technologies – Desk search and e-mail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arch engines, search techniq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dors' support si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r commun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cal IT specialists – public and private sec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nsuses conducted elsewhe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ading national web implement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vanced statistical offices abro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tional organiz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Sources of expertise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wn organ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Technology is evolving rapidly -&gt; past censuses or ex-colleagues may not be the best sourc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ast project management and application evaluation expertise usefu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wn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haracter recognition and space-based technologies are universa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o are web-based technologie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novative solutions can come from other sector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lateral exchange with another country/off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gional and global forums, meet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Conventional technology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0560" y="1844280"/>
            <a:ext cx="66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-mail for one-to-one commun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cussion groups: Usenet grou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ling lists (listserv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 sites dedicated to I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 collections on favourite third-party resourc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62244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Collaborative content creation - New opportunities for the 2010 round of censuse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560" y="2174400"/>
            <a:ext cx="66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ogg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ine partially self-managed browser-based ros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Wiki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rn in mid-1990'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The largest is Wikipedia online encyclopaedia, since 200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simple mark-up language editors anyone can initiate artic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Additional information, cross-references and citations are added by others, making the content dynamic, if not volat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umulative, escalating content cre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Reliability of information sometimes questio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Blog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blog is a chronological diary, containing text, images, and links to other blogs, web pages, and other media related to its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vides little structure of classif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tentially useful but not tested in census planning and ta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blog/blogging softw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ser hosted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veloper-hosted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rporate blo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EO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ternal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aring of bookmarks, rating of cont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le and videoconferencing - Voice, video over I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ine and downloadable multimedia introductions to technology, training cours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Expert rosters (1/3)</a:t>
            </a:r>
            <a:br>
              <a:rPr sz="2800"/>
            </a:b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 – Technology and challenge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63280" y="1844280"/>
            <a:ext cx="6923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intain as an online datab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erts update their own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anagement of the roster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ow to attract interest of expert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Quality control: who can be recommended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Keeping information up-to-dat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stainability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06:22:57Z</dcterms:created>
  <dc:creator>Statistics Division</dc:creator>
  <dc:description/>
  <dc:language>en-US</dc:language>
  <cp:lastModifiedBy>Statistics Division</cp:lastModifiedBy>
  <dcterms:modified xsi:type="dcterms:W3CDTF">2007-06-03T09:55:27Z</dcterms:modified>
  <cp:revision>25</cp:revision>
  <dc:subject/>
  <dc:title>Documenting and disseminating census and survey data sets</dc:title>
</cp:coreProperties>
</file>