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DDD-9BAE-427B-A484-6A37F9AC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030-12A5-4554-AA36-AB2F3CA6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5C2-FEE5-4CDF-A00F-37463943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91F-B1CD-4A2E-8BDD-73581D74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05F-2737-4884-AB36-17AA7A1A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44E-38D5-4D6C-8E96-88566A3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9C6-BBD4-4984-A785-3EFFE69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959-7CEF-4A2F-9659-F5302D1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291960"/>
            <a:ext cx="7221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774-4B55-45EE-8165-F2A3645E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A63-3DD5-4EB6-AB6A-3EB72D6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C1E-AFCE-4302-8E3C-CDFC6AF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A47-6978-4C4A-9CFC-838795E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8C0A-13F8-450F-B5FD-D4DEE2E6C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rvo.unescap@un.or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rveynetwork.org/home/docs/Marrakech_Action_Plan_for_Statistics.pdf" TargetMode="External"/><Relationship Id="rId2" Type="http://schemas.openxmlformats.org/officeDocument/2006/relationships/hyperlink" Target="http://www.surveynetwork.org/" TargetMode="External"/><Relationship Id="rId3" Type="http://schemas.openxmlformats.org/officeDocument/2006/relationships/hyperlink" Target="http://www.surveynetwork.org/" TargetMode="External"/><Relationship Id="rId4" Type="http://schemas.openxmlformats.org/officeDocument/2006/relationships/hyperlink" Target="http://www.surveynetwork.org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urveynetwork.org/home/?lvl1=tools&amp;lvl2=documentation&amp;lvl3=toolkit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ds.ac.uk/news/goodPractice.pdf" TargetMode="External"/><Relationship Id="rId2" Type="http://schemas.openxmlformats.org/officeDocument/2006/relationships/hyperlink" Target="http://www.esds.ac.uk/news/goodPractice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Документирование и распространение данных переписи населения и опроса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о Серв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АТО ОО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нгко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o.unescap@un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учающего семинара ЕЭК ОНН по технологии переписи для стран-членов СПЕК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Астан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7-8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юня 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00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17784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Факторы, препятствующие распространению данных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24000" y="2058480"/>
            <a:ext cx="6562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конфиденциальности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ясность или отсутствие национального законодательств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аниченные полномочия статистического агентств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качества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зкий уровень использования данных пользователям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Международные инициативы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ракешский план действий в области статистик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rveynetwork.org/home/docs/Marrakech_Action_Plan_for_Statistics.pd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народная сеть по обследованию домашних хозяйств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urveynetwork.org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о управления микроданными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HS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АТ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ирный бан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PARIS2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ект по улучшению доступа к исследованию микроданных в Азии и Тихом Океа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роект ЭСКАТО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о улучшению доступа к исследованию микроданных в Азии и Тихом Океане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, 2007-2008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гг.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ледование домашних хозяйств, перепись населения и жилищного фонд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бследование предприят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состояния распространения микро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ый реестр и архив данных по переписи жилищного фон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защита и обучающие семина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 практике и техническая помощь по документации и сохранению аноним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3141720"/>
            <a:ext cx="768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.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редства управления микроданным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Средства управления микроданными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езюме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7868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Набор средств программного обеспечения для документирования</a:t>
            </a:r>
            <a:r>
              <a:rPr b="1" lang="en-GB" sz="2000" spc="-1" strike="noStrike">
                <a:solidFill>
                  <a:srgbClr val="ccff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архивирования</a:t>
            </a:r>
            <a:r>
              <a:rPr b="1" lang="en-GB" sz="2000" spc="-1" strike="noStrike">
                <a:solidFill>
                  <a:srgbClr val="ccff66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ccff66"/>
                </a:solidFill>
                <a:latin typeface="Arial"/>
              </a:rPr>
              <a:t>распространения и хранения микроданных </a:t>
            </a:r>
            <a:r>
              <a:rPr b="1" lang="en-GB" sz="2000" spc="-1" strike="noStrike">
                <a:solidFill>
                  <a:srgbClr val="ccff66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дактор метада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анные документального обследования в соответствии с международными стандартами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CD-Rom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здает информационные средства, ориентированные на пользователя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акие как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CD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ебсайты для распространения и архивирования данных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одн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ля просмотра мета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ля перевода данных в разные форматы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Загрузка и использование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кет средств распространения можно закачать 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rveynetwork.org/home/?lvl1=tools&amp;lvl2=documentation&amp;lvl3=toolk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ме редактора метаданны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компоненты пакета средств бесплат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акто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sstar Editor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свободная лицензия для БС всемирного Банка участников МАР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-р, Афганиста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зия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спублика Кыргызста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дов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джикиста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едактор метаданных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е документального обследования в соответствии с международными стандарт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ициатива документирования данны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Д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блинская инициатива по ключевым метаданным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КМ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е и метаданные в одном файл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е могут импортироваться из разных форматов, в т.ч. пакетов статистических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здает документацию обследования в формате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асширяемый язык разметки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(XML)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1844280"/>
            <a:ext cx="6778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Язык для описания данных с использованием управляющих кодов (тэгов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онцептуально тэги аналогичны полям базы данны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айлы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XML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– это обычные текстовые файлы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ожно редактировать текстовыми редакторам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айлы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XML,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как и базу данных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можно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Искать и запрашиват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едактироват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бучающая программа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: http://w3schools.com/x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Пример файла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titl&gt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численный индикаторный кластер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о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05 &lt;/titl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altTitl&gt; MICS &lt;/altTitl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AuthEnty&gt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ционального агентство по статистик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NSO) &lt;/AuthEnty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undAg abbr= «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ИСЕФ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"&gt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ский фонд ОО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&lt;/fundAg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llDate date= "2005-01" event="start"/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llDate date= "2005-03" event="end"/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nation&gt; Popstan &lt;/nation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geogCover&gt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циональны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&lt;/geogCover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sampProc&gt; 5,0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охозяйст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многослойных этапа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/sampProc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respRate&gt; 98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нтов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&lt;/respRate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Преимущества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здание исчерпывающего контрольного списка элементов метаданны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озможность использования содержимого файла путем определения присутствия или отсутствия специальных тэгов в файл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здание каталога базы данных, где можно запрашивать элементы ключевых метаданны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озможность трансформировать файл в формат, более ориентированный на пользователя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такой как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HTML, PDF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айлами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XML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но обмениваться в сети или Интернете при помощи веб-услуг или протокола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тическое документирование данных перепис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чего нужно распространять микроданные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управления микродан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CD-ROM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формирователь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ируется с редактором мета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ет средства, ориентированные на пользователя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D-Rom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бсай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спространения и архивирования данны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M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изготовление по заказу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рэндинг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нешний вид и качества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D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ли вебсайта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диное или многочисленные обследования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221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Процесс работы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CD-ROM </a:t>
            </a: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формирователя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67080" y="4857840"/>
            <a:ext cx="32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434960"/>
            <a:ext cx="312408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990720"/>
            <a:ext cx="28573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оздать новый проект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D-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5440" y="1413000"/>
            <a:ext cx="2743200" cy="855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обавить обзор в проект и выбрать его тип и брэнд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00520" y="2192400"/>
            <a:ext cx="3209760" cy="199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91440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48240" y="1582560"/>
            <a:ext cx="5331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1371600"/>
            <a:ext cx="190512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Выбор составляющего обзора путем открытия файла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DDI-XML 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 Nesst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rebuchet MS"/>
              </a:rPr>
              <a:t>Брэндинг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обзора определяет внешний вид и качество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Trebuchet MS"/>
              </a:rPr>
              <a:t>Тип </a:t>
            </a:r>
            <a:r>
              <a:rPr b="0" lang="en-US" sz="1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обзора определяет содержание метаданных по умолчани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rcRect l="0" t="0" r="0" b="17126"/>
          <a:stretch/>
        </p:blipFill>
        <p:spPr>
          <a:xfrm>
            <a:off x="838080" y="4495680"/>
            <a:ext cx="235296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038400" y="457200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3809880"/>
            <a:ext cx="288288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ажать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лавишу </a:t>
            </a: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av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ля создания интерфейса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380988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419720"/>
            <a:ext cx="3022560" cy="622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Через несколько минут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аш проект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CD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готов к публикации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419720"/>
            <a:ext cx="533520" cy="533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443720" y="5310360"/>
            <a:ext cx="1090800" cy="109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268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5720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6000" y="38098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Пример вывода данных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CD-ROM </a:t>
            </a: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формирователем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267600" cy="210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647960" cy="348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5257800" cy="244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539604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Демонстрация редактора метаданных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786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ый показ с набором данны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stan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кране на английском и русском язык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2416320"/>
            <a:ext cx="5100480" cy="3235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51280" y="4365360"/>
            <a:ext cx="3492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Verdana"/>
              </a:rPr>
              <a:t>Спасибо</a:t>
            </a:r>
            <a:r>
              <a:rPr b="1" lang="en-US" sz="3200" spc="-1" strike="noStrike">
                <a:solidFill>
                  <a:srgbClr val="ff9933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5653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Обсуждение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вопросы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85264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A.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истематическое документирование данных переписи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Качественный набор данных переписи является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8838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тко задокументированны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лючает возможность непредвиденных случа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пользовател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ыстро приступить к работе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йти необходимые данные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нять, что определяют данные и как они создаются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ценить качество 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азвитие технологии документирования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стандартов документирования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е стандарты по метаданны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ая практик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&gt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ая международная практ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циальные средств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 структурирования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ы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кстовые словари кодов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и кодов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одержание метаданных в центральной базе данных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определениям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ологическая информация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по переменным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по сбору данных одновременн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ет согласованность хранилищ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ивный подход к планированию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данны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ботк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у и распространени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Лучшие виды практики документирования данных 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яснительный материа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буется минимум материалов для обеспечения долгосрочной устойчивости и функциональности набора данных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екстуальная информа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атериал о контексте, в рамках которого проводился сбор данных, и об использовании данных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зволяет вторичному пользователю полностью понять предпосылки и процессы сбора данных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ы каталог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иблиографический учет набора данных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я соответствующего признания и ссылк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азовый инструмент, используемый для поиска ресурсов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ds.ac.uk/news/goodPractice.pd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2997000"/>
            <a:ext cx="72216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.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Для чего нужно распространять микроданные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29196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Неиспользованный потенциал микроданных для национального развития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341360"/>
            <a:ext cx="6994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же самым тщательным образом спланированное составление таблиц не могут извлечь всю исчерпывающую информацию из данных перепис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нообрази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оответствия и связанные причины наилучшим образом анализируются при помощи микроданных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-р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слеживание влияния политических вмешательств на целевые группы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пределение масштабов несоответствий внутри страны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чество исследования способству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ff66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увеличению результатов сбора дан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66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Более эффективной постановке национальной политик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6908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66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Более эффективному использованию общественных ресурсов </a:t>
            </a:r>
            <a:r>
              <a:rPr b="0" lang="en-GB" sz="1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4:31:05Z</dcterms:created>
  <dc:creator>Ilpo</dc:creator>
  <dc:description/>
  <dc:language>en-US</dc:language>
  <cp:lastModifiedBy>User</cp:lastModifiedBy>
  <dcterms:modified xsi:type="dcterms:W3CDTF">2007-06-04T08:11:47Z</dcterms:modified>
  <cp:revision>108</cp:revision>
  <dc:subject/>
  <dc:title>Documenting and disseminating census and survey data sets</dc:title>
</cp:coreProperties>
</file>