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CB4-FBDB-46E5-928E-46E001F6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14F-5C4E-4E5B-BA15-856D14D2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83A-07CE-4F90-95C2-3DCC35A7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84428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80600"/>
            <a:ext cx="25070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796-243F-452A-A384-ACF9E64F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6E6-6395-4B38-8F7B-ADBE8446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047-969C-455F-81B1-886CC286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932-E058-4DDC-B6F0-FAE7C65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CE8-1E7F-4DE3-9016-455BAE62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640" y="291960"/>
            <a:ext cx="7221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17F-8FAA-400B-9906-F567553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8AC-6B98-40C9-A21C-8AAC95C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408060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DE2-6D0F-4D52-86FD-4CFE130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844280"/>
            <a:ext cx="3799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4080600"/>
            <a:ext cx="7786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1FE-B94A-4A29-852E-F4ED801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10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658F-248F-4DFB-BE1A-D0698715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rvo.unescap@un.or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rveynetwork.org/home/docs/Marrakech_Action_Plan_for_Statistics.pdf" TargetMode="External"/><Relationship Id="rId2" Type="http://schemas.openxmlformats.org/officeDocument/2006/relationships/hyperlink" Target="http://www.surveynetwork.org/" TargetMode="External"/><Relationship Id="rId3" Type="http://schemas.openxmlformats.org/officeDocument/2006/relationships/hyperlink" Target="http://www.surveynetwork.org/" TargetMode="External"/><Relationship Id="rId4" Type="http://schemas.openxmlformats.org/officeDocument/2006/relationships/hyperlink" Target="http://www.surveynetwork.org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urveynetwork.org/home/?lvl1=tools&amp;lvl2=documentation&amp;lvl3=toolkit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ds.ac.uk/news/goodPractice.pdf" TargetMode="External"/><Relationship Id="rId2" Type="http://schemas.openxmlformats.org/officeDocument/2006/relationships/hyperlink" Target="http://www.esds.ac.uk/news/goodPractice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ocumenting and disseminating census and survey data sets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po Survo, United Nations ESCAP, Bangkok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o.unescap@un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ECE Training Workshop on Census Technology for SPECA member countries, Astana, 7-8 June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17784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Factors that might hinder microdata dissemination </a:t>
            </a:r>
            <a:br>
              <a:rPr sz="2400"/>
            </a:b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- Discussion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24000" y="2058480"/>
            <a:ext cx="6562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erns about data confidenti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mbiguous or missing national legis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rrow mandate of statistical ag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erns about data qu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demand from data us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International initiativ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rakech Action Plan on Statistics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rveynetwork.org/home/docs/Marrakech_Action_Plan_for_Statistics.pd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rnational Household Survey Network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urveynetwork.org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HSN Microdata Management Toolk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SCAP-World Bank-PARIS21 project on improving access to survey microdata in Asia and the Pacif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ESCAP project on improving access to survey microdata in Asia and the Pacific, 2007-2008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usehold surveys and population and housing censuses, not establishment surve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essment of status of microdata disse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 inventory and data archive of household surve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 advocacy and training worksho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-site training and technical advice on documentation and anonym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6400" y="314172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. Microdata Management Toolki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Microdata Management Toolkit – Summary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868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Arial"/>
              </a:rPr>
              <a:t>A set of software tools for the documentation, archiving, dissemination and preservation of microdat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Metadata Ed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ocument survey data in accordance with international standard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CD-Rom Bui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enerates user-friendly outputs, such as CDs, websites, for dissemination and archiving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The Explor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or viewing metadata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668520" indent="-2570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or re-exporting data to various format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Download and us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oolkit can be downloaded  from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rveynetwork.org/home/?lvl1=tools&amp;lvl2=documentation&amp;lvl3=toolk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ept Metadata Editor, all Toolkit components are available for f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sstar Editor: One free license for NSOs of the World bank IDA countries (e.g. Afghanistan, Georgia, Kyrgyz Republic, Moldova, Tajikist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Metadata Editor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cuments survey data in accordance with international stand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Documentation Initiative (DD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blin Core Metadata Initiative (DCM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&amp; metadata in one single f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can be imported from various formats, incl. statistical pack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duces survey documentation in PDF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Extensible Mark-up Language (XML)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1844280"/>
            <a:ext cx="6778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Language to describe data using tag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ags conceptually the same as fields in datab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XML files are regular text fi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an be edited with text edi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XML files, like databases, can be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earched and querie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Edite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Tutorial: http://w3schools.com/x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XML example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titl&gt; Multiple Indicator Cluster Survey 2005 &lt;/titl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altTitl&gt; MICS &lt;/altTitl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AuthEnty&gt; National Statistics Office (NSO) &lt;/AuthEnty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undAg abbr= "UNICEF"&gt;United Nations Children Fund &lt;/fundAg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llDate date= "2005-01" event="start"/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collDate date= "2005-03" event="end"/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nation&gt; Popstan &lt;/nation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geogCover&gt; National &lt;/geogCover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sampProc&gt; 5,000 households, stratified two stages &lt;/sampProc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respRate&gt; 98 percent &lt;/respRate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XML advantage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reation of a comprehensive checklist of useful metadata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otential to assess the content of a file by determining whether particular tags are, or are not, within that fil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Creation of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 dataset catalogue which can be queried for key metadata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otential to transform the file into more user-friendly formats, such as HTML, PDF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XML files can be exchanged across networks or over the Internet using web services or SOA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. Systematic documenting of census data s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. Why to disseminate microdata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. Microdata Management Toolk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CD-ROM Builder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grates with Metadata Ed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s user-friendly outputs (CD-Rom, website) for dissemination and archiving (HTML forma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custom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Branding: look and feel of CD or websit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ontent: single or multiple survey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221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CD-ROM Builder process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67080" y="4857840"/>
            <a:ext cx="327672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434960"/>
            <a:ext cx="312408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990720"/>
            <a:ext cx="28573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reate new CD-ROM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5440" y="1582560"/>
            <a:ext cx="2743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d a survey to the project and select its type and br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00520" y="2192400"/>
            <a:ext cx="3209760" cy="199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91440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48240" y="1582560"/>
            <a:ext cx="5331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1371600"/>
            <a:ext cx="190512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lecting a consisting survey by opening the DDI-XML or Nessta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survey </a:t>
            </a: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branding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determines the overall look and feel of the 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e survey </a:t>
            </a: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type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determines the default metadata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rcRect l="0" t="0" r="0" b="17126"/>
          <a:stretch/>
        </p:blipFill>
        <p:spPr>
          <a:xfrm>
            <a:off x="838080" y="4495680"/>
            <a:ext cx="235296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038400" y="4572000"/>
            <a:ext cx="492120" cy="53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3809880"/>
            <a:ext cx="288288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he </a:t>
            </a: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Sav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button  to generate the HTM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3809880"/>
            <a:ext cx="5335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419720"/>
            <a:ext cx="3022560" cy="622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fter a few minutes, your CD Project is ready for publishi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419720"/>
            <a:ext cx="533520" cy="533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443720" y="5310360"/>
            <a:ext cx="1090800" cy="109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5268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5720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6000" y="38098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221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CD-ROM Builder sample outputs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267600" cy="210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647960" cy="348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5257800" cy="244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581280" y="4191120"/>
            <a:ext cx="539604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Demonstration of Metadata Editor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7868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live demonstration with Popstan dataset, on-screen in English and Russi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2416320"/>
            <a:ext cx="5100480" cy="3235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51280" y="4365360"/>
            <a:ext cx="3492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5653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Discussion, questions, answer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85264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A. Systematic documenting of census data sets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A good census dataset is..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8838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cumented clear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ains no surpri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users 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tart working effectively quickly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nd the data they are interested in 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Understand what the data are measuring and how the data have been create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ssess the quality of the data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Evolving documentation technology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wn documentation standards =&gt; International metadata stand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practices =&gt; International good practi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 hoc tools =&gt; Structuring tools, datab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-based codebooks =&gt; XML-based codeboo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Maintain metadata in a centralised database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 definitions, methodology information, variable information, data collection information in one pl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sures consistency across data hold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ach useful for planning, data collection, processing, analysis and disse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291960"/>
            <a:ext cx="7221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Good practices in data documentation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86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lanatory mater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nimum material required to ensure the long-term viability and functionality of a datase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extual inform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aterial about the context in which the data was collected, and how it was put to use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nables the secondary user to fully understand the background and processes behind the data collection exercise.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taloguing mater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ibliographic record of the dataset, for proper acknowledgement and citation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asic instrument used for resource discovery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ds.ac.uk/news/goodPractice.pd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2997000"/>
            <a:ext cx="72216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B. Why to disseminate microdata?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291960"/>
            <a:ext cx="7437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Untapped potential of microdata for national development</a:t>
            </a:r>
            <a:endParaRPr b="0" lang="en-US" sz="24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658880"/>
            <a:ext cx="6994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the best planned tabulations cannot exhaustively bring out all valuable information from census d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ersity, disparities and related causalities are best analysed from microdata, e.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Tracking the effects of policy interventions on target group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etermining dimensions of within-country disparitie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quality of research would improv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66"/>
                </a:solidFill>
                <a:latin typeface="Arial"/>
              </a:rPr>
              <a:t>=&gt; Return on data collection would increase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676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66"/>
                </a:solidFill>
                <a:latin typeface="Arial"/>
              </a:rPr>
              <a:t>=&gt; National policies could be targeted better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676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ff66"/>
                </a:solidFill>
                <a:latin typeface="Arial"/>
              </a:rPr>
              <a:t>=&gt; More efficient use of public resources 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4:31:05Z</dcterms:created>
  <dc:creator>Ilpo</dc:creator>
  <dc:description/>
  <dc:language>en-US</dc:language>
  <cp:lastModifiedBy>Администратор</cp:lastModifiedBy>
  <dcterms:modified xsi:type="dcterms:W3CDTF">2007-06-03T09:56:31Z</dcterms:modified>
  <cp:revision>54</cp:revision>
  <dc:subject/>
  <dc:title>Documenting and disseminating census and survey data sets</dc:title>
</cp:coreProperties>
</file>