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-41400" bIns="-41400" anchor="t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4095720" y="0"/>
            <a:ext cx="3132000" cy="4636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87000" y="696960"/>
            <a:ext cx="4653000" cy="348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-41400" bIns="-41400" anchor="b">
            <a:noAutofit/>
          </a:bodyPr>
          <a:lstStyle>
            <a:lvl1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-41400" bIns="-41400" anchor="b">
            <a:noAutofit/>
          </a:bodyPr>
          <a:lstStyle>
            <a:lvl1pPr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6C06795C-7956-4EA8-9148-46422DCA7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4120" y="58680"/>
            <a:ext cx="98640" cy="14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250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652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0828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0828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0828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olo Valente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F4D44F9-1C35-4AEF-B351-7D163E54F865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хнология кодирования, редактирования и использования расчетных данных перепис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4000" y="4869000"/>
            <a:ext cx="79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оло Валент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ЭК ООН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8153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инар, проводимый ЕЭК ОНН, по технологии проведения переписи населения для стран-участниц СПЕКА и СНГ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 Астан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7-8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юня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00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404640"/>
            <a:ext cx="5637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Автоматизированное код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13000"/>
            <a:ext cx="822960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cc99"/>
                </a:solidFill>
                <a:latin typeface="Arial"/>
              </a:rPr>
              <a:t>Преимущества</a:t>
            </a:r>
            <a:r>
              <a:rPr b="1" lang="en-US" sz="2200" spc="-1" strike="noStrike">
                <a:solidFill>
                  <a:srgbClr val="00cc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сокая эффективнос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сокое качеств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система разработана правильн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следовательнос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обенно эффективно для структурированного кодирования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жно включить правила кодировани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достатки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чень сложная систем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ебует много времени на разработк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рогостояща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иск систематических ошибок в случае несоответствия алгоритмов и индекс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404640"/>
            <a:ext cx="72723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Arial MT"/>
              </a:rPr>
              <a:t>Кодирование</a:t>
            </a:r>
            <a:r>
              <a:rPr b="1" lang="en-US" sz="3000" spc="-1" strike="noStrike">
                <a:solidFill>
                  <a:srgbClr val="0066ff"/>
                </a:solidFill>
                <a:latin typeface="Arial MT"/>
              </a:rPr>
              <a:t> – </a:t>
            </a:r>
            <a:r>
              <a:rPr b="1" lang="ru-RU" sz="3000" spc="-1" strike="noStrike">
                <a:solidFill>
                  <a:srgbClr val="0066ff"/>
                </a:solidFill>
                <a:latin typeface="Arial MT"/>
              </a:rPr>
              <a:t>практика цикла </a:t>
            </a:r>
            <a:r>
              <a:rPr b="1" lang="en-US" sz="3000" spc="-1" strike="noStrike">
                <a:solidFill>
                  <a:srgbClr val="0066ff"/>
                </a:solidFill>
                <a:latin typeface="Arial MT"/>
              </a:rPr>
              <a:t>200</a:t>
            </a:r>
            <a:r>
              <a:rPr b="1" lang="ru-RU" sz="3000" spc="-1" strike="noStrike">
                <a:solidFill>
                  <a:srgbClr val="0066ff"/>
                </a:solidFill>
                <a:latin typeface="Arial MT"/>
              </a:rPr>
              <a:t>0г</a:t>
            </a: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907920"/>
            <a:ext cx="822960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аны СНГ в целом используют ручное кодирова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оло половины стран-членов ЕЭК ООН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меняют автоматизированное кодировани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комбинации с компьютерным или ручны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большинстве случаев программное обеспечение разрабатывается внутри стра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ное обеспечение автоматизированного кодировани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R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ое кодирование распознанием тек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азработанное Статистическим управлением Кана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же используемое Италией, Великобритани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м.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ценка данных переписи населения и жилищного фонд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”,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лав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II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тегрированная систем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.ч. компьютерное кодировани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CSPro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юро переписи СШ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09480"/>
            <a:ext cx="6324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Кодирование данных переписи цикла </a:t>
            </a: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2010</a:t>
            </a: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700280"/>
            <a:ext cx="822960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прос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Вы планируете проводить кодировку данных следующей перепис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атриваете ли Вы вариант компьютерного кодирова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не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9640" y="549360"/>
            <a:ext cx="7201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2. </a:t>
            </a: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676520"/>
            <a:ext cx="87631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просы по редактировани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88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Какие данные Вы редактировали в предыдущей перепис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Вы редактируете данны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и ли у Вас проблем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476280"/>
            <a:ext cx="7921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2. </a:t>
            </a: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523880"/>
            <a:ext cx="87631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Вопросы по использованию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ходилось ли Вам использовать расчетные данные вместо отсутствующи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если да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SzPct val="81000"/>
              <a:buFont typeface="Helv"/>
              <a:buAutoNum type="arabicPeriod" startAt="2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каким переменны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SzPct val="81000"/>
              <a:buFont typeface="Helv"/>
              <a:buAutoNum type="arabicPeriod" startAt="2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Вы использовали для этого метод и программ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SzPct val="81000"/>
              <a:buFont typeface="Helv"/>
              <a:buAutoNum type="arabicPeriod" startAt="2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вали ли Вы статистические данные на основе расчет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3933720"/>
            <a:ext cx="457200" cy="0"/>
          </a:xfrm>
          <a:prstGeom prst="line">
            <a:avLst/>
          </a:prstGeom>
          <a:ln w="316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3645000"/>
            <a:ext cx="0" cy="30456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404640"/>
            <a:ext cx="7416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600200"/>
            <a:ext cx="822960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ление и исправлени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шиб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анных пере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расчетных данны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писывание значений отсутствующим дан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а подхода взаимосвязаны, и оба термина иногда используются по разно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404640"/>
            <a:ext cx="75596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295280"/>
            <a:ext cx="82296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ные виды ошибо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ибки охвата обследова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-р. упущ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блирова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ибки счетч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ибки респонд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ибки код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ибки ввода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такж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ибки редактирова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609480"/>
            <a:ext cx="7345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700280"/>
            <a:ext cx="77724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жно не тольк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яви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шиб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становить их причин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того, чтобы предпринять соответствующие меры и повысить каче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 редактирования и использования расчетных дан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ысить качество данных перепис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корить анализ данных перепис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виды и источники ошиб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609480"/>
            <a:ext cx="7272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916280"/>
            <a:ext cx="822960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лемм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редактировать, а что НЕ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лексные системы редактирования могут быть сложными и дорогостоящим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 некоторых случаях могут вызвать искажение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уйте относительно простые системы редактирова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04640"/>
            <a:ext cx="74883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700280"/>
            <a:ext cx="82296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цел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редактирования должна бы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имализирующ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ко очевидные ошиб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матизированн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колько возможн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тич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тветствовать другим процедура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тветствовать международным стандар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549360"/>
            <a:ext cx="791064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675"/>
              </a:spcAft>
              <a:buClr>
                <a:srgbClr val="0066ff"/>
              </a:buClr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Кодиров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675"/>
              </a:spcAft>
              <a:buClr>
                <a:srgbClr val="0066ff"/>
              </a:buClr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Редактирование и использование расчетных дан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809880"/>
            <a:ext cx="829152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2280" indent="-152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авочный материа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Aft>
                <a:spcPts val="451"/>
              </a:spcAft>
              <a:buClr>
                <a:srgbClr val="0000ff"/>
              </a:buClr>
              <a:buSzPct val="7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ство по управлению данными переписи населения и жилищного фон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V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-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Aft>
                <a:spcPts val="451"/>
              </a:spcAft>
              <a:buClr>
                <a:srgbClr val="0000ff"/>
              </a:buClr>
              <a:buSzPct val="7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ство по редактированию данных переписи населения и жилищного фо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3048120"/>
            <a:ext cx="18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609480"/>
            <a:ext cx="7561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752480"/>
            <a:ext cx="8229600" cy="45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Основные принципы редактирования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Делать возможным несколько необходимых изменений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Устранять очевидные несоответстви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Обеспечивает записи для ошибочных или отсутствующих данных с использованием других записей по жилищной единице, члену семьи или другим людям домохозяйства или сравнительной группы в качестве руководств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404640"/>
            <a:ext cx="70596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371600"/>
            <a:ext cx="85345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 противоречивой информац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е лицо и супруг(а) одного п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6643800" cy="3782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2924280"/>
            <a:ext cx="151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е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5734080"/>
            <a:ext cx="115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ы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5805360"/>
            <a:ext cx="187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ч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4149720"/>
            <a:ext cx="2448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а семьи (фертильны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414972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пруга (фертильная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1371600"/>
            <a:ext cx="8534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противоречивой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ая разница в возрасте между матерью и ребен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2637000"/>
            <a:ext cx="6553440" cy="3595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404640"/>
            <a:ext cx="70596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3068640"/>
            <a:ext cx="151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е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005360"/>
            <a:ext cx="2737080" cy="76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а семьи               (возраст 5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4076640"/>
            <a:ext cx="216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пруга              (возраст 6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5516640"/>
            <a:ext cx="2087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ын          (возраст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5445000"/>
            <a:ext cx="2087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чь                (возраст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1600200"/>
            <a:ext cx="8458200" cy="50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ходы редактирова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сходящ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tabLst>
                <a:tab algn="l" pos="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довательные дан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первого к последне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очисленные перемен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ллеги-Хол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анные и взаимосвязь между переменными проверяются по домохозяйству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Редактирование отслеживает все ложные данные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истема проводит оценку наилучшего способа изменения данных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04640"/>
            <a:ext cx="70596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371600"/>
            <a:ext cx="845820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Методы использования расчетных данных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ические дан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cold de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спользуется в основном только для </a:t>
            </a: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отсутствующих значений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Значение присваивается из предыдущего набора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ли распределение достоверных ответов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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абор значений со временем не меняетс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намические дан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hot de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спользуется для </a:t>
            </a: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отсутствующих или противоречивых значений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Значение присваивается от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онорского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 аналогичными характеристикам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остоянно изменяетс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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счетные данные ответа со временем меняютс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tabLst>
                <a:tab algn="l" pos="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См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Руководство по редактированию данных переписи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”,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Гл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. II.E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и Приложение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404640"/>
            <a:ext cx="7059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1371600"/>
            <a:ext cx="8458200" cy="49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редактирова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Фатальное редактировани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ределяет ошибки с достоверность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оисковое редактировани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ределяет подозреваемые ошиб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редакт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веряет охват и взаимосвязь различных едини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юд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машние хозяйств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илищная единиц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ласть регистрации 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едактирование данных по населению и жилищному фонду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уководство по редактированию данных перепис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”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лав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III, IV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404640"/>
            <a:ext cx="7059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476280"/>
            <a:ext cx="7561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 MT"/>
              </a:rPr>
              <a:t>Редактирование и использование расчетных данных</a:t>
            </a:r>
            <a:br>
              <a:rPr sz="2800"/>
            </a:br>
            <a:r>
              <a:rPr b="1" lang="ru-RU" sz="2800" spc="-1" strike="noStrike">
                <a:solidFill>
                  <a:srgbClr val="0066ff"/>
                </a:solidFill>
                <a:latin typeface="Arial MT"/>
              </a:rPr>
              <a:t>Практика</a:t>
            </a:r>
            <a:r>
              <a:rPr b="1" lang="en-US" sz="2800" spc="-1" strike="noStrike">
                <a:solidFill>
                  <a:srgbClr val="0066ff"/>
                </a:solidFill>
                <a:latin typeface="Arial MT"/>
              </a:rPr>
              <a:t> </a:t>
            </a:r>
            <a:r>
              <a:rPr b="1" lang="ru-RU" sz="2800" spc="-1" strike="noStrike">
                <a:solidFill>
                  <a:srgbClr val="0066ff"/>
                </a:solidFill>
                <a:latin typeface="Arial MT"/>
              </a:rPr>
              <a:t>переписи </a:t>
            </a:r>
            <a:r>
              <a:rPr b="1" lang="en-US" sz="2800" spc="-1" strike="noStrike">
                <a:solidFill>
                  <a:srgbClr val="0066ff"/>
                </a:solidFill>
                <a:latin typeface="Arial MT"/>
              </a:rPr>
              <a:t>2000</a:t>
            </a:r>
            <a:r>
              <a:rPr b="1" lang="ru-RU" sz="2800" spc="-1" strike="noStrike">
                <a:solidFill>
                  <a:srgbClr val="0066ff"/>
                </a:solidFill>
                <a:latin typeface="Arial MT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844640"/>
            <a:ext cx="822960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стран ЕЭ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3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0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одили компьютерное редактиров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.ч. несколько стран СН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ы проводили автоматизированное использование расчетных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ие страны разработали специальную програм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торые страны использова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S, Oracle, SQL, CS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ценка данных переписи населения и жилищного фонд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”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лав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476280"/>
            <a:ext cx="7561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Редактирование и использование расчетных данных</a:t>
            </a:r>
            <a:br>
              <a:rPr sz="2800"/>
            </a:b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Планы по проведению переписи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20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05120"/>
            <a:ext cx="8381880" cy="36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прос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Вы планируете проводить редактирование и использование расчетных данны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Вы планируете подходы/методы редактирова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476280"/>
            <a:ext cx="7561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Редактирование и использование расчетных данных</a:t>
            </a:r>
            <a:br>
              <a:rPr sz="2800"/>
            </a:b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Планы по проведению переписи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20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905120"/>
            <a:ext cx="838188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прос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ля каких переменных Вы рассматриваете использование расчетных данных вместо отсутствующи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762120"/>
            <a:ext cx="8136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 MT"/>
              </a:rPr>
              <a:t>1. </a:t>
            </a:r>
            <a:r>
              <a:rPr b="1" lang="ru-RU" sz="3600" spc="-1" strike="noStrike">
                <a:solidFill>
                  <a:srgbClr val="0066ff"/>
                </a:solidFill>
                <a:latin typeface="Arial MT"/>
              </a:rPr>
              <a:t>Кодировка данных перепис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523880"/>
            <a:ext cx="822960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прос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вы проводили кодировку данных предыдущей перепис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и ли Вы довольны кодировко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какими проблемами Вы столкнулись при кодировке данны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и ли проблемы с конкретными переменны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533520"/>
            <a:ext cx="689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Кодировка данных перепис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219320"/>
            <a:ext cx="777240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дировка данн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писыва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лассификационного к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тветам анк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кодиро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чн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помощи компьют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матизирова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бин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, b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ологии кодиро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ощен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-р, место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ирован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&gt;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-р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 занят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ерархическ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-р, адр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spcAft>
                <a:spcPts val="451"/>
              </a:spcAft>
              <a:buClr>
                <a:srgbClr val="0000ff"/>
              </a:buClr>
              <a:buSzPct val="7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79840" y="3086280"/>
            <a:ext cx="18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609480"/>
            <a:ext cx="59403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Ручное кодирование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162920" y="3200400"/>
            <a:ext cx="1222200" cy="2685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1851120" cy="1474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1523880"/>
            <a:ext cx="800100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лужащие определяют код при помощ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ловарей кодо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”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 записывают его на анкете для последующей обработ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cc99"/>
                </a:solidFill>
                <a:latin typeface="Arial"/>
              </a:rPr>
              <a:t>Преимущества</a:t>
            </a:r>
            <a:r>
              <a:rPr b="1" lang="en-US" sz="2600" spc="-1" strike="noStrike">
                <a:solidFill>
                  <a:srgbClr val="00cc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егко выполни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уется никаких технолог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Недостатки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ебует много време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ебует много усил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иск непоследовательност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404640"/>
            <a:ext cx="5637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Кодирование при помощи компью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628640"/>
            <a:ext cx="754380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омощь компьютеризированных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омпьютеризированные словари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одо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ак работает этот метод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одирующее устройство печатает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олько несколько символо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истема выбирает согласующиеся списк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одирующее устройство выбирает правильный ко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од автоматически фиксируется системо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spcAft>
                <a:spcPts val="488"/>
              </a:spcAft>
              <a:buClr>
                <a:srgbClr val="0000ff"/>
              </a:buClr>
              <a:buSzPct val="7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04000" y="1676520"/>
            <a:ext cx="205092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609480"/>
            <a:ext cx="5637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Кодирование при помощи компью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00280"/>
            <a:ext cx="754380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cc99"/>
                </a:solidFill>
                <a:latin typeface="Arial"/>
              </a:rPr>
              <a:t>Преимущества</a:t>
            </a:r>
            <a:r>
              <a:rPr b="1" lang="en-US" sz="2600" spc="-1" strike="noStrike">
                <a:solidFill>
                  <a:srgbClr val="00cc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ффективн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сокое качеств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обенно эффективно для структурированного кодирования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ожно включить правила кодировани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Недостатки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носительно сложная систем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ебует много времени на разработк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статочно дорогостояща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609480"/>
            <a:ext cx="5637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Автоматизированное кодирова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01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новано на компьютерных алгоритма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ключает вмешательство операто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кст считывается при помощи ИРС и сопоставляется с индекс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истема приписывает сопоставленному ответу балл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сли балл превышает определенный уровен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вет принимаетс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сли балл ниже этого уровня, требуется вмешательство оператор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дирование при помощи компьютер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609480"/>
            <a:ext cx="5637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 MT"/>
              </a:rPr>
              <a:t>Автоматизированное кодирова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6765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ни сопоставления зависят от используемых алгоритм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ида перемен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имальные уровни сопоставления в идеальных условия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стых переменн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рожд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н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сложных переменн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 занят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работ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н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 несогласованные ответы должны обрабатываться при помощи компьютерного код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za</cp:lastModifiedBy>
  <dcterms:modified xsi:type="dcterms:W3CDTF">2007-06-08T05:01:09Z</dcterms:modified>
  <cp:revision>83</cp:revision>
  <dc:subject/>
  <dc:title>Slide 1</dc:title>
</cp:coreProperties>
</file>