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t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4095720" y="0"/>
            <a:ext cx="3132000" cy="4636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87000" y="696960"/>
            <a:ext cx="4653000" cy="348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b">
            <a:noAutofit/>
          </a:bodyPr>
          <a:lstStyle>
            <a:lvl1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-41400" bIns="-41400" anchor="b">
            <a:noAutofit/>
          </a:bodyPr>
          <a:lstStyle>
            <a:lvl1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27EE9C6-2961-46C7-A3F4-64429819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87360" y="69696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63720" y="4419360"/>
            <a:ext cx="5300640" cy="41878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4120" y="58680"/>
            <a:ext cx="98640" cy="14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250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476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652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08280" indent="-201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olo Valente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CA32524-0409-45CF-97CD-682247FFFF7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echnology for census data coding, editing and impu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000" y="486900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olo Valente (UNE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ECE Workshop on Census Technology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SPECA and CIS member countries 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stana, 7-8 June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Automatic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295280"/>
            <a:ext cx="822960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P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 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od quality (if system developed accuratel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icularly suitable for structured coding (possibility to include coding rul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ry complex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ng time needed for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sk of systematic errors in case of faults in matching algorithms or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609480"/>
            <a:ext cx="6324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Coding – Practices in 2000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371600"/>
            <a:ext cx="822960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general CIS countries used manual co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out half of UNECE countries used automatic coding, in combination with computer-assisted or manual co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 software developed in-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for automatic co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R (Automated Coding by Text Recognition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Statistics Canada, also used by Italy,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“Measuring Population and Housing”, Chapter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software system, including computer assisted coding: CSPro (US Census Bur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09480"/>
            <a:ext cx="6324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Coding in the 2010 census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3880"/>
            <a:ext cx="822960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plans for coding dat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next cens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you considering computer-assisted cod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? …or why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762120"/>
            <a:ext cx="632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2. 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676520"/>
            <a:ext cx="87631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 on ed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88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ich data did you edit in the last census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you edit the data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you have any problem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762120"/>
            <a:ext cx="632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2. 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3880"/>
            <a:ext cx="87631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 on impu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you impute any missing dat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f y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which variab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method and software you u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SzPct val="81000"/>
              <a:buFont typeface="Helv"/>
              <a:buAutoNum type="arabicPeriod" startAt="2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you produce statistics on imputation r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429000"/>
            <a:ext cx="457200" cy="0"/>
          </a:xfrm>
          <a:prstGeom prst="line">
            <a:avLst/>
          </a:prstGeom>
          <a:ln w="316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124080"/>
            <a:ext cx="0" cy="30492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822960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ing = Detecting and correct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rr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census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utation = assigning values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s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wo concepts are related and the two terms are sometimes used in different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8229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rr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 errors (ex. omissions, duplic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or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ent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entry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al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ing erro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295280"/>
            <a:ext cx="77724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not only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t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rrors, but also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cau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to take appropriate measures and improve overal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 of editing and impu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 quality of cens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 analysis of cens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ypes and sources of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523880"/>
            <a:ext cx="822960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lemma: what should be edited and what should NOT be edi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editing systems can be difficult and expensive to implement, and in some cases may introduce distor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for relatively simple editing syst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371600"/>
            <a:ext cx="82296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the editing syste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ist (only obvious err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ed (as much as pos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ant with other NSI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ant with intl.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143000"/>
            <a:ext cx="563724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75"/>
              </a:spcAft>
              <a:buClr>
                <a:srgbClr val="0066ff"/>
              </a:buClr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75"/>
              </a:spcAft>
              <a:buClr>
                <a:srgbClr val="0066ff"/>
              </a:buClr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Editing and i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80773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2280" indent="-1522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book on Census Management for Population and Housing Censuses (Chapter IV, sections D-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book on Population and Housing Census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048120"/>
            <a:ext cx="18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752480"/>
            <a:ext cx="82296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guidelines for ed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the fewest required change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obvious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 entries for erroneous or missing items by using other entries for the housing unit, person, or other persons in the household or comparable group as a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371600"/>
            <a:ext cx="85345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inconsistent informatio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person and spouse have same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394000"/>
            <a:ext cx="6629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371600"/>
            <a:ext cx="85345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inconsistent information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age difference between mother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600200"/>
            <a:ext cx="845820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ing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tabLst>
                <a:tab algn="l" pos="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ms in sequence, from first to l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ple variable (Fellegi-Holt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of statements and relationships among variables are checked in the house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dit keeps track of all fals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stem assess how to best chang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371600"/>
            <a:ext cx="8458200" cy="51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ut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c imputation (or “cold deck”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mainly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ing valu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ssigned from predetermined set, or distribution of valid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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t of values does not change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ynamic imputation (or “hot deck”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ing or inconsisten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ssigned from “donor” with similar characteristics, that changes const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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imputations change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“Handbook on Census Editing”, Ch. II.E and Annex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609480"/>
            <a:ext cx="632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371600"/>
            <a:ext cx="845820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ed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atal edit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dentify errors with certain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ery edit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dentify suspected err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coverage and relations between different units: persons, households, housing units, enumeration area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s for population and housing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“Handbook on Census Editing”, Chapters III, IV and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609480"/>
            <a:ext cx="6324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Practices in 2000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057400"/>
            <a:ext cx="822960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st ECE countries (33 out of 40) performed computer-supported editing, including several CIS count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 countries performed automatic impu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st countries developed specific softw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countries used SAS, Oracle, SQL, CSP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“Measuring Population and Housing”, Chapter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609480"/>
            <a:ext cx="632448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Plans for 2010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905120"/>
            <a:ext cx="8381880" cy="31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plans for editing and imputa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editing approaches/methods are you conside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609480"/>
            <a:ext cx="632448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Editing and imputation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Plans for 2010 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905120"/>
            <a:ext cx="838188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which variables would you consider imputation of missing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762120"/>
            <a:ext cx="632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 MT"/>
              </a:rPr>
              <a:t>1. Census data 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523880"/>
            <a:ext cx="82296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you code the data in the last cens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e you satisfied or not with cod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problems did you find in cod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eriod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problems with specific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53352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Census data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9320"/>
            <a:ext cx="7772400" cy="58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coding = Assign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lassification cod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o the responses written on the census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ing syste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u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uter assis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x of a), b) or 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01"/>
              </a:spcBef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ing methodologi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 (1 or 2 words): ex. Birth pl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ctured (&gt; 1 question): ex. Occup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erarchical: ex.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lphaL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spcAft>
                <a:spcPts val="488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3086280"/>
            <a:ext cx="18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Manual data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222200" cy="268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1851120" cy="147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1523880"/>
            <a:ext cx="8001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rks identify code using “code books”, and write it in the census form for later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P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technology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e consu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bor inte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sk of in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Computer-assiste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905120"/>
            <a:ext cx="7543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isted by computerized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uter-based code boo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it work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r type only few charac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 selects matching 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r choose right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Helv"/>
              <a:buAutoNum type="arabicParenR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de automatically recorded by th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spcAft>
                <a:spcPts val="488"/>
              </a:spcAft>
              <a:buClr>
                <a:srgbClr val="0000ff"/>
              </a:buClr>
              <a:buSzPct val="7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23778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Computer-assiste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71600"/>
            <a:ext cx="7543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P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od qualit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icularly suitable for structured coding (possibility to include coding rul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vely complex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ng time needed for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st relatively hi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Automatic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0100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sed on computerized algorith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human interv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 captured by ICR and matched against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core is assigned by the system to the matched respon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score is above certain level, response accep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score is below level, human intervention is needed (computer-assisted cod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609480"/>
            <a:ext cx="5637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 MT"/>
              </a:rPr>
              <a:t>Automatic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676520"/>
            <a:ext cx="8229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ing rates depend on algorithms used and type of vari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matching rates in ideal circumstan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simple variables (birth place), approx. 8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complex variables (occupation, industry), approx. 5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457200">
              <a:lnSpc>
                <a:spcPct val="100000"/>
              </a:lnSpc>
              <a:buClr>
                <a:srgbClr val="0000ff"/>
              </a:buClr>
              <a:buSzPct val="81000"/>
              <a:buFont typeface="Wingdings" charset="2"/>
              <a:buChar char="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ll responses not matched have to be processed with computer assisted co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7-06-08T05:02:30Z</dcterms:modified>
  <cp:revision>20</cp:revision>
  <dc:subject/>
  <dc:title>Slide 1</dc:title>
</cp:coreProperties>
</file>