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BD9-B2F1-4142-AC01-0F1B874813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88D-C6A2-4985-B607-AF3DC63CCE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2B7-5B85-48E0-8317-0F927F4B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2400" cy="3197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C36-7E0B-4B76-BA93-6EA28AFD26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FE83-42B4-4D88-9875-46AF367820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DA9-C034-44D7-B110-5DE9035A59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D8B9-5ADF-49BB-9C42-2C4CA1D392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C71-B3AD-4D08-8BD7-0EC44605D7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6643-094A-4E2B-8243-460F2F33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348-2922-4B02-9D55-25B7C19E8F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79E6-9ED9-42E1-BB41-A2F7F5347E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1E39-5C0B-4585-B99A-352651651B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8003-B418-4272-B2C2-FAAD41ABEA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C580-64FE-4719-969C-7EA1BC0776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DF7E-F1D1-43F3-AE8B-72967B9D7D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069-FC58-4965-9C48-C987CF45BD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06D9-F93A-41DE-AA26-2779A39008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3F8F-CFC3-4C80-8435-AD5F294A7A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27A-F86F-4DAA-9D92-4BBEE89868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0C0-DCE3-423F-91F8-3D6D23905F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6772-1D30-4E19-88E7-2804F158A2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44D7-C3BC-489E-91C0-9406F2FBBE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F4E-7245-4E62-8E32-F563AE30AD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928-4A14-4EC7-9CED-54A21CC3AE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444-06E3-4724-AEDA-3A4F18FD66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5A14-16EE-4535-B9CB-14B626574D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604-08C2-4A0F-9529-6295806A8D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86F-981B-401C-848C-C9578AC9F5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56A-52AA-4640-80F4-32637DCB05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750C-2B40-45AA-BBDF-AC0DB6E78B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685-6DFC-455D-9271-2527DAC932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246E-E487-4E61-9DFB-E2633BE46B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EDF-F9B0-447C-B79D-F002488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66D-2B62-408C-8FF7-F3D764B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860-A043-4366-BF10-B6DBBC39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C65-E564-4633-99E4-E5668682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EDD-A415-418B-A860-89CA2672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1CB7-4694-4FD9-A442-11C8524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9C1F-2314-486D-92BB-094DB7C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430A-816C-425B-AA4E-2ADB54E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67EE-9E56-4127-91D4-FE29DB1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76FB-A0F6-4516-9732-16C53BA4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228C-EC13-446D-AC13-A6BD1FD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290-EC54-4FA9-936D-DEE79CA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69E-0355-4574-9DD3-5072F04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012C-06CF-4A28-9924-7720744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90D-B48A-4433-9BD1-7EFA4DC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F436-47DB-4FFA-A0E9-E3718D92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B58E-09F4-4D09-B935-9BD29A5E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652-DAF5-4BF8-9891-97ACCEC5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7A7-6CA2-4603-9591-408642A9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487-AC76-4F3C-8AF0-988492A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2BD-3EF7-4FA9-BC27-DE658DE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938-7E70-4105-AE54-BE923C2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B00-32A3-4055-B645-8CBE5F3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EE1-2B29-42B7-92D0-D16A625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886-B502-4706-89F2-08AE5313F1DB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CAAE-D8E5-47F4-9C0C-95D0702E93C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C78F-752E-4B83-8FB8-9A36AD56F08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0" y="461880"/>
            <a:ext cx="15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 Ma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07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ateraleLogoPerPpt"/>
          <p:cNvPicPr/>
          <p:nvPr/>
        </p:nvPicPr>
        <p:blipFill>
          <a:blip r:embed="rId2"/>
          <a:srcRect l="32468" t="18529" r="0" b="6010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4" name="Rettangolo 11"/>
          <p:cNvSpPr/>
          <p:nvPr/>
        </p:nvSpPr>
        <p:spPr>
          <a:xfrm>
            <a:off x="2071800" y="4071960"/>
            <a:ext cx="6429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ртографирование для целей переписи населения и ГИ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Logo a colori"/>
          <p:cNvPicPr/>
          <p:nvPr/>
        </p:nvPicPr>
        <p:blipFill>
          <a:blip r:embed="rId3"/>
          <a:stretch/>
        </p:blipFill>
        <p:spPr>
          <a:xfrm>
            <a:off x="333360" y="357120"/>
            <a:ext cx="1049400" cy="35712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3"/>
          <p:cNvSpPr/>
          <p:nvPr/>
        </p:nvSpPr>
        <p:spPr>
          <a:xfrm>
            <a:off x="2459160" y="5072040"/>
            <a:ext cx="63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би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ескенз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А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тральное управление по вопросам проведения всеобщей переписи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tangolo 15"/>
          <p:cNvSpPr/>
          <p:nvPr/>
        </p:nvSpPr>
        <p:spPr>
          <a:xfrm>
            <a:off x="2214720" y="121428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ющий семинар, проводимый ЕЭК ООН, по технологии проведения переписи населения для стран-участниц СПЕ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Аста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7-8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ю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07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19"/>
          <p:cNvSpPr/>
          <p:nvPr/>
        </p:nvSpPr>
        <p:spPr>
          <a:xfrm>
            <a:off x="2143080" y="35593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бная программа 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0" y="0"/>
          <a:ext cx="9156600" cy="68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660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тировка карт с учетом предыдущей перепис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80" name="Rettangolo 15"/>
          <p:cNvSpPr/>
          <p:nvPr/>
        </p:nvSpPr>
        <p:spPr>
          <a:xfrm>
            <a:off x="92808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11"/>
          <p:cNvSpPr/>
          <p:nvPr/>
        </p:nvSpPr>
        <p:spPr>
          <a:xfrm>
            <a:off x="1928880" y="105264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ажно насколько возможно сохранить границы участков предыдущей переп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обходи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е разбить существующие переписные участки, чем менять гран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tangolo 12"/>
          <p:cNvSpPr/>
          <p:nvPr/>
        </p:nvSpPr>
        <p:spPr>
          <a:xfrm>
            <a:off x="1928880" y="3500280"/>
            <a:ext cx="66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 данных п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им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ускорить процесс анализа изменен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анные включают кодировку всех переписных участков текущей переписи населения и соответствующий код предыдущей переп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частки были разбиты или объединены, это отражается в этих да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а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централизация мероприятий по картограф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89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ttangolo 11"/>
          <p:cNvSpPr/>
          <p:nvPr/>
        </p:nvSpPr>
        <p:spPr>
          <a:xfrm>
            <a:off x="1643040" y="981000"/>
            <a:ext cx="72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носительно небольшом государстве, картографирование для целей переписи населения может проводи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м отделом по кар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ациональной организации по статист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ttangolo 12"/>
          <p:cNvSpPr/>
          <p:nvPr/>
        </p:nvSpPr>
        <p:spPr>
          <a:xfrm>
            <a:off x="1643040" y="342900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ация мероприятий по кар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сколько преимуще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й персонал более знаком с географией, административной структурой и последними изменениями, произошедшими в их регио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 местах обойдется гораздо дешев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путь перемещения будет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95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98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ttangolo 9"/>
          <p:cNvSpPr/>
          <p:nvPr/>
        </p:nvSpPr>
        <p:spPr>
          <a:xfrm>
            <a:off x="2286000" y="1214280"/>
            <a:ext cx="60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считаете, какой метод картографирования для целей переписи населения будет наиболее эффективным для Вашей стр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й под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отдел национальной организации по статистике занимается подготовкой ка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централизованный под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мест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х отделов занимаются подготовкой локальных ка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сточники картографических данных для подготовки карт по переписным участкам 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торичный сбор данных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10"/>
          <p:cNvSpPr/>
          <p:nvPr/>
        </p:nvSpPr>
        <p:spPr>
          <a:xfrm>
            <a:off x="1643040" y="1052640"/>
            <a:ext cx="7286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о всех случаях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картографирования должна учитывать данные существующих печатных карт, включая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е карты государств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асштабом от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:250,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:5,000,000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размеров стран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карты должны отражать основные административные единиц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нахождение городских районо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основные физические характеристики, как дороги, реки, озера, высоту над уровнем моря и специальные координат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карты используются в целях планирования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графические карты крупного и среднего масштаб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карт такого масштаба зависит от стран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которых странах имеются карты полного охвата в масштабе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:25,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:50,000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как в других наибольший масштаб карт составляет всег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:100,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:250,0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ы крупных и малых городов большого масштаб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дорог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ских кварталов, парковых зон и т.д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картографических данных для подготовки карт по переписным участкам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й сбор данных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1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14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10"/>
          <p:cNvSpPr/>
          <p:nvPr/>
        </p:nvSpPr>
        <p:spPr>
          <a:xfrm>
            <a:off x="1714680" y="1003320"/>
            <a:ext cx="72151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эрофотосъемка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/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станционны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эрофотоснимки и дистанционные изображения используются для создания и корректировки основных топографических карт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оведения агрономической и геологической съемк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для многих аспектов городского и территориального планирования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эрофотосъемка, сделанная незадолго до начала переписи населения, обеспечивает полную картину разграничения переписных участков в относительно короткие срок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обальная навигационная 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ГНС применяется для проведения любых работ в картографировани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.ч. при составлении карт для счетчиков для проведения переписи населения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ты загружаются или заносятся вручную в систему цифрового картографирования или ГИС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гут объединяться с существующими данными с привязкой к географическим координатам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г. Скиакка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.Сицилия, Италия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эрофотоснимок и картографирование в целях переписи насе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0840411"/>
          <p:cNvPicPr/>
          <p:nvPr/>
        </p:nvPicPr>
        <p:blipFill>
          <a:blip r:embed="rId1"/>
          <a:stretch/>
        </p:blipFill>
        <p:spPr>
          <a:xfrm>
            <a:off x="971640" y="1197000"/>
            <a:ext cx="7047000" cy="536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 картографирова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лной переписи насе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ая база данных по переписным участк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ttangolo 10"/>
          <p:cNvSpPr/>
          <p:nvPr/>
        </p:nvSpPr>
        <p:spPr>
          <a:xfrm>
            <a:off x="2000160" y="1125360"/>
            <a:ext cx="642960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мбициозная стратегия картографирования для целей переписи населения заключается в создании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лной цифровой базы данных по переписных участкам с привязкой к географическим координата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ая база данных обеспечит группирование, объединение данных со слоями других цифровых карт, а также предоставление пользователям более подробной информации о населении в пространственном отношен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создания базы данных цифровых границ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основе существующих печатных схематических карт, подготовленных для предыдущей переписи населени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основе топографических кар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ходе проведения полевых работ с использованием глобальной навигационной системы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графическая информационная система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С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32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tangolo 10"/>
          <p:cNvSpPr/>
          <p:nvPr/>
        </p:nvSpPr>
        <p:spPr>
          <a:xfrm>
            <a:off x="2000160" y="1052640"/>
            <a:ext cx="657252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Географические информационные системы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И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ффективно применяются в картографировании для целей переписи населени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ИС – это система, предназначенная для сбора, хранения, анализа и управления данными и соответствующими признаками, имеющими пространственное отношение к земл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ИС является инструментом, позволяющим пользователю создавать интерактивный запрос (поиск, созданный пользователе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нализировать пространственные данны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дактировать данны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рты и показывать результат всех этих операци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11"/>
          <p:cNvSpPr/>
          <p:nvPr/>
        </p:nvSpPr>
        <p:spPr>
          <a:xfrm>
            <a:off x="2071800" y="4451400"/>
            <a:ext cx="6429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ГИС представляет собой процесс компилирования последовательного блока пространственных данных различных источников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ртикальная интеграция представляет собой возможность ГИС комбинировать различные уровни данных, привязанных к одной системе координат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б-картограф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3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41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ttangolo 12"/>
          <p:cNvSpPr/>
          <p:nvPr/>
        </p:nvSpPr>
        <p:spPr>
          <a:xfrm>
            <a:off x="2071800" y="1197000"/>
            <a:ext cx="664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ие годы возросло количеств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графических веб-прилож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их как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oogle Maps, MapQuest, Yahoo! Maps, Rand McNall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веб-сайты обеспечивают доступ к большому объему географических данных с акцентом на аэрофотоснимках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ttangolo 15"/>
          <p:cNvSpPr/>
          <p:nvPr/>
        </p:nvSpPr>
        <p:spPr>
          <a:xfrm>
            <a:off x="2071800" y="426708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удущем ожидается повышение роли веб-приложений в процессе картографирования для целей переписи населени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авочный 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02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Diagramma 14" descr=""/>
          <p:cNvPicPr/>
          <p:nvPr/>
        </p:nvPicPr>
        <p:blipFill>
          <a:blip r:embed="rId3"/>
          <a:stretch/>
        </p:blipFill>
        <p:spPr>
          <a:xfrm>
            <a:off x="1920960" y="2494080"/>
            <a:ext cx="6656400" cy="3157560"/>
          </a:xfrm>
          <a:prstGeom prst="rect">
            <a:avLst/>
          </a:prstGeom>
          <a:ln w="0">
            <a:noFill/>
          </a:ln>
        </p:spPr>
      </p:pic>
      <p:sp>
        <p:nvSpPr>
          <p:cNvPr id="106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10"/>
          <p:cNvSpPr/>
          <p:nvPr/>
        </p:nvSpPr>
        <p:spPr>
          <a:xfrm>
            <a:off x="2286000" y="1428840"/>
            <a:ext cx="628668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 географическим информационным системам и цифровому картограф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ОБЪЕДИНЕННЫХ НАЦИ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(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партамент по экономическим и социальным вопросам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по статистике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методов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/ESA/STAT/SER.F/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УБЛИКАЦИЯ ОРГАНИЗАЦИИ ОБЪЕДИНЕННЫХ Н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РАЖ №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0.XVII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825480" y="838080"/>
            <a:ext cx="8318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127160" y="324000"/>
            <a:ext cx="7472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мок земли в поисковой системе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819000" cy="6865920"/>
          </a:xfrm>
          <a:prstGeom prst="rect">
            <a:avLst/>
          </a:prstGeom>
          <a:ln w="0">
            <a:noFill/>
          </a:ln>
        </p:spPr>
      </p:pic>
      <p:sp>
        <p:nvSpPr>
          <p:cNvPr id="247" name="Line 5"/>
          <p:cNvSpPr/>
          <p:nvPr/>
        </p:nvSpPr>
        <p:spPr>
          <a:xfrm>
            <a:off x="0" y="838080"/>
            <a:ext cx="80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61416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pic>
        <p:nvPicPr>
          <p:cNvPr id="250" name="ge_firenze.avi" descr=""/>
          <p:cNvPicPr/>
          <p:nvPr/>
        </p:nvPicPr>
        <p:blipFill>
          <a:blip r:embed="rId3"/>
          <a:stretch/>
        </p:blipFill>
        <p:spPr>
          <a:xfrm>
            <a:off x="1246320" y="909720"/>
            <a:ext cx="70498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825480" y="838080"/>
            <a:ext cx="8318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127160" y="324000"/>
            <a:ext cx="7472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е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ogle Maps A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819000" cy="6865920"/>
          </a:xfrm>
          <a:prstGeom prst="rect">
            <a:avLst/>
          </a:prstGeom>
          <a:ln w="0">
            <a:noFill/>
          </a:ln>
        </p:spPr>
      </p:pic>
      <p:sp>
        <p:nvSpPr>
          <p:cNvPr id="254" name="Line 5"/>
          <p:cNvSpPr/>
          <p:nvPr/>
        </p:nvSpPr>
        <p:spPr>
          <a:xfrm>
            <a:off x="0" y="838080"/>
            <a:ext cx="80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0" y="61416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pic>
        <p:nvPicPr>
          <p:cNvPr id="257" name="gm_roma.avi" descr=""/>
          <p:cNvPicPr/>
          <p:nvPr/>
        </p:nvPicPr>
        <p:blipFill>
          <a:blip r:embed="rId3"/>
          <a:stretch/>
        </p:blipFill>
        <p:spPr>
          <a:xfrm>
            <a:off x="1797120" y="882720"/>
            <a:ext cx="6273720" cy="5432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googlemaps"/>
          <p:cNvPicPr/>
          <p:nvPr/>
        </p:nvPicPr>
        <p:blipFill>
          <a:blip r:embed="rId4"/>
          <a:stretch/>
        </p:blipFill>
        <p:spPr>
          <a:xfrm>
            <a:off x="6372360" y="260280"/>
            <a:ext cx="1428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сточники картографических данных для подготовки карт с целью переписи насе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62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65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ttangolo 10"/>
          <p:cNvSpPr/>
          <p:nvPr/>
        </p:nvSpPr>
        <p:spPr>
          <a:xfrm>
            <a:off x="2050920" y="1844640"/>
            <a:ext cx="666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по Вашему мнению аргументы «за» и «против» в отношении использования следующих источников данных в картографировании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фотосним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дистанционного зон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е топографические к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ы уличных с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ись населения и ад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73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tangolo 10"/>
          <p:cNvSpPr/>
          <p:nvPr/>
        </p:nvSpPr>
        <p:spPr>
          <a:xfrm>
            <a:off x="2286000" y="1071720"/>
            <a:ext cx="65008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ффективность основных этапов подготовки переписи населения и проведения полевых работ обеспечивается наличием качественных списков адресов с географической кодировко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целях контроля количества строений в каждом П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целях предварительной печати списков адресных номеров для счетчиков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целях обеспечения возможности для счетчиков найти, переписать и опросить статистическую единиц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целях обеспечения проведения полевых работ и централизованной проверки зоны перепис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ая система регистра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7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81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tangolo 10"/>
          <p:cNvSpPr/>
          <p:nvPr/>
        </p:nvSpPr>
        <p:spPr>
          <a:xfrm>
            <a:off x="2286000" y="1444680"/>
            <a:ext cx="6500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каждого строения представлен координатой соответствующей географическ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национальной системы регистра адресов требует значительного количества финансовых и людских ресур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такая система создается в странах, где другие органы, н-р, почтовая служба, также заинтересованы в формировании такой баз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 адресов с географической кодиров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86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89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ttangolo 11"/>
          <p:cNvSpPr/>
          <p:nvPr/>
        </p:nvSpPr>
        <p:spPr>
          <a:xfrm>
            <a:off x="2071800" y="1268280"/>
            <a:ext cx="664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торой наилучший» подход возможен при наличии общенациональной баз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ичной се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аст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м базы уличной сети занимается частный сектор для коммерческих и маркетинговы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национальная база уличной сети состоит из участков улиц и дор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12"/>
          <p:cNvSpPr/>
          <p:nvPr/>
        </p:nvSpPr>
        <p:spPr>
          <a:xfrm>
            <a:off x="2071800" y="3933720"/>
            <a:ext cx="657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качественного внешнего списка адресов, общенациональная база уличной сети может использоваться для приблизительного определения местонахождения адресов этого списка и распределения их по переписным участ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3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рес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95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298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ttangolo 10"/>
          <p:cNvSpPr/>
          <p:nvPr/>
        </p:nvSpPr>
        <p:spPr>
          <a:xfrm>
            <a:off x="2286000" y="142884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в Вашей стране Национальная система регистра адре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же как ведется организация базы данных адресов и ул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используете адресные данные при проведении переписи нас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данные и качество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303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06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9"/>
          <p:cNvSpPr/>
          <p:nvPr/>
        </p:nvSpPr>
        <p:spPr>
          <a:xfrm>
            <a:off x="2124000" y="1052640"/>
            <a:ext cx="67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ая документация всех этапов создания цифровой пространственной базы данных для целей переписи населени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о качестве данных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и иная информация, относящаяся к набору данных, имеет несколько задач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 усовершенствование цифровых наборов данных организаци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распространения данных путем предоставления информации о соответствии набора данных внешним пользователям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нтеграции внешних наборов данных с данными организаци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ачеств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31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14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tangolo 9"/>
          <p:cNvSpPr/>
          <p:nvPr/>
        </p:nvSpPr>
        <p:spPr>
          <a:xfrm>
            <a:off x="2286000" y="1357200"/>
            <a:ext cx="574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ая 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сть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антическая точность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ная информация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та базы данных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978200" y="0"/>
            <a:ext cx="6914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точность и точность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319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22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ttangolo 11"/>
          <p:cNvSpPr/>
          <p:nvPr/>
        </p:nvSpPr>
        <p:spPr>
          <a:xfrm>
            <a:off x="2071800" y="1143000"/>
            <a:ext cx="664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ая точность подразумевает достоверность связи географических признаков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, обозначенный пунктом в одной базе данных ГИС, должен находиться в соответствующей административной единице в другом уровне ГИС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tangolo 12"/>
          <p:cNvSpPr/>
          <p:nvPr/>
        </p:nvSpPr>
        <p:spPr>
          <a:xfrm>
            <a:off x="2071800" y="342900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ость координат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верность координат географических признаков в базе данных ГИС по отношению к действительным координатам этих признаков на поверхности земл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графирование для целей перепис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4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11"/>
          <p:cNvSpPr/>
          <p:nvPr/>
        </p:nvSpPr>
        <p:spPr>
          <a:xfrm>
            <a:off x="2286000" y="121428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ение территории страны на един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ные учас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я последовательности и облегчения проведения переп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13"/>
          <p:cNvSpPr/>
          <p:nvPr/>
        </p:nvSpPr>
        <p:spPr>
          <a:xfrm>
            <a:off x="2286000" y="2637000"/>
            <a:ext cx="61437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мероприят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иерархии картографирования для целей переписи населения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инци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круга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ные участк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границ территориальных единиц на карт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списка административных и переписных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истемы географического ко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ко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го участка по спис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, возникающие в результате неточности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32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31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3"/>
          <a:stretch/>
        </p:blipFill>
        <p:spPr>
          <a:xfrm>
            <a:off x="2857680" y="4071960"/>
            <a:ext cx="3941640" cy="2500200"/>
          </a:xfrm>
          <a:prstGeom prst="rect">
            <a:avLst/>
          </a:prstGeom>
          <a:ln w="0">
            <a:noFill/>
          </a:ln>
        </p:spPr>
      </p:pic>
      <p:sp>
        <p:nvSpPr>
          <p:cNvPr id="333" name="Rettangolo 14"/>
          <p:cNvSpPr/>
          <p:nvPr/>
        </p:nvSpPr>
        <p:spPr>
          <a:xfrm>
            <a:off x="2268360" y="907920"/>
            <a:ext cx="64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слева показан пример исследуемых участков, определенных с использованием самой точной глобальной навигационной систем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 на рисунке справа, наоборот, хоть и будучи логически точной, показывает низкую степень точности координат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, некоторые из точно определенных пунктов ГНС подпадают под другие, несоответствующие им, административные единицы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4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данные и качество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339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tangolo 13"/>
          <p:cNvSpPr/>
          <p:nvPr/>
        </p:nvSpPr>
        <p:spPr>
          <a:xfrm>
            <a:off x="1928880" y="1517760"/>
            <a:ext cx="685800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ли у Вас полная цифровая база данных для картографирования в целях проведения переписи нас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основную информацию включают да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об источ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е вре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ые данные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те ли Вы точ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картографирования в проведении переписи насел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20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23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tangolo 16"/>
          <p:cNvSpPr/>
          <p:nvPr/>
        </p:nvSpPr>
        <p:spPr>
          <a:xfrm>
            <a:off x="1785960" y="907920"/>
            <a:ext cx="6786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095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ографирование содействует сбору данных и помогает вести мониторинг мероприятий по переписи населен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095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графирование в проведении переписи населения обеспечивает быстрое определение счетчиками отведенных им домохозяй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 также выдаются и контролирующим органам по переписи населения для обеспечения выполнения задач по планированию и контрол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карты могут выполнять роль мониторинга, способствовать определению проблемных участков и быстрому решению возникших  пробл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tangolo 17"/>
          <p:cNvSpPr/>
          <p:nvPr/>
        </p:nvSpPr>
        <p:spPr>
          <a:xfrm>
            <a:off x="1857240" y="3897360"/>
            <a:ext cx="6715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ографирование облегчает процесс предоставления, анализа и распространения результатов перепис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ботка материалов перепис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графическое представление результатов переписи представляет собой мощный инструмент по наблюдению за результатами переписи, что помогает определению локальной модели основных демографических и социальных показа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ерархия картографирования для целей перепис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3357720" y="1071720"/>
            <a:ext cx="3929040" cy="535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6000" y="1484280"/>
            <a:ext cx="1152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и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06864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734080"/>
            <a:ext cx="1584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сные учас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436572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ные пун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грани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42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5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ttangolo 10"/>
          <p:cNvSpPr/>
          <p:nvPr/>
        </p:nvSpPr>
        <p:spPr>
          <a:xfrm>
            <a:off x="2071800" y="1000080"/>
            <a:ext cx="657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ы населенных пунктов или городских зон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й подход к определению населенных пунктов и городских зон возможен при наличии недавно сделанных аэрофотоснимков или спутниковых снимков наиболее густонаселенных территорий страны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tangolo 11"/>
          <p:cNvSpPr/>
          <p:nvPr/>
        </p:nvSpPr>
        <p:spPr>
          <a:xfrm>
            <a:off x="2071800" y="344160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ицы переписных участк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ы должны быть четко обозрим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ественными признаками для этой цели могут послужить автодороги, железные дороги, малые и большие реки, озера, ограждения либо любой другой признак, четко определяющий гран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ленный пунк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пределению ЕЭК ОН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РОСТА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4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9"/>
          <p:cNvSpPr/>
          <p:nvPr/>
        </p:nvSpPr>
        <p:spPr>
          <a:xfrm>
            <a:off x="2000160" y="868320"/>
            <a:ext cx="65725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целей переписи понятие «населенный пункт» определяется как пространственно ограниченное поселение, где население проживает в близлежащих строениях, которые могу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ывать район сплошной застройки с четко выраженной разбивкой на ули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удучи частью подобного района, образовывать группу строений, носящих уникальное название, присвоенное им местным населением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твечая ни одному из вышеупомянутых требований, образовывать группу строений, из которых ни одно не отстоит от ближайшего соседнего строения более чем на 200 мет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, не проживающее в поселениях, определенных выше, может рассматриваться как население, проживающее в обособленно расположенных строен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бное определение населенного пункта, используемого для целей переписи населения, должно приводиться в отчете о результатах переп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ые материа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59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9"/>
          <p:cNvSpPr/>
          <p:nvPr/>
        </p:nvSpPr>
        <p:spPr>
          <a:xfrm>
            <a:off x="2071800" y="836640"/>
            <a:ext cx="664344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цифровых карт переписных участков, разработанных специально для подготовки всех конечных материалов, которые затем будут передаваться государственным учреждениям и населени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по географическим границам для всех единиц статистического учета, по которым табулируются показатели по переписи насел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ень всех статистических и административных учетных едини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.ч. города и с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географического соответствия, показывающие отношение существующей учетной единицы к единице, используемой в предыдущей переписи населения, или отношение одного блока учетных единиц к друго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ень уличной индексации по всем крупным городским район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оидные данные, показывающие исходную отметку репрезентативного географического пункта по каждой единице статистического уч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3621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ие справочники, содержащие географические координаты всех населенных пунктов, а также другие важные географические характеристики стра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карты переписных участков в городской местности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67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70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1928880" y="857160"/>
            <a:ext cx="58579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33:50Z</dcterms:created>
  <dc:creator>istat</dc:creator>
  <dc:description/>
  <dc:language>en-US</dc:language>
  <cp:lastModifiedBy>User</cp:lastModifiedBy>
  <dcterms:modified xsi:type="dcterms:W3CDTF">2007-05-30T10:45:47Z</dcterms:modified>
  <cp:revision>191</cp:revision>
  <dc:subject/>
  <dc:title>Diapositiva 1</dc:title>
</cp:coreProperties>
</file>