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1FE2-1AF7-4090-A228-F2B0E74CF1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ACDC-8BC9-460B-8BA2-8F47AE7E71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72DA-96CB-472D-9FD0-6814DA0B17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FE9F-6D17-486D-B6D4-2B4765C4134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B9BC-D7FC-4713-B104-8C58D2627BF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E0D4-AF8A-48EE-B0CB-42F6E6DB063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B0B6-C9D5-46F5-A36B-16DBF883D6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4F77-9266-494E-96B4-A60EE4FF28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80D-AABE-49C0-9F62-D422B1F5BF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CB8B-406D-43C5-81A8-1734169F8F3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EAD0-AFEE-488F-B7E7-E07033ED257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2133-E46A-4CE1-BBFE-A2845F61886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BEC4-B11A-4982-BB77-7C29724D4F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A78-8593-4192-B858-C1C11E90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969-1C17-4FA5-B492-D0151F28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C5B-44F4-4B73-9944-6F2D8E9C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C97-D697-4AF6-B567-A3C0EF4B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3A7-A7D8-467C-BB91-61F4058D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B84-9044-42E5-9CE8-D7A56EBB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A0F-8C1C-43E2-B0C7-141897E2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D2F-88FE-4023-9571-36934884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EA7-1BDC-47C5-9913-F92A854E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13D-E85A-4D2C-BDA6-C563164B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26C-9F86-4321-BC3A-E199DB72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2C9-924F-4C93-82A5-BFCD31C5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C79F-4F29-4B7E-8FA2-4C67F11A2072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CCBA-F0B1-4F10-80E6-C94F9E74504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461880"/>
            <a:ext cx="15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 Marz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07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LateraleLogoPerPpt"/>
          <p:cNvPicPr/>
          <p:nvPr/>
        </p:nvPicPr>
        <p:blipFill>
          <a:blip r:embed="rId2"/>
          <a:srcRect l="32468" t="18529" r="0" b="6010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Rettangolo 11"/>
          <p:cNvSpPr/>
          <p:nvPr/>
        </p:nvSpPr>
        <p:spPr>
          <a:xfrm>
            <a:off x="1835280" y="3573360"/>
            <a:ext cx="69847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артографирование для целей переписи населения и ГИ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Часть</a:t>
            </a: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 II: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спространение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Logo a colori"/>
          <p:cNvPicPr/>
          <p:nvPr/>
        </p:nvPicPr>
        <p:blipFill>
          <a:blip r:embed="rId3"/>
          <a:stretch/>
        </p:blipFill>
        <p:spPr>
          <a:xfrm>
            <a:off x="333360" y="357120"/>
            <a:ext cx="1049400" cy="357120"/>
          </a:xfrm>
          <a:prstGeom prst="rect">
            <a:avLst/>
          </a:prstGeom>
          <a:ln w="0">
            <a:noFill/>
          </a:ln>
        </p:spPr>
      </p:pic>
      <p:sp>
        <p:nvSpPr>
          <p:cNvPr id="55" name="CasellaDiTesto 13"/>
          <p:cNvSpPr/>
          <p:nvPr/>
        </p:nvSpPr>
        <p:spPr>
          <a:xfrm>
            <a:off x="2459160" y="5445000"/>
            <a:ext cx="632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би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ескенз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А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тральное управление по вопросам проведения всеобщей переписи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15"/>
          <p:cNvSpPr/>
          <p:nvPr/>
        </p:nvSpPr>
        <p:spPr>
          <a:xfrm>
            <a:off x="2214720" y="1052640"/>
            <a:ext cx="621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ающий семинар, проводимый ЕЭК ООН, по технологии проведения переписи населения для стран-участниц СПЕ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Астан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7-8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юн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2007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9"/>
          <p:cNvSpPr/>
          <p:nvPr/>
        </p:nvSpPr>
        <p:spPr>
          <a:xfrm>
            <a:off x="2143080" y="299736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бная программа на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 просмотра 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36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9"/>
          <p:cNvSpPr/>
          <p:nvPr/>
        </p:nvSpPr>
        <p:spPr>
          <a:xfrm>
            <a:off x="2000160" y="868320"/>
            <a:ext cx="657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бюро переписи населения разработали собственные программы просмотра карт и распространяют их вместе с продуктами данных по переписи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луживание таких программ дорогостоящее, и требует ресурсов, которые можно было бы использовать на разработку данных или их распространение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платные картографические пакет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41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44" name="Rettangolo 15"/>
          <p:cNvSpPr/>
          <p:nvPr/>
        </p:nvSpPr>
        <p:spPr>
          <a:xfrm>
            <a:off x="92808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ttangolo 9"/>
          <p:cNvSpPr/>
          <p:nvPr/>
        </p:nvSpPr>
        <p:spPr>
          <a:xfrm>
            <a:off x="2000160" y="1197000"/>
            <a:ext cx="657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честве альтернативного варианта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несколько бесплатных картографических пакетов, которые прилагаются к базе данных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таких пакетов является программа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pMa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работанная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м разработки программного обеспечения Статистического отдела ООН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ретариата ООН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емого из Фонда народонаселения ООН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тографирование в Интер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49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52" name="Rettangolo 15"/>
          <p:cNvSpPr/>
          <p:nvPr/>
        </p:nvSpPr>
        <p:spPr>
          <a:xfrm>
            <a:off x="934200" y="6488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9"/>
          <p:cNvSpPr/>
          <p:nvPr/>
        </p:nvSpPr>
        <p:spPr>
          <a:xfrm>
            <a:off x="2000160" y="868320"/>
            <a:ext cx="65725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2635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гие национальные организации по статистике используют «всемирную паутину» как средство распространения информации и данных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2635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б-страницы варьируются от простых списков и таблиц результатов переписи населения до усложненных поисковых средств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мощи которых пользователь может запросить специальные сводные таблицы с перекрестными ссылками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2635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нет также удобен для представления и распространения географических данных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м простым способом является представление статических фотокопий карт, созданных организацией по статистике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карт, показывающих  переменные переписи, можно разработать с использованием картографического пакета для настольных систем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авочный 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61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10"/>
          <p:cNvSpPr/>
          <p:nvPr/>
        </p:nvSpPr>
        <p:spPr>
          <a:xfrm>
            <a:off x="2286000" y="1428840"/>
            <a:ext cx="628668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ство по географическим информационным системам и цифровому картограф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а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ОБЪЕДИНЕННЫХ НАЦИЙ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(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партамент по экономическим и социальным вопросам,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 по статистике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методов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ия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7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/ESA/STAT/SER.F/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УБЛИКАЦИЯ ОРГАНИЗАЦИИ ОБЪЕДИНЕННЫХ НАЦ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РАЖ №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0.XVII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978200" y="0"/>
            <a:ext cx="66211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остранение результатов картографирования и Г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69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11"/>
          <p:cNvSpPr/>
          <p:nvPr/>
        </p:nvSpPr>
        <p:spPr>
          <a:xfrm>
            <a:off x="2286000" y="119700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олной цифровой базы данных очень важно для более эффективного распространения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ttangolo 11"/>
          <p:cNvSpPr/>
          <p:nvPr/>
        </p:nvSpPr>
        <p:spPr>
          <a:xfrm>
            <a:off x="2428920" y="2565360"/>
            <a:ext cx="614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аются два вида продуктов распространения да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мые проду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соответствия и сравним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справочных карт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1800" algn="just"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ие кар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инструменты для создания пользовательских тематических ка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анные соответствия и сравним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78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81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11"/>
          <p:cNvSpPr/>
          <p:nvPr/>
        </p:nvSpPr>
        <p:spPr>
          <a:xfrm>
            <a:off x="4929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tangolo 16"/>
          <p:cNvSpPr/>
          <p:nvPr/>
        </p:nvSpPr>
        <p:spPr>
          <a:xfrm>
            <a:off x="1857240" y="1071720"/>
            <a:ext cx="678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нные географического соответствия, показывающие отношение существующей учетной единицы к единице, используемой в предыдущей переписи населения, или отношение одного блока учетных единиц к другому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льзователям данных может потребоваться информация о том, какие переписные участки относятся к данной статистической или административной единице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tangolo 17"/>
          <p:cNvSpPr/>
          <p:nvPr/>
        </p:nvSpPr>
        <p:spPr>
          <a:xfrm>
            <a:off x="1857240" y="4076640"/>
            <a:ext cx="671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Данные сравнимости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акие данные показывают по каждой единице учета списки соответствующих ПУ, являющихся частью этой конечной единицы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ле составления таких списков можно проводить объединение с использованием стандартного набора операций базы данных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ор справочных 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91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sellaDiTesto 11"/>
          <p:cNvSpPr/>
          <p:nvPr/>
        </p:nvSpPr>
        <p:spPr>
          <a:xfrm>
            <a:off x="4929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tangolo 16"/>
          <p:cNvSpPr/>
          <p:nvPr/>
        </p:nvSpPr>
        <p:spPr>
          <a:xfrm>
            <a:off x="1785960" y="907920"/>
            <a:ext cx="678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юро переписи должно также создавать справочные карты для всех единиц статистического учета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екоторых странах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дел картографии для переписи населения в законодательном порядке создает такие карты для государственных чиновников и для населения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tangolo 17"/>
          <p:cNvSpPr/>
          <p:nvPr/>
        </p:nvSpPr>
        <p:spPr>
          <a:xfrm>
            <a:off x="1857240" y="2997360"/>
            <a:ext cx="671544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очные карты могут распространяться в цифровой форме на основе простой компьютерной графики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языке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cript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ли формате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PDF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очные карты должны сопровождаться подробным описанием определений каждого географического переписного участка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достаток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все пользователи могут использовать цифровой формат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, по требованию должны также предоставляться и печатные справочные карты в полном наборе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тические 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98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01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sellaDiTesto 11"/>
          <p:cNvSpPr/>
          <p:nvPr/>
        </p:nvSpPr>
        <p:spPr>
          <a:xfrm>
            <a:off x="4929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ttangolo 16"/>
          <p:cNvSpPr/>
          <p:nvPr/>
        </p:nvSpPr>
        <p:spPr>
          <a:xfrm>
            <a:off x="1785960" y="1071720"/>
            <a:ext cx="678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ы представляют какое-либо понятие или идею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цель карт заключается в поддержке текстовой информации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вещи очень трудно объяснить на словах, тогда как карты эффективно справляются с такой задачей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ы повышают интерес пользовател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привлекают внимание читателя на страницах отчета и способствуют прочтению сопутствующего текста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ы кратко излагают большое количество информации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тическое картографирование данных по переписи насе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10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llaDiTesto 11"/>
          <p:cNvSpPr/>
          <p:nvPr/>
        </p:nvSpPr>
        <p:spPr>
          <a:xfrm>
            <a:off x="4929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16"/>
          <p:cNvSpPr/>
          <p:nvPr/>
        </p:nvSpPr>
        <p:spPr>
          <a:xfrm>
            <a:off x="1785960" y="1071720"/>
            <a:ext cx="678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С облегчает процесс создания карт, а бюро переписи обычно стремиться разработать карты, соответствующие для публикации, отражающие результаты   переписи и дополняющие опубликованные отчеты о переписи населения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ый материал публикуется в виде книги, записывается на компакт-диске или размещается в Интернете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 охватить все карты, интересующие пользователей, можно только подготовить карты, выбранные бюро перепи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978200" y="324000"/>
            <a:ext cx="6621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С и цифровые данные по грани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16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19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sellaDiTesto 11"/>
          <p:cNvSpPr/>
          <p:nvPr/>
        </p:nvSpPr>
        <p:spPr>
          <a:xfrm>
            <a:off x="4929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16"/>
          <p:cNvSpPr/>
          <p:nvPr/>
        </p:nvSpPr>
        <p:spPr>
          <a:xfrm>
            <a:off x="1785960" y="1071720"/>
            <a:ext cx="6786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ос на цифровые базы данных, состоящие из выборочных элементов основной географической цифровой базы данных бюро переписи, будет продолжать расти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и могут применять программное обеспечение ГИС и создавать собственные кар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, конечно же, заключается в том, что такие пользователи не всегда имеют в своем распоряжении пакет ГИС для настольных систем, который используется для создания карт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978200" y="0"/>
            <a:ext cx="662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фровые атласы по переписи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LateraleLogoPerPpt"/>
          <p:cNvPicPr/>
          <p:nvPr/>
        </p:nvPicPr>
        <p:blipFill>
          <a:blip r:embed="rId1"/>
          <a:srcRect l="32453" t="18533" r="0" b="6002"/>
          <a:stretch/>
        </p:blipFill>
        <p:spPr>
          <a:xfrm>
            <a:off x="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125" name="Line 5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-71280" y="359640"/>
            <a:ext cx="154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Logo a colori"/>
          <p:cNvPicPr/>
          <p:nvPr/>
        </p:nvPicPr>
        <p:blipFill>
          <a:blip r:embed="rId2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128" name="Rettangolo 15"/>
          <p:cNvSpPr/>
          <p:nvPr/>
        </p:nvSpPr>
        <p:spPr>
          <a:xfrm>
            <a:off x="933120" y="648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9"/>
          <p:cNvSpPr/>
          <p:nvPr/>
        </p:nvSpPr>
        <p:spPr>
          <a:xfrm>
            <a:off x="2000160" y="868320"/>
            <a:ext cx="657252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ифровые атласы предназначены для широкой публики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кол и других пользователей-неспециалистов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уществует два подхода для создания цифровых атласов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Статистическ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атлас состоит из набора карт и других материалов, подготовленных бюро переписи населения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 сути, это презентация информации, когда пользователь может изменить порядок изучения содержания документа, но не может изменить само содержание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Динамическ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атлас, напротив, объединяет цифровую базу данных ГИС и данные переписи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простом пакете картографирования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льзователь может использовать данные для создания обычных карт, которые можно распечатать или скопировать в другие приложения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2:33:50Z</dcterms:created>
  <dc:creator>istat</dc:creator>
  <dc:description/>
  <dc:language>en-US</dc:language>
  <cp:lastModifiedBy>User</cp:lastModifiedBy>
  <dcterms:modified xsi:type="dcterms:W3CDTF">2007-05-30T10:45:38Z</dcterms:modified>
  <cp:revision>144</cp:revision>
  <dc:subject/>
  <dc:title>Diapositiva 1</dc:title>
</cp:coreProperties>
</file>