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971880" y="0"/>
            <a:ext cx="303696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CA"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8829720"/>
            <a:ext cx="303696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CA"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971880" y="8829720"/>
            <a:ext cx="303696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CA"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801E52-13CB-41CD-8ACA-3587D049792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ior to the start of the non-response follow-up about 22% of responses were received via the Internet. By the completion of data collection operations 2.2 million of 12.1 million responses used the Internet response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sponse by channel: Internet – 18%, Mail – 63%,CHL – 2%,Field –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ternet response pattern: 54% of responses received before May 16</a:t>
            </a:r>
            <a:r>
              <a:rPr b="0" lang="en-CA" sz="1200" spc="-1" strike="noStrike" baseline="30000">
                <a:solidFill>
                  <a:srgbClr val="000000"/>
                </a:solidFill>
                <a:latin typeface="Arial"/>
              </a:rPr>
              <a:t>th</a:t>
            </a:r>
            <a:r>
              <a:rPr b="0" lang="en-CA" sz="1200" spc="-1" strike="noStrike">
                <a:solidFill>
                  <a:srgbClr val="000000"/>
                </a:solidFill>
                <a:latin typeface="Arial"/>
              </a:rPr>
              <a:t>, 12% of responses received on May 16</a:t>
            </a:r>
            <a:r>
              <a:rPr b="0" lang="en-CA" sz="1200" spc="-1" strike="noStrike" baseline="30000">
                <a:solidFill>
                  <a:srgbClr val="000000"/>
                </a:solidFill>
                <a:latin typeface="Arial"/>
              </a:rPr>
              <a:t>th</a:t>
            </a:r>
            <a:r>
              <a:rPr b="0" lang="en-CA" sz="1200" spc="-1" strike="noStrike">
                <a:solidFill>
                  <a:srgbClr val="000000"/>
                </a:solidFill>
                <a:latin typeface="Arial"/>
              </a:rPr>
              <a:t>. 33% of responses received after May 16</a:t>
            </a:r>
            <a:r>
              <a:rPr b="0" lang="en-CA" sz="1200" spc="-1" strike="noStrike" baseline="30000">
                <a:solidFill>
                  <a:srgbClr val="000000"/>
                </a:solidFill>
                <a:latin typeface="Arial"/>
              </a:rPr>
              <a:t>th</a:t>
            </a:r>
            <a:r>
              <a:rPr b="0" lang="en-CA"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ensure good system performance for respondents, all of the system’s components were closely monitored and if any component showed signs of stress respondents attempting to log in were temporarily asked to “come back later”.  Respondents already on the system were able to continue and submit their forms. Graceful deferral was invoked frequently after 6pm on May 16</a:t>
            </a:r>
            <a:r>
              <a:rPr b="0" lang="en-CA" sz="1200" spc="-1" strike="noStrike" baseline="30000">
                <a:solidFill>
                  <a:srgbClr val="000000"/>
                </a:solidFill>
                <a:latin typeface="Arial"/>
              </a:rPr>
              <a:t>th</a:t>
            </a:r>
            <a:r>
              <a:rPr b="0" lang="en-CA" sz="1200" spc="-1" strike="noStrike">
                <a:solidFill>
                  <a:srgbClr val="000000"/>
                </a:solidFill>
                <a:latin typeface="Arial"/>
              </a:rPr>
              <a:t>. We estimate that approximately 115,000 respondents were deferred on Census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itial indicators of data quality from the Internet responses are very positive. The edit failure rates are much lower for questionnaires received from the Internet than for paper questionnaires. Although it varies depending on the question, comparisons for the item non response rate before FEFU show that the item non-response rate for paper short forms is on average 90 times higher than for internet short forms and on average 15 times higher for paper long forms than for internet long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0,000 households were mailed a letter instead of questionnaire inviting them to complete their Census questionnaire on-line. From this sample the Internet response rate 62%. When one considers that the Internet penetration rate in Canada is roughly 70%, the proportion of letter recipients who chose to respond via the internet is very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veraging on the success of the Push strategy, a reminder letter signed by the Chief Statistician was sent to 500,000 dwellings on July 24, 2006 from which no response had been registered as of July 18, 2006. We estimate that this letter generated 125,000 additional responses (Internet, Mail, CHL) without the need for a visit from field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6960"/>
            <a:ext cx="4648320" cy="3486240"/>
          </a:xfrm>
          <a:prstGeom prst="rect">
            <a:avLst/>
          </a:prstGeom>
          <a:ln w="0">
            <a:noFill/>
          </a:ln>
        </p:spPr>
      </p:sp>
      <p:sp>
        <p:nvSpPr>
          <p:cNvPr id="1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nger than expected - (26 sessions with Empirix – vs. max. 8 planned.  The last test concluded April 26</a:t>
            </a:r>
            <a:r>
              <a:rPr b="0" lang="en-CA" sz="1200" spc="-1" strike="noStrike" baseline="30000">
                <a:solidFill>
                  <a:srgbClr val="000000"/>
                </a:solidFill>
                <a:latin typeface="Arial"/>
              </a:rPr>
              <a:t>th</a:t>
            </a:r>
            <a:r>
              <a:rPr b="0" lang="en-CA" sz="1200" spc="-1" strike="noStrike">
                <a:solidFill>
                  <a:srgbClr val="000000"/>
                </a:solidFill>
                <a:latin typeface="Arial"/>
              </a:rPr>
              <a:t>, 126 hours before the site went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isleading - (showed we could accommodate 12,000 concurrent users filling out 2A forms simultaneously, with close to 20 logins per second.  On May 16</a:t>
            </a:r>
            <a:r>
              <a:rPr b="0" lang="en-CA" sz="1200" spc="-1" strike="noStrike" baseline="30000">
                <a:solidFill>
                  <a:srgbClr val="000000"/>
                </a:solidFill>
                <a:latin typeface="Arial"/>
              </a:rPr>
              <a:t>th</a:t>
            </a:r>
            <a:r>
              <a:rPr b="0" lang="en-CA" sz="1200" spc="-1" strike="noStrike">
                <a:solidFill>
                  <a:srgbClr val="000000"/>
                </a:solidFill>
                <a:latin typeface="Arial"/>
              </a:rPr>
              <a:t>, we invoked graceful deferral repeatedly to prevent the 6 Local web servers at secure channel from being driven to 100% CPU, and having in excess of 1000 TCP connections.  During this time we averaged between 4 and 5 logins and submits per second – less than 25% of our design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D – the GD strategy was critical to our success and allowed us to avert a complete and crippling shut down.  During volume testing various thresholds were identified for the different parts of the solution.  Alarms were triggered when any of the thresholds were approached, a conference bridge established and key technical and management resources evaluated the facts and took appropriate action.  Basically the Secure Channel LWS servers on Census night were pushed to 100%, and to prevent the experience of all the respondents on the system from deteriorating, pressure was relieved from the LWS servers by preventing additional respondents from logging in.  When the LWS servers had recovered (lower CPU, fewer TCP connections) the GD page would be revoked, and more users allowed to log in.  This put the LWS servers back into stress, and GD was re-invoked.  This occurred all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nger than expected - (26 sessions with Empirix – vs. max. 8 planned.  The last test concluded April 26</a:t>
            </a:r>
            <a:r>
              <a:rPr b="0" lang="en-CA" sz="1200" spc="-1" strike="noStrike" baseline="30000">
                <a:solidFill>
                  <a:srgbClr val="000000"/>
                </a:solidFill>
                <a:latin typeface="Arial"/>
              </a:rPr>
              <a:t>th</a:t>
            </a:r>
            <a:r>
              <a:rPr b="0" lang="en-CA" sz="1200" spc="-1" strike="noStrike">
                <a:solidFill>
                  <a:srgbClr val="000000"/>
                </a:solidFill>
                <a:latin typeface="Arial"/>
              </a:rPr>
              <a:t>, 126 hours before the site went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isleading - (showed we could accommodate 12,000 concurrent users filling out 2A forms simultaneously, with close to 20 logins per second.  On May 16</a:t>
            </a:r>
            <a:r>
              <a:rPr b="0" lang="en-CA" sz="1200" spc="-1" strike="noStrike" baseline="30000">
                <a:solidFill>
                  <a:srgbClr val="000000"/>
                </a:solidFill>
                <a:latin typeface="Arial"/>
              </a:rPr>
              <a:t>th</a:t>
            </a:r>
            <a:r>
              <a:rPr b="0" lang="en-CA" sz="1200" spc="-1" strike="noStrike">
                <a:solidFill>
                  <a:srgbClr val="000000"/>
                </a:solidFill>
                <a:latin typeface="Arial"/>
              </a:rPr>
              <a:t>, we invoked graceful deferral repeatedly to prevent the 6 Local web servers at secure channel from being driven to 100% CPU, and having in excess of 1000 TCP connections.  During this time we averaged between 4 and 5 logins and submits per second – less than 25% of our design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D – the GD strategy was critical to our success and allowed us to avert a complete and crippling shut down.  During volume testing various thresholds were identified for the different parts of the solution.  Alarms were triggered when any of the thresholds were approached, a conference bridge established and key technical and management resources evaluated the facts and took appropriate action.  Basically the Secure Channel LWS servers on Census night were pushed to 100%, and to prevent the experience of all the respondents on the system from deteriorating, pressure was relieved from the LWS servers by preventing additional respondents from logging in.  When the LWS servers had recovered (lower CPU, fewer TCP connections) the GD page would be revoked, and more users allowed to log in.  This put the LWS servers back into stress, and GD was re-invoked.  This occurred all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nada's most recent census of population was conducted on May 16, 2006. All residents in private dwellings were offered the option of responding either by means of a printed questionnaire or via the Internet. An Internet access code was printed on the front cover of each questionnaire mailed to the household or delivered by an enumerator. The respondent accessed his/her Internet questionnaire - long or short as pre-assigned to the dwelling - by going to the Census Internet site and entering his/her access code. The Internet response mode provided a highly secure, reliable and easy-to-use application that was well received by the Canadian popul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1160" y="696960"/>
            <a:ext cx="4648320" cy="3486240"/>
          </a:xfrm>
          <a:prstGeom prst="rect">
            <a:avLst/>
          </a:prstGeom>
          <a:ln w="0">
            <a:noFill/>
          </a:ln>
        </p:spPr>
      </p:sp>
      <p:sp>
        <p:nvSpPr>
          <p:cNvPr id="1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number of factors led us to consider moving away from the traditional approach for the 2006 Census. These include privacy concerns, in particular the local enumerator issue and the physical security of completed questionnaires.  Since the 1981 Census, STC has relied on the Canada Customs and Revenue Agency (now Canada Revenue Agency [CRA]) facilities to capture the census data through a manual keying operation.  More and more the CRA is moving to electronic filing and there was considerable concern that by 2006, it may not have the capacity needed to key the census responses.  In the long run, we needed to find a suitable and efficient replacement to manual keying.  Another factor was the Government On-Line initiative.  The government stated that by 2005 all transactions that Canadians have with the federal government should be available online.  It was in our interest to provide respondents with an Internet option to return their census information to us.  Recruitment and retention of staff was a problem in the 2001 Census and was likely to be a problem in 2006. Anything that we could do to reduce the number of people we needed to hire and make their job simpler was advantage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1160" y="696960"/>
            <a:ext cx="4648320" cy="3486240"/>
          </a:xfrm>
          <a:prstGeom prst="rect">
            <a:avLst/>
          </a:prstGeom>
          <a:ln w="0">
            <a:noFill/>
          </a:ln>
        </p:spPr>
      </p:sp>
      <p:sp>
        <p:nvSpPr>
          <p:cNvPr id="1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6, two thirds of Canadian households received their census questionnaire in the mail. By going to a mail out/mail back approach for collection field staff requirements were reduced from 50,000 in previous censuses to a planned 27,000 in 2006 although that number was never re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eted questionnaires were directed to one central Data Processing Centre (DPC) where they were scanned and captured using automated capture technology.  They were then be run through automated edits checking for missing information, and those records that failed the edit were directed to a regional computer-assisted telephone interviewing (CATI) office for telephone follow-up.  By having all the questionnaires coming back to a central location and going through automated editing and telephone follow-up we bypassed the local enumerator proble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application was designed so that after a respondent uses it to submit their questionnaire, no software trace (footprint) was left on his/her computer. Respondents who completed the long census questionnaires were able to save their partially completed form and establish a password. By using their password in conjunction with their Internet access code, respondents could complete their form over multiple sessions. </a:t>
            </a:r>
            <a:r>
              <a:rPr b="0" lang="en-CA" sz="1200" spc="-1" strike="noStrike">
                <a:solidFill>
                  <a:srgbClr val="000000"/>
                </a:solidFill>
                <a:latin typeface="Arial"/>
              </a:rPr>
              <a:t>In addition to traditional SSL-based encryption, Statistics Canada used an innovative technology of bi-directional encryption and secure session management called SEAL (Session Encryption with Automated Log-In) to provide an even more secure carrier for respondent data. With bi-directional encryption, an additional, more secure (1024 bit) layer of encryption protected data when transmitted round-trip between the user's browser and Statistics Canada. SEAL also efficiently managed the underlying Public Key Infrastructure (PKI) certificates and simplified the login process from the respondents' viewpoint. The PKI certificates issued for the Census were anonymous and used for this one purpose only. This technology was not obtrusive and most respondents never noticed the PKI and the additional encryption em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488061-71C5-406A-B4AC-41286CACA0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457200" y="17827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1468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FF519-890A-49E7-8628-6DDCBD495A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 name="PlaceHolder 2"/>
          <p:cNvSpPr>
            <a:spLocks noGrp="1"/>
          </p:cNvSpPr>
          <p:nvPr>
            <p:ph/>
          </p:nvPr>
        </p:nvSpPr>
        <p:spPr>
          <a:xfrm>
            <a:off x="457200" y="1782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782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1468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1468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71884D-399E-4E23-B85D-149007410F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457200" y="1782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782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782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1468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1468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1468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E06993-A5DC-45DE-B891-7A2DC899D8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type="subTitle"/>
          </p:nvPr>
        </p:nvSpPr>
        <p:spPr>
          <a:xfrm>
            <a:off x="457200" y="17827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457200" y="17827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7827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p:nvPr>
        </p:nvSpPr>
        <p:spPr>
          <a:xfrm>
            <a:off x="457200" y="1782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7827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41468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type="subTitle"/>
          </p:nvPr>
        </p:nvSpPr>
        <p:spPr>
          <a:xfrm>
            <a:off x="457200" y="17827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30449-87C9-4513-960F-DA90BEC351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7827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782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41468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1782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782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41468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17827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41468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782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782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41468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41468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457200" y="1782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782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782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41468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41468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41468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E5E56-277A-47A2-A79B-72DD14D108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17827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7827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B4920-F636-4374-8CE1-3077E54FD3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528F8DBC-3A2D-4033-B5F6-7A74C336D5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FB8E17E-B924-4A18-9523-9740E138E1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457200" y="1782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7827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1468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957CA-611E-4D53-BDF5-A7E9AA6F95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457200" y="17827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82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1468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FDC0AA-C88D-44AC-A2A9-F6DF267BD6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457200" y="1782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782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1468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2E86F-A56D-4670-995D-C45BC767A2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782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492000" y="63813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F401-E5DC-42D1-BA5C-32C99C65AE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981920" y="6464160"/>
            <a:ext cx="971640" cy="2667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752480" y="1341360"/>
            <a:ext cx="7086600" cy="19044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3"/>
          <a:stretch/>
        </p:blipFill>
        <p:spPr>
          <a:xfrm>
            <a:off x="304920" y="260280"/>
            <a:ext cx="1761840" cy="142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22762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pic>
        <p:nvPicPr>
          <p:cNvPr id="44" name="" descr=""/>
          <p:cNvPicPr/>
          <p:nvPr/>
        </p:nvPicPr>
        <p:blipFill>
          <a:blip r:embed="rId2"/>
          <a:stretch/>
        </p:blipFill>
        <p:spPr>
          <a:xfrm>
            <a:off x="7993080" y="6459480"/>
            <a:ext cx="971640" cy="266760"/>
          </a:xfrm>
          <a:prstGeom prst="rect">
            <a:avLst/>
          </a:prstGeom>
          <a:ln w="0">
            <a:noFill/>
          </a:ln>
        </p:spPr>
      </p:pic>
      <p:pic>
        <p:nvPicPr>
          <p:cNvPr id="45" name="" descr=""/>
          <p:cNvPicPr/>
          <p:nvPr/>
        </p:nvPicPr>
        <p:blipFill>
          <a:blip r:embed="rId3"/>
          <a:stretch/>
        </p:blipFill>
        <p:spPr>
          <a:xfrm>
            <a:off x="3564000" y="404640"/>
            <a:ext cx="1762200" cy="1427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916280"/>
            <a:ext cx="8352000" cy="32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STICS CANADA – 2006 CENSUS ON</a:t>
            </a:r>
            <a:br>
              <a:rPr sz="2800"/>
            </a:br>
            <a:r>
              <a:rPr b="1" lang="en-US" sz="2800" spc="-1" strike="noStrike">
                <a:solidFill>
                  <a:srgbClr val="000000"/>
                </a:solidFill>
                <a:latin typeface="Arial"/>
              </a:rPr>
              <a:t>THE INTERNET</a:t>
            </a:r>
            <a:br>
              <a:rPr sz="2800"/>
            </a:br>
            <a:br>
              <a:rPr sz="2400"/>
            </a:br>
            <a:r>
              <a:rPr b="0" lang="en-US" sz="2400" spc="-1" strike="noStrike">
                <a:solidFill>
                  <a:srgbClr val="000000"/>
                </a:solidFill>
                <a:latin typeface="Arial"/>
              </a:rPr>
              <a:t> </a:t>
            </a:r>
            <a:r>
              <a:rPr b="1" lang="en-US" sz="2800" spc="-1" strike="noStrike">
                <a:solidFill>
                  <a:srgbClr val="000000"/>
                </a:solidFill>
                <a:latin typeface="Arial"/>
              </a:rPr>
              <a:t>CES Group of Experts on Population and Housing Censuses </a:t>
            </a:r>
            <a:br>
              <a:rPr sz="2800"/>
            </a:br>
            <a:endParaRPr b="0" lang="en-US" sz="2800" spc="-1" strike="noStrike">
              <a:solidFill>
                <a:srgbClr val="000000"/>
              </a:solidFill>
              <a:latin typeface="Arial"/>
            </a:endParaRPr>
          </a:p>
        </p:txBody>
      </p:sp>
      <p:sp>
        <p:nvSpPr>
          <p:cNvPr id="91" name="PlaceHolder 2"/>
          <p:cNvSpPr>
            <a:spLocks noGrp="1"/>
          </p:cNvSpPr>
          <p:nvPr>
            <p:ph type="subTitle"/>
          </p:nvPr>
        </p:nvSpPr>
        <p:spPr>
          <a:xfrm>
            <a:off x="5508360" y="5516280"/>
            <a:ext cx="3017880" cy="7189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na, Kazakhsta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826920" y="1773360"/>
          <a:ext cx="7560000" cy="4619520"/>
        </p:xfrm>
        <a:graphic>
          <a:graphicData uri="http://schemas.openxmlformats.org/presentationml/2006/ole">
            <p:oleObj r:id="rId1" spid="">
              <p:embed/>
              <p:pic>
                <p:nvPicPr>
                  <p:cNvPr id="109" name="" descr=""/>
                  <p:cNvPicPr/>
                  <p:nvPr/>
                </p:nvPicPr>
                <p:blipFill>
                  <a:blip r:embed="rId2"/>
                  <a:stretch/>
                </p:blipFill>
                <p:spPr>
                  <a:xfrm>
                    <a:off x="826920" y="1773360"/>
                    <a:ext cx="7560000" cy="4619520"/>
                  </a:xfrm>
                  <a:prstGeom prst="rect">
                    <a:avLst/>
                  </a:prstGeom>
                  <a:ln w="0">
                    <a:noFill/>
                  </a:ln>
                </p:spPr>
              </p:pic>
            </p:oleObj>
          </a:graphicData>
        </a:graphic>
      </p:graphicFrame>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2195640" y="333360"/>
            <a:ext cx="66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nsus Secure Infrastructure</a:t>
            </a:r>
            <a:endParaRPr b="0" lang="en-US" sz="3600" spc="-1" strike="noStrike">
              <a:solidFill>
                <a:srgbClr val="000000"/>
              </a:solidFill>
              <a:latin typeface="Arial"/>
            </a:endParaRPr>
          </a:p>
        </p:txBody>
      </p:sp>
      <p:sp>
        <p:nvSpPr>
          <p:cNvPr id="2" name="PlaceHolder 1"/>
          <p:cNvSpPr>
            <a:spLocks noGrp="1"/>
          </p:cNvSpPr>
          <p:nvPr>
            <p:ph type="sldNum" idx="1"/>
          </p:nvPr>
        </p:nvSpPr>
        <p:spPr/>
        <p:txBody>
          <a:bodyPr/>
          <a:p>
            <a:fld id="{6C495AF0-5EB4-48E5-9434-9D269BCF31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t>
            </a:r>
            <a:r>
              <a:rPr b="0" lang="en-US" sz="3600" spc="-1" strike="noStrike">
                <a:solidFill>
                  <a:srgbClr val="000000"/>
                </a:solidFill>
                <a:latin typeface="Arial"/>
              </a:rPr>
              <a:t>ession </a:t>
            </a:r>
            <a:r>
              <a:rPr b="1" lang="en-US" sz="3600" spc="-1" strike="noStrike">
                <a:solidFill>
                  <a:srgbClr val="000000"/>
                </a:solidFill>
                <a:latin typeface="Arial"/>
              </a:rPr>
              <a:t>E</a:t>
            </a:r>
            <a:r>
              <a:rPr b="0" lang="en-US" sz="3600" spc="-1" strike="noStrike">
                <a:solidFill>
                  <a:srgbClr val="000000"/>
                </a:solidFill>
                <a:latin typeface="Arial"/>
              </a:rPr>
              <a:t>ncryption </a:t>
            </a:r>
            <a:br>
              <a:rPr sz="3600"/>
            </a:br>
            <a:r>
              <a:rPr b="0" lang="en-US" sz="3600" spc="-1" strike="noStrike">
                <a:solidFill>
                  <a:srgbClr val="000000"/>
                </a:solidFill>
                <a:latin typeface="Arial"/>
              </a:rPr>
              <a:t>with </a:t>
            </a:r>
            <a:r>
              <a:rPr b="1" lang="en-US" sz="3600" spc="-1" strike="noStrike">
                <a:solidFill>
                  <a:srgbClr val="000000"/>
                </a:solidFill>
                <a:latin typeface="Arial"/>
              </a:rPr>
              <a:t>A</a:t>
            </a:r>
            <a:r>
              <a:rPr b="0" lang="en-US" sz="3600" spc="-1" strike="noStrike">
                <a:solidFill>
                  <a:srgbClr val="000000"/>
                </a:solidFill>
                <a:latin typeface="Arial"/>
              </a:rPr>
              <a:t>utomated </a:t>
            </a:r>
            <a:r>
              <a:rPr b="1" lang="en-US" sz="3600" spc="-1" strike="noStrike">
                <a:solidFill>
                  <a:srgbClr val="000000"/>
                </a:solidFill>
                <a:latin typeface="Arial"/>
              </a:rPr>
              <a:t>L</a:t>
            </a:r>
            <a:r>
              <a:rPr b="0" lang="en-US" sz="3600" spc="-1" strike="noStrike">
                <a:solidFill>
                  <a:srgbClr val="000000"/>
                </a:solidFill>
                <a:latin typeface="Arial"/>
              </a:rPr>
              <a:t>ogin</a:t>
            </a:r>
            <a:endParaRPr b="0" lang="en-US" sz="3600" spc="-1" strike="noStrike">
              <a:solidFill>
                <a:srgbClr val="000000"/>
              </a:solidFill>
              <a:latin typeface="Arial"/>
            </a:endParaRPr>
          </a:p>
        </p:txBody>
      </p:sp>
      <p:sp>
        <p:nvSpPr>
          <p:cNvPr id="113"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paralleled confidentiality protection using Public Key Infrastructure (PKI)</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wo-way, end-to-end encryption</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Secure Socket Layer (SSL) with added protection</a:t>
            </a:r>
            <a:endParaRPr b="0" lang="en-US" sz="2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ovative approach for large volume of transactions</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ool of anonymous PKI certificates, recycle &amp; reuse</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entication of a form, not of a person identity</a:t>
            </a:r>
            <a:endParaRPr b="0" lang="en-US" sz="2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nient to the end-user</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 pre-registration or software installation</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pplet is not noticeable, nothing left behind</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tool of Web browsers and Java Virtual Machine (JVM)</a:t>
            </a:r>
            <a:endParaRPr b="0" lang="en-US" sz="2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eneric service with potential reuse</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protection sealed for confidentiality </a:t>
            </a:r>
            <a:r>
              <a:rPr b="0" i="1" lang="en-US" sz="2000" spc="-1" strike="noStrike">
                <a:solidFill>
                  <a:srgbClr val="000000"/>
                </a:solidFill>
                <a:latin typeface="Arial"/>
              </a:rPr>
              <a:t>without digital signature</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40F4A-47FD-4637-B096-8F43D4C865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we do - Results</a:t>
            </a:r>
            <a:endParaRPr b="0" lang="en-US" sz="4000" spc="-1" strike="noStrike">
              <a:solidFill>
                <a:srgbClr val="000000"/>
              </a:solidFill>
              <a:latin typeface="Arial"/>
            </a:endParaRPr>
          </a:p>
        </p:txBody>
      </p:sp>
      <p:sp>
        <p:nvSpPr>
          <p:cNvPr id="11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ric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2%  of initial response was by Interne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internet represented 18% of all respo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ful Deferral Contingency Procedure seldom used, except on Census nigh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Quality better for internet respons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4B0EE-D626-463B-834C-E9433CB803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we do - Results</a:t>
            </a:r>
            <a:endParaRPr b="0" lang="en-US" sz="4000" spc="-1" strike="noStrike">
              <a:solidFill>
                <a:srgbClr val="000000"/>
              </a:solidFill>
              <a:latin typeface="Arial"/>
            </a:endParaRPr>
          </a:p>
        </p:txBody>
      </p:sp>
      <p:sp>
        <p:nvSpPr>
          <p:cNvPr id="117"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available and used (on a gradually declining basis) until end of follow-up period (end of Aug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ush Strategy” experiment (no questionnaire sent, only a letter asking to respond via internet) yielded very good resul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ful use of a reminder letter to non-respondents  asking to reply by internet (no questionnaire s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16DD9-8238-4D7E-86EC-5B7D52420F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Lessons Learned</a:t>
            </a:r>
            <a:endParaRPr b="0" lang="en-US" sz="4000" spc="-1" strike="noStrike">
              <a:solidFill>
                <a:srgbClr val="000000"/>
              </a:solidFill>
              <a:latin typeface="Arial"/>
            </a:endParaRPr>
          </a:p>
        </p:txBody>
      </p:sp>
      <p:sp>
        <p:nvSpPr>
          <p:cNvPr id="119"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tegrating with Secure Channel was harder and took longer than expect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icult to exercise volume tests that accurately reflected produ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ing able to monitor and control the number of respondents accessing the system was critic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t mailing paper questionnaires increases the internet take up r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esting every aspect and linkage is cru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ue partnership with contractors was critical success factor</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0FAED-769E-43C3-AED2-8379DB3FEF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Thank you</a:t>
            </a:r>
            <a:endParaRPr b="0" lang="en-US" sz="4000" spc="-1" strike="noStrike">
              <a:solidFill>
                <a:srgbClr val="000000"/>
              </a:solidFill>
              <a:latin typeface="Arial"/>
            </a:endParaRPr>
          </a:p>
        </p:txBody>
      </p:sp>
      <p:sp>
        <p:nvSpPr>
          <p:cNvPr id="12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5697F-ED90-49D8-A95C-191D2A7DAAFF}"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nsus in Canada</a:t>
            </a:r>
            <a:endParaRPr b="0" lang="en-US" sz="4000" spc="-1" strike="noStrike">
              <a:solidFill>
                <a:srgbClr val="000000"/>
              </a:solidFill>
              <a:latin typeface="Arial"/>
            </a:endParaRPr>
          </a:p>
        </p:txBody>
      </p:sp>
      <p:sp>
        <p:nvSpPr>
          <p:cNvPr id="93"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requirement every 5 years, De Jure ba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Census May 16</a:t>
            </a:r>
            <a:r>
              <a:rPr b="0" lang="en-US" sz="2400" spc="-1" strike="noStrike" baseline="30000">
                <a:solidFill>
                  <a:srgbClr val="000000"/>
                </a:solidFill>
                <a:latin typeface="Arial"/>
              </a:rPr>
              <a:t>th</a:t>
            </a:r>
            <a:r>
              <a:rPr b="0" lang="en-US" sz="2400" spc="-1" strike="noStrike">
                <a:solidFill>
                  <a:srgbClr val="000000"/>
                </a:solidFill>
                <a:latin typeface="Arial"/>
              </a:rPr>
              <a:t>, 2006; 13 million dwellin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short form (8 questions); 20%-long form (53 questions + 8 dwelling questi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iality is paramou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collection for Census of Population and Census of Agricul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and integration of Internet application and processing systems was outsourced to private sec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20% of initial response from the interne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D16FB-C796-4B27-ADB9-1E7C2A7398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sus 2006 – Drivers for change</a:t>
            </a:r>
            <a:endParaRPr b="0" lang="en-US" sz="3200" spc="-1" strike="noStrike">
              <a:solidFill>
                <a:srgbClr val="000000"/>
              </a:solidFill>
              <a:latin typeface="Arial"/>
            </a:endParaRPr>
          </a:p>
        </p:txBody>
      </p:sp>
      <p:sp>
        <p:nvSpPr>
          <p:cNvPr id="9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ivacy concerns – local enumerator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overnment On-Line (GOL) initia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ata Entry Capability/Manual Co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ruitment and retention of staff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DE919-B593-4D82-ACD7-BD6C0BE76D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dical Change</a:t>
            </a:r>
            <a:endParaRPr b="0" lang="en-US" sz="4000" spc="-1" strike="noStrike">
              <a:solidFill>
                <a:srgbClr val="000000"/>
              </a:solidFill>
              <a:latin typeface="Arial"/>
            </a:endParaRPr>
          </a:p>
        </p:txBody>
      </p:sp>
      <p:sp>
        <p:nvSpPr>
          <p:cNvPr id="97"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radical changes since 1970’s</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out via Canada Post for 73% of households (Address register critica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leave for remainder</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que dwelling</a:t>
            </a:r>
            <a:r>
              <a:rPr b="0" lang="en-US" sz="3200" spc="-1" strike="noStrike">
                <a:solidFill>
                  <a:srgbClr val="ff3300"/>
                </a:solidFill>
                <a:latin typeface="Arial"/>
              </a:rPr>
              <a:t> </a:t>
            </a:r>
            <a:r>
              <a:rPr b="0" lang="en-US" sz="3200" spc="-1" strike="noStrike">
                <a:solidFill>
                  <a:srgbClr val="000000"/>
                </a:solidFill>
                <a:latin typeface="Arial"/>
              </a:rPr>
              <a:t>identifier and internet access code  for each questionnai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0017C-1EDE-48A6-B00E-2240263943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dical Change</a:t>
            </a:r>
            <a:endParaRPr b="0" lang="en-US" sz="4000" spc="-1" strike="noStrike">
              <a:solidFill>
                <a:srgbClr val="000000"/>
              </a:solidFill>
              <a:latin typeface="Arial"/>
            </a:endParaRPr>
          </a:p>
        </p:txBody>
      </p:sp>
      <p:sp>
        <p:nvSpPr>
          <p:cNvPr id="99"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back or Internet option         (canvasser method for a few areas)</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Data Processing Centre (CATI or Field Follow-up initiated from it) </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igent Character Recognition (ICR)</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ter Control List</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ed cod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1BF8F-4C79-4B87-AE4F-07E921F141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et mode of collection</a:t>
            </a:r>
            <a:endParaRPr b="0" lang="en-US" sz="4000" spc="-1" strike="noStrike">
              <a:solidFill>
                <a:srgbClr val="000000"/>
              </a:solidFill>
              <a:latin typeface="Arial"/>
            </a:endParaRPr>
          </a:p>
        </p:txBody>
      </p:sp>
      <p:sp>
        <p:nvSpPr>
          <p:cNvPr id="101"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hing left on respondent’s computer (Zero foot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on using internet access code printed on questionnai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ovative Security Solution using GOC “Secure Channel” (PKI “light”, secure “isl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time recyclable certific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sessions for long form (user can assign own passwor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0B857-B3F2-456B-A541-D94173D33C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conditions</a:t>
            </a:r>
            <a:endParaRPr b="0" lang="en-US" sz="4000" spc="-1" strike="noStrike">
              <a:solidFill>
                <a:srgbClr val="000000"/>
              </a:solidFill>
              <a:latin typeface="Arial"/>
            </a:endParaRPr>
          </a:p>
        </p:txBody>
      </p:sp>
      <p:sp>
        <p:nvSpPr>
          <p:cNvPr id="103" name="PlaceHolder 2"/>
          <p:cNvSpPr>
            <a:spLocks noGrp="1"/>
          </p:cNvSpPr>
          <p:nvPr>
            <p:ph/>
          </p:nvPr>
        </p:nvSpPr>
        <p:spPr>
          <a:xfrm>
            <a:off x="539640" y="184464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vity and public expectat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a high enough internet (especially broadband) penetr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phistication of users must have reached a sufficient level (i.e. e-commerce) to trust the transmission of personal information onlin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liferation – public expect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ure security infrastructur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On Line servi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bust solution tailored to meet unique needs (private secto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Methodolog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 agency experience with Interne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 experience, dissemination, e-commer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support-centers of expertise (technical, questionnaire design, respondent accept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E4EA9-2FBD-493E-9CF3-B9EA2DE5E5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ategic Considerations</a:t>
            </a:r>
            <a:endParaRPr b="0" lang="en-US" sz="4000" spc="-1" strike="noStrike">
              <a:solidFill>
                <a:srgbClr val="000000"/>
              </a:solidFill>
              <a:latin typeface="Arial"/>
            </a:endParaRPr>
          </a:p>
        </p:txBody>
      </p:sp>
      <p:sp>
        <p:nvSpPr>
          <p:cNvPr id="10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naire design and tes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Infrastructur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communications and Hardwa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nd Integrated test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Saving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posta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 handling and data captu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up for edit-failur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ouse development or contracting ou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ency pro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CE6B6-5645-4C6D-AB4F-1DD900F42D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ategic Considerations</a:t>
            </a:r>
            <a:endParaRPr b="0" lang="en-US" sz="4000" spc="-1" strike="noStrike">
              <a:solidFill>
                <a:srgbClr val="000000"/>
              </a:solidFill>
              <a:latin typeface="Arial"/>
            </a:endParaRPr>
          </a:p>
        </p:txBody>
      </p:sp>
      <p:sp>
        <p:nvSpPr>
          <p:cNvPr id="107"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izing on Opportunitie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enhanc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in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efficiencies (short-long-te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rage enhancemen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ommunication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c alliances/partnershi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public expect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predictabilit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 with Graceful deferra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D0626-0A1B-4206-8904-685C1FA42C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1T16:11:31Z</dcterms:created>
  <dc:creator>arorani</dc:creator>
  <dc:description/>
  <dc:language>en-US</dc:language>
  <cp:lastModifiedBy>bendros</cp:lastModifiedBy>
  <dcterms:modified xsi:type="dcterms:W3CDTF">2007-06-02T03:54:46Z</dcterms:modified>
  <cp:revision>119</cp:revision>
  <dc:subject/>
  <dc:title>Conference of European Statisticia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27790739</vt:r8>
  </property>
  <property fmtid="{D5CDD505-2E9C-101B-9397-08002B2CF9AE}" pid="3" name="_AuthorEmail">
    <vt:lpwstr>Dan.Moraru@a.statcan.ca</vt:lpwstr>
  </property>
  <property fmtid="{D5CDD505-2E9C-101B-9397-08002B2CF9AE}" pid="4" name="_AuthorEmailDisplayName">
    <vt:lpwstr>Moraru, Dan - COD/DOR</vt:lpwstr>
  </property>
  <property fmtid="{D5CDD505-2E9C-101B-9397-08002B2CF9AE}" pid="5" name="_EmailSubject">
    <vt:lpwstr>Invitation to Joint UNECE/Eurostat Meeting on Population and Housing Censuses, Astana, 4-6 June 2007</vt:lpwstr>
  </property>
  <property fmtid="{D5CDD505-2E9C-101B-9397-08002B2CF9AE}" pid="6" name="_PreviousAdHocReviewCycleID">
    <vt:r8>-462050833</vt:r8>
  </property>
  <property fmtid="{D5CDD505-2E9C-101B-9397-08002B2CF9AE}" pid="7" name="_ReviewingToolsShownOnce">
    <vt:lpwstr/>
  </property>
</Properties>
</file>