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C450-C536-41A9-B99B-F066988AA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FA6A-9F59-4686-A028-2607A251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5D09-8D74-463B-9466-2A22448EE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E320-16CA-4747-ABDA-E831F528A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211C-4D6D-4DA6-9C4A-E558835C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410F-6E8B-4ACF-A6A2-A2B5DF48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FBEE-289C-4EE3-B7A7-2C32A1F6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374A-F73E-4949-8595-11DC2AF3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79D1-28E8-4F2E-90C1-401E4569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F1DD-CB69-4BA8-8C78-2F6EB2D9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0269-8811-432A-ABBC-1F3B5E40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F918-9308-49D5-9C3C-CF90ACDE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8404-4C71-4170-9015-C7EE94CE0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Опыт использования скане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3213000"/>
            <a:ext cx="6945480" cy="24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.С.Абди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гентство Республики Казахстан по статис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о-вычислительный цен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дачи центрального уровн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333399"/>
                </a:solidFill>
                <a:latin typeface="Arial"/>
              </a:rPr>
              <a:t>Прием информации с региональных цен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333399"/>
                </a:solidFill>
                <a:latin typeface="Arial"/>
              </a:rPr>
              <a:t>Контроль информации на полноту и по основным показателям в разрезе районов (СУБД A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cess </a:t>
            </a:r>
            <a:r>
              <a:rPr b="0" lang="kk-KZ" sz="2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333399"/>
                </a:solidFill>
                <a:latin typeface="Arial"/>
              </a:rPr>
              <a:t>Создание базы данных по области (СУБД MS SQL 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rver</a:t>
            </a:r>
            <a:r>
              <a:rPr b="0" lang="kk-KZ" sz="2400" spc="-1" strike="noStrike">
                <a:solidFill>
                  <a:srgbClr val="333399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333399"/>
                </a:solidFill>
                <a:latin typeface="Arial"/>
              </a:rPr>
              <a:t>Формирование таблиц по раздел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333399"/>
                </a:solidFill>
                <a:latin typeface="Arial"/>
              </a:rPr>
              <a:t>Резервное коп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333399"/>
                </a:solidFill>
                <a:latin typeface="Arial"/>
              </a:rPr>
              <a:t>Анализ данных и их уточнение с областными управл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333399"/>
                </a:solidFill>
                <a:latin typeface="Arial"/>
              </a:rPr>
              <a:t>Загрузка базы данных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разрезе </a:t>
            </a:r>
            <a:r>
              <a:rPr b="0" lang="kk-KZ" sz="2400" spc="-1" strike="noStrike">
                <a:solidFill>
                  <a:srgbClr val="333399"/>
                </a:solidFill>
                <a:latin typeface="Arial"/>
              </a:rPr>
              <a:t>област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ей </a:t>
            </a:r>
            <a:r>
              <a:rPr b="0" lang="kk-KZ" sz="2400" spc="-1" strike="noStrike">
                <a:solidFill>
                  <a:srgbClr val="333399"/>
                </a:solidFill>
                <a:latin typeface="Arial"/>
              </a:rPr>
              <a:t>в центральную ба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333399"/>
                </a:solidFill>
                <a:latin typeface="Arial"/>
              </a:rPr>
              <a:t>Формирование сводных таблиц и генерация отчетов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Прикладные программы, разработанные для обеспечения этапов обработ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Image Port , JobScan,  Recostar,  BUS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описаний  доку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системы контроля введенной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программ корректировки да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программ преобразования данных и занесения  информации  из системы Busy в итоговую базу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Visual C++ ,  Access , M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SQ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ы контроля, корректировки данных,  выгруженных из системы Busy в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вспомогательных программ обработки материалов перепи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Прикладные программы, разработанные для обеспечения этапов обрабо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Комплекс  приложений, предназначенных для общего управления потоками информации в сист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ы преобразования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ы формирования и ведения нормативно-справочной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ы организация процессов учета и  передачи  информации из филиалов в цен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Комплекс программ формирования регламентных табл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программ формирования технологических файлов с агрегированной переписной информац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ы генерации отч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сновные пробл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Погрешность распознавания сильно зависела от качества переписных блан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66ff"/>
                </a:solidFill>
                <a:latin typeface="Arial"/>
              </a:rPr>
              <a:t>Слишком сжатые сро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66ff"/>
                </a:solidFill>
                <a:latin typeface="Arial"/>
              </a:rPr>
              <a:t>Отсутствие опы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66ff"/>
                </a:solidFill>
                <a:latin typeface="Arial"/>
              </a:rPr>
              <a:t>В пилотной переписи была использована другая техн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66ff"/>
                </a:solidFill>
                <a:latin typeface="Arial"/>
              </a:rPr>
              <a:t>Базовое ПО – слишком узкая специал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Первая национальная перепись насе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Организация 5 кустовых центров обработки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Обработано более 3 млн бланков в каждом из цент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ИВЦ (г.Алматы) – создание центральной БД переписи нас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55640" y="711360"/>
            <a:ext cx="7201080" cy="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Табл.1 Основные показатели по  объему обработанных  данных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11280" y="1557360"/>
          <a:ext cx="8064360" cy="4151160"/>
        </p:xfrm>
        <a:graphic>
          <a:graphicData uri="http://schemas.openxmlformats.org/drawingml/2006/table">
            <a:tbl>
              <a:tblPr/>
              <a:tblGrid>
                <a:gridCol w="1425600"/>
                <a:gridCol w="745920"/>
                <a:gridCol w="1085760"/>
                <a:gridCol w="1084320"/>
                <a:gridCol w="1241640"/>
                <a:gridCol w="1239840"/>
                <a:gridCol w="1241280"/>
              </a:tblGrid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Центры обрабо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Кол-во сканеров, </a:t>
                      </a:r>
                      <a:r>
                        <a:rPr b="0" i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ш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Кол-во пе-реписных бланков, </a:t>
                      </a:r>
                      <a:r>
                        <a:rPr b="0" i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ш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Кол-во портфелей </a:t>
                      </a:r>
                      <a:r>
                        <a:rPr b="0" i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ш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Кол-во  бланков обработан-ных одним сканером, </a:t>
                      </a:r>
                      <a:r>
                        <a:rPr b="0" i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ш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родолжи-тельность  обработки, </a:t>
                      </a:r>
                      <a:r>
                        <a:rPr b="0" i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д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Обработано бланков за один день, </a:t>
                      </a:r>
                      <a:r>
                        <a:rPr b="0" i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ш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матин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43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5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юбин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021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1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9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точно-Казахстан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0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00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3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агандинс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9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9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жно-Казахстан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106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53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94462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641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55640" y="399600"/>
            <a:ext cx="7345440" cy="99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Табл.2 Количество работников, участвовавших в обработке данных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042920" y="1557360"/>
          <a:ext cx="7345440" cy="4305240"/>
        </p:xfrm>
        <a:graphic>
          <a:graphicData uri="http://schemas.openxmlformats.org/drawingml/2006/table">
            <a:tbl>
              <a:tblPr/>
              <a:tblGrid>
                <a:gridCol w="1944720"/>
                <a:gridCol w="1297080"/>
                <a:gridCol w="1366920"/>
                <a:gridCol w="1657080"/>
                <a:gridCol w="107964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Центры обрабо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Коррек-тировщ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Операторы по подготовке бланков для скане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Специалис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технического  обслужив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Всего, </a:t>
                      </a:r>
                      <a:r>
                        <a:rPr b="0" i="1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ч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матин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юбин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точно-Казахстан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агандин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жно-Казахстан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3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4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ScanStar 5045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Скорость сканирования – до 50 бланков в мин., фактическая – 30 блан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Формат – А4, разрешимость 200 точек на дюй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150 бланков на один лоток (максимально – 3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Программное обеспе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U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Imag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JobS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Reco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Схема технологического процесс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39640" y="1657440"/>
            <a:ext cx="799308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54120" y="264960"/>
            <a:ext cx="4233960" cy="63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27120" y="235080"/>
            <a:ext cx="428796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чи кустовых </a:t>
            </a:r>
            <a:r>
              <a:rPr b="1" lang="kk-KZ" sz="4000" spc="-1" strike="noStrike">
                <a:solidFill>
                  <a:srgbClr val="000000"/>
                </a:solidFill>
                <a:latin typeface="Arial"/>
              </a:rPr>
              <a:t>цент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333399"/>
                </a:solidFill>
                <a:latin typeface="Arial"/>
              </a:rPr>
              <a:t>Сканирование переписных лис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333399"/>
                </a:solidFill>
                <a:latin typeface="Arial"/>
              </a:rPr>
              <a:t>Распознавание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содержимого блан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333399"/>
                </a:solidFill>
                <a:latin typeface="Arial"/>
              </a:rPr>
              <a:t>Корректировка в среде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BUSY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kk-KZ" sz="2200" spc="-1" strike="noStrike">
                <a:solidFill>
                  <a:srgbClr val="333399"/>
                </a:solidFill>
                <a:latin typeface="Arial"/>
              </a:rPr>
              <a:t>в три этапа - первичная, основная и с использованием имидж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333399"/>
                </a:solidFill>
                <a:latin typeface="Arial"/>
              </a:rPr>
              <a:t>Контроль на целостность данных - арифметический, логический и межбланоч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333399"/>
                </a:solidFill>
                <a:latin typeface="Arial"/>
              </a:rPr>
              <a:t>Автоматическое кодирование, преобразование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333399"/>
                </a:solidFill>
                <a:latin typeface="Arial"/>
              </a:rPr>
              <a:t>Загрузка преобразованных данных в СУБД A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c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333399"/>
                </a:solidFill>
                <a:latin typeface="Arial"/>
              </a:rPr>
              <a:t>Корректировка в среде СУБД A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ccess </a:t>
            </a:r>
            <a:r>
              <a:rPr b="0" lang="kk-KZ" sz="2200" spc="-1" strike="noStrike">
                <a:solidFill>
                  <a:srgbClr val="333399"/>
                </a:solidFill>
                <a:latin typeface="Arial"/>
              </a:rPr>
              <a:t> с использованием имидж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333399"/>
                </a:solidFill>
                <a:latin typeface="Arial"/>
              </a:rPr>
              <a:t>Контроль информации в разрезе районов по основным показателя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333399"/>
                </a:solidFill>
                <a:latin typeface="Arial"/>
              </a:rPr>
              <a:t>Архивирование,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запись </a:t>
            </a:r>
            <a:r>
              <a:rPr b="0" lang="kk-KZ" sz="2200" spc="-1" strike="noStrike">
                <a:solidFill>
                  <a:srgbClr val="333399"/>
                </a:solidFill>
                <a:latin typeface="Arial"/>
              </a:rPr>
              <a:t>на CD-ROM или дискеты и</a:t>
            </a:r>
            <a:br>
              <a:rPr sz="2200"/>
            </a:br>
            <a:r>
              <a:rPr b="0" lang="kk-KZ" sz="2200" spc="-1" strike="noStrike">
                <a:solidFill>
                  <a:srgbClr val="333399"/>
                </a:solidFill>
                <a:latin typeface="Arial"/>
              </a:rPr>
              <a:t>передача в республиканский цент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2T05:31:30Z</dcterms:created>
  <dc:creator>abdiev</dc:creator>
  <dc:description/>
  <dc:language>en-US</dc:language>
  <cp:lastModifiedBy>abdiev</cp:lastModifiedBy>
  <dcterms:modified xsi:type="dcterms:W3CDTF">2007-06-02T06:40:06Z</dcterms:modified>
  <cp:revision>5</cp:revision>
  <dc:subject/>
  <dc:title>Опыт использования сканеров</dc:title>
</cp:coreProperties>
</file>