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13D-4F38-42C8-8130-A2190020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E8B-BCBF-4E66-826F-20E4EB55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DD2-2EB5-45D5-8A7A-AFDC046E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408-2E25-49A6-A96A-B08AB419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327-36A6-4908-8D68-61D3C74F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D3B-52A2-422A-823B-56418D1D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1CC-DFEC-4348-83CD-E907286C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5F9-0225-4BE1-9056-CC6A4393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C91-C586-4BCB-BA1E-61FAC6F5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37A-6108-4251-8B4A-423F521F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D86-D34F-4FBC-86AA-7E96708A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94A-E1BB-4A56-92ED-A0FAFBE5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4B4B-9809-4041-B56E-DEC9AF699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xperience in using scan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3213000"/>
            <a:ext cx="694548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.S. Abdi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Agency of the Republic of Kazakh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information ce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ntral Level Goals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eipt of information from regional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formation control for completeness and basic indices by regions </a:t>
            </a: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abase</a:t>
            </a: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cess </a:t>
            </a: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eation of database for oblast </a:t>
            </a: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abase</a:t>
            </a: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 MS SQL 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rver</a:t>
            </a: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abulation by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le back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a analysis and their checkup with oblast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blast database download into central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mmary tabulation and generation of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Applications developed to ensure process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Image Port , JobScan,  Recostar,  BUS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 of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entered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editing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nversion programs and programs for transferring information fro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us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into fina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Visual C++ ,  Access , M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SQ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 for data contro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editing downloaded from syste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Bus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y programs for census materials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Applications developed to ensure process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t of applications aimed at general information flows management i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nvers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 for formation and maintaining referenc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 for recording and transfer of information from field offices to th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t of programs for operational tab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programs for formation of technological files with aggregated cens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 generation progr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in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Recognition error was highly affected by the census reports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ight deadlines</a:t>
            </a:r>
            <a:r>
              <a:rPr b="0" lang="kk-KZ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ack of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ilot census used othe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ase software</a:t>
            </a:r>
            <a:r>
              <a:rPr b="0" lang="kk-KZ" sz="2800" spc="-1" strike="noStrike">
                <a:solidFill>
                  <a:srgbClr val="0066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narrow spec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First National Cens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stablishment of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5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ata process section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Over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ln. forms processed in each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IC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lmaty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) –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reation of central censu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795240"/>
            <a:ext cx="7201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Table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1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Main indices of data pro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11280" y="1557360"/>
          <a:ext cx="8064360" cy="4140000"/>
        </p:xfrm>
        <a:graphic>
          <a:graphicData uri="http://schemas.openxmlformats.org/drawingml/2006/table">
            <a:tbl>
              <a:tblPr/>
              <a:tblGrid>
                <a:gridCol w="1425600"/>
                <a:gridCol w="745920"/>
                <a:gridCol w="1085760"/>
                <a:gridCol w="1084320"/>
                <a:gridCol w="1241640"/>
                <a:gridCol w="1239840"/>
                <a:gridCol w="1241280"/>
              </a:tblGrid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rocess c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canners</a:t>
                      </a: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umber of report forms</a:t>
                      </a: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umber of potrfolio</a:t>
                      </a: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umber of forms processed by 1 scanner</a:t>
                      </a: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rocess duration</a:t>
                      </a: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Forms processed per day</a:t>
                      </a: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a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43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5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o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2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1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st-Kazak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aga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9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-Kazakhsta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106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5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9446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4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300600"/>
            <a:ext cx="734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Table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Number of personnel participating in dat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42920" y="1557360"/>
          <a:ext cx="7345440" cy="3743280"/>
        </p:xfrm>
        <a:graphic>
          <a:graphicData uri="http://schemas.openxmlformats.org/drawingml/2006/table">
            <a:tbl>
              <a:tblPr/>
              <a:tblGrid>
                <a:gridCol w="1944720"/>
                <a:gridCol w="1297080"/>
                <a:gridCol w="1366920"/>
                <a:gridCol w="1657080"/>
                <a:gridCol w="1079640"/>
              </a:tblGrid>
              <a:tr h="14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Process c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Ed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Form preparation operators for sca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Maintenance personnel</a:t>
                      </a:r>
                      <a:r>
                        <a:rPr b="0" lang="ru-RU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r>
                        <a:rPr b="0" lang="ru-RU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o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t-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rag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th-Kazakhsta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4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ScanStar 5045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Scan rate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up to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50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forms a min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.,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actual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– 30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Page size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– А4,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solution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200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pixels per i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150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forms per one tray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max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– 3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ft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U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ma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Job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Reco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Technological process schem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1657440"/>
            <a:ext cx="7993080" cy="444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08720" y="5661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805360"/>
            <a:ext cx="2449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gnizing 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3213000"/>
            <a:ext cx="2592720" cy="76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-LAN local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3141720"/>
            <a:ext cx="1944720" cy="65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bSca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54450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5734080"/>
            <a:ext cx="187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4149720"/>
            <a:ext cx="194472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star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4221000"/>
            <a:ext cx="216072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Y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844640"/>
            <a:ext cx="2374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Star5045 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9280" y="1916280"/>
            <a:ext cx="230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 with Imag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8360" y="1773360"/>
            <a:ext cx="324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process work 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54120" y="264960"/>
            <a:ext cx="4233960" cy="63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27120" y="235080"/>
            <a:ext cx="428796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als of sectional cen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Report forms sc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Forms content recogn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Editing in BUSY medium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in 3 stages</a:t>
            </a: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initial</a:t>
            </a: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basic and with image u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Data integrity control</a:t>
            </a: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arithmetic</a:t>
            </a: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logical and inter-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Automated coding</a:t>
            </a: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data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onverted data downloading into Database</a:t>
            </a: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 A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Editing in Database</a:t>
            </a: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 A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cess medium with image u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Information control by regions by basin i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Archiving</a:t>
            </a: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recording to </a:t>
            </a: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CD-ROM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or floppy discs and transfer to the republican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05:31:30Z</dcterms:created>
  <dc:creator>abdiev</dc:creator>
  <dc:description/>
  <dc:language>en-US</dc:language>
  <cp:lastModifiedBy>User</cp:lastModifiedBy>
  <dcterms:modified xsi:type="dcterms:W3CDTF">2007-06-04T09:42:01Z</dcterms:modified>
  <cp:revision>26</cp:revision>
  <dc:subject/>
  <dc:title>Опыт использования сканеров</dc:title>
</cp:coreProperties>
</file>