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9960-B9FA-4B1C-B3D1-C3FC2DC1223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4B08-F772-4C7C-A5A8-EA2F1C1C970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5128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5106-06A0-4D6E-8D61-468D7E51B7F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5128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F521-15D4-4C7F-8C1F-4AE78286F41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5128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340E-159F-4F56-B57F-55ED6C77AA9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5128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2EA0-29A0-4382-A7BF-41A5F647B0F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5128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8200" cy="37116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7BB5-EDFF-48B5-8B33-73C12CDF7EC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5128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8200" cy="37116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C3C8-AD05-42C9-9CBE-08FE4C84041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85128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4899-E922-4FE0-A70A-FF3A1E976DD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5128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8200" cy="37116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D5BE-A386-400E-B066-C8A1F3514D1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5128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55BF-DE5B-4BB6-8B0A-9983BE98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04760" y="394848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95EB-63D3-4CF3-8C0A-10D692FE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6284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9F67-C582-49B1-B08E-E7E5590DC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205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363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047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205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363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89B0-88B2-482E-8EF8-8DA72CE27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0FC1-AB79-4E8A-B649-DF56F4D6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EF72-7B55-4DA1-B3CE-A368D062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6FDD-35ED-46AC-86B4-586C560C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77F4-182B-447E-AF91-F4F04125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4760" y="609480"/>
            <a:ext cx="65530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9561-DAF4-49F6-A355-3CD885AD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F2C7-5736-49A9-98F0-170B0567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6284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15E1-CCE6-43EA-ABCF-91B858DF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4BE5-D275-45FE-B55F-D7E71089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6094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399960" indent="-28548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2" marL="739800" indent="-22536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3" marL="930240" indent="32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4" marL="1547640" indent="-217440">
              <a:spcBef>
                <a:spcPts val="601"/>
              </a:spcBef>
              <a:buClr>
                <a:srgbClr val="99ff66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5" marL="1547640" indent="-217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6" marL="1547640" indent="-217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780663B-D14A-4A18-A464-E3FE8A584F56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SLE@CBS.NL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55280" y="475920"/>
            <a:ext cx="7488360" cy="16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cord matching for census purposes in the Netherland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84000" y="2349360"/>
            <a:ext cx="7559640" cy="385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Eric Schulte Nordholt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Senior researcher and project leader of the Censu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Statistics Netherland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Division Social and Spatial Statistic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Department Support and Development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Section Research and Development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ESLE@CBS.NL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Joint UNECE/Eurostat Meeting on Population and Housing Censuses in Astana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4-6 June 2007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19280" y="609480"/>
            <a:ext cx="7524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icro integration (1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19280" y="1881360"/>
            <a:ext cx="7524720" cy="33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762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The aim of micro integration is: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476280" indent="-285840">
              <a:lnSpc>
                <a:spcPct val="11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To check the linked data and modify incorrect records, 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476280" indent="-285840">
              <a:lnSpc>
                <a:spcPct val="11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In such a way that the results that are to be published are of higher quality than the original sources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1BF7-FE40-4BB1-B7DC-5D2E7C9407D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619280" y="609120"/>
            <a:ext cx="7524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icro integration (2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619280" y="2241360"/>
            <a:ext cx="7524720" cy="28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6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To fulfil this demand an integrated process of: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2" marL="952560" indent="-282600">
              <a:lnSpc>
                <a:spcPct val="11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data editing,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2" marL="952560" indent="-282600">
              <a:lnSpc>
                <a:spcPct val="11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derivation of statistical variables,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2" marL="952560" indent="-282600">
              <a:lnSpc>
                <a:spcPct val="11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and imputatio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46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is executed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C119-2D54-4EDE-BD4C-B74B4344B95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19280" y="609120"/>
            <a:ext cx="7524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icro integration (3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619280" y="1773360"/>
            <a:ext cx="7524720" cy="40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6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Constraints and limitations: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465120" indent="-285840">
              <a:lnSpc>
                <a:spcPct val="11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Only variables that are to be published are micro integrated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465120" indent="-285840">
              <a:lnSpc>
                <a:spcPct val="11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Identity rules are necessary, e.g. the same variable in two sources or a relationship between two or more variables in one or more sources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465120" indent="-285840">
              <a:lnSpc>
                <a:spcPct val="11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No mass imputation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6892-C84F-4A57-AD07-6CE408738EF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655280" y="441360"/>
            <a:ext cx="7488360" cy="59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cial Statistical Database (SSD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619280" y="1484280"/>
            <a:ext cx="7524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cial Statistical Database (SSD): </a:t>
            </a:r>
            <a:br>
              <a:rPr sz="2400"/>
            </a:br>
            <a:r>
              <a:rPr b="1" lang="en-US" sz="2200" spc="-1" strike="noStrike">
                <a:solidFill>
                  <a:srgbClr val="33cc33"/>
                </a:solidFill>
                <a:latin typeface="Arial"/>
              </a:rPr>
              <a:t>Set of integrated microdata files with coherent </a:t>
            </a:r>
            <a:br>
              <a:rPr sz="2200"/>
            </a:br>
            <a:r>
              <a:rPr b="1" lang="en-US" sz="2200" spc="-1" strike="noStrike">
                <a:solidFill>
                  <a:srgbClr val="33cc33"/>
                </a:solidFill>
                <a:latin typeface="Arial"/>
              </a:rPr>
              <a:t>and detailed demographic and socio-economic </a:t>
            </a:r>
            <a:br>
              <a:rPr sz="2200"/>
            </a:br>
            <a:r>
              <a:rPr b="1" lang="en-US" sz="2200" spc="-1" strike="noStrike">
                <a:solidFill>
                  <a:srgbClr val="33cc33"/>
                </a:solidFill>
                <a:latin typeface="Arial"/>
              </a:rPr>
              <a:t>data on persons, households, jobs and benefits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33cc33"/>
                </a:solidFill>
                <a:latin typeface="Arial"/>
              </a:rPr>
              <a:t>No remaining internal conflicting information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SD set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33cc33"/>
                </a:solidFill>
                <a:latin typeface="Arial"/>
              </a:rPr>
              <a:t>Population Register (backbone)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33cc33"/>
                </a:solidFill>
                <a:latin typeface="Arial"/>
              </a:rPr>
              <a:t>Integrated jobs file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33cc33"/>
                </a:solidFill>
                <a:latin typeface="Arial"/>
              </a:rPr>
              <a:t>Integrated file of (social and other) benefits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33cc33"/>
                </a:solidFill>
                <a:latin typeface="Arial"/>
              </a:rPr>
              <a:t>Surveys, e.g. LFS</a:t>
            </a:r>
            <a:br>
              <a:rPr sz="2200"/>
            </a:br>
            <a:br>
              <a:rPr sz="22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bining element: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33cc33"/>
                </a:solidFill>
                <a:latin typeface="Arial"/>
              </a:rPr>
              <a:t>RIN-person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9381-37C0-4CA8-8AD0-0A90D5E11D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able"/>
          <p:cNvSpPr/>
          <p:nvPr/>
        </p:nvSpPr>
        <p:spPr>
          <a:xfrm>
            <a:off x="3635280" y="2565360"/>
            <a:ext cx="1809720" cy="180972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ubTriangle"/>
          <p:cNvSpPr/>
          <p:nvPr/>
        </p:nvSpPr>
        <p:spPr>
          <a:xfrm rot="18882600">
            <a:off x="3635280" y="980640"/>
            <a:ext cx="1828800" cy="1828800"/>
          </a:xfrm>
          <a:solidFill>
            <a:srgbClr val="ff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ubTriangle"/>
          <p:cNvSpPr/>
          <p:nvPr/>
        </p:nvSpPr>
        <p:spPr>
          <a:xfrm rot="14344200">
            <a:off x="2268360" y="2349000"/>
            <a:ext cx="1828800" cy="1828800"/>
          </a:xfrm>
          <a:solidFill>
            <a:srgbClr val="ff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ubTriangle"/>
          <p:cNvSpPr/>
          <p:nvPr/>
        </p:nvSpPr>
        <p:spPr>
          <a:xfrm rot="8095200">
            <a:off x="3635280" y="4076640"/>
            <a:ext cx="1851120" cy="1851120"/>
          </a:xfrm>
          <a:solidFill>
            <a:srgbClr val="ff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ubTriangle"/>
          <p:cNvSpPr/>
          <p:nvPr/>
        </p:nvSpPr>
        <p:spPr>
          <a:xfrm rot="3050400">
            <a:off x="5148000" y="2565360"/>
            <a:ext cx="1828800" cy="1828800"/>
          </a:xfrm>
          <a:solidFill>
            <a:srgbClr val="ff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ubTriangle"/>
          <p:cNvSpPr/>
          <p:nvPr/>
        </p:nvSpPr>
        <p:spPr>
          <a:xfrm>
            <a:off x="4788000" y="2060640"/>
            <a:ext cx="936360" cy="1036440"/>
          </a:xfrm>
          <a:solidFill>
            <a:srgbClr val="ff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ubTriangle"/>
          <p:cNvSpPr/>
          <p:nvPr/>
        </p:nvSpPr>
        <p:spPr>
          <a:xfrm rot="5220600">
            <a:off x="4898880" y="3822480"/>
            <a:ext cx="1352520" cy="1311120"/>
          </a:xfrm>
          <a:solidFill>
            <a:srgbClr val="ff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140360" y="3141720"/>
            <a:ext cx="93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ffff"/>
                </a:solidFill>
                <a:latin typeface="Arial"/>
              </a:rPr>
              <a:t>SSD-c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435640" y="3213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atell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16200000">
            <a:off x="3902400" y="17233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atell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16200000">
            <a:off x="3973680" y="47476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atell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2962800">
            <a:off x="4903560" y="4176720"/>
            <a:ext cx="12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atell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960000">
            <a:off x="2549160" y="30258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atell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rot="18891600">
            <a:off x="4782960" y="2250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satelli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ubTriangle"/>
          <p:cNvSpPr/>
          <p:nvPr/>
        </p:nvSpPr>
        <p:spPr>
          <a:xfrm rot="16723800">
            <a:off x="3038400" y="1793520"/>
            <a:ext cx="1352520" cy="1311120"/>
          </a:xfrm>
          <a:solidFill>
            <a:srgbClr val="ff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3262200">
            <a:off x="3107880" y="229860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atell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ubTriangle"/>
          <p:cNvSpPr/>
          <p:nvPr/>
        </p:nvSpPr>
        <p:spPr>
          <a:xfrm rot="11659800">
            <a:off x="2987280" y="3789000"/>
            <a:ext cx="936720" cy="1036800"/>
          </a:xfrm>
          <a:solidFill>
            <a:srgbClr val="ff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19534800">
            <a:off x="3059640" y="414936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satelli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619280" y="333360"/>
            <a:ext cx="75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00"/>
                </a:solidFill>
                <a:latin typeface="Arial"/>
              </a:rPr>
              <a:t>Core and satellites (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BF2B-68E4-491C-A937-7C1C4F02C1C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19280" y="475920"/>
            <a:ext cx="7524720" cy="63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ffff00"/>
                </a:solidFill>
                <a:latin typeface="Arial"/>
              </a:rPr>
              <a:t>Core and satellites (2)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655280" y="1736640"/>
            <a:ext cx="7488360" cy="40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73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Core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73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3873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contains only integral register information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3873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3873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contains the most important demographic and socio-economic information 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3873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3873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contains only information that is used in at least two satellite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3784-B7C1-46BF-ADA0-5C117BC057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619280" y="512640"/>
            <a:ext cx="7524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ffff00"/>
                </a:solidFill>
                <a:latin typeface="Arial"/>
              </a:rPr>
              <a:t>Core and satellites (3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619280" y="1881360"/>
            <a:ext cx="7524720" cy="33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Satellites are produced in two steps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Copying and derivation of the relevant information from the core SSD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Adding of the unique information on a specific theme from registers and survey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6BF4-278D-4690-9B75-B2E26B1D93F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55280" y="549000"/>
            <a:ext cx="7488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nclusions SSD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619280" y="1881360"/>
            <a:ext cx="7524720" cy="36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The SSD diminishes the administrative burden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The SSD increase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The efficiency of statistics production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The accuracy of statistical outputs 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The relevance of social statistics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The possibilities for social policy research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6415-6B5A-4BBD-9C2F-DC7C3FFC738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655280" y="260280"/>
            <a:ext cx="74883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stimation aspects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84000" y="1557360"/>
            <a:ext cx="7559640" cy="41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7628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Surveys are samples from the population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47628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If surveys are enriched with register information, estimations of the register part of the enriched survey will lead to inconsistencies with the counts from the entire register 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47628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Statistics Netherlands developed the method of consistent and repeated weighting to solve these inconsistencies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5667-53EE-4B71-AF0B-AB23393BF9F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433600" y="2205000"/>
            <a:ext cx="1657440" cy="2517840"/>
          </a:xfrm>
          <a:prstGeom prst="cube">
            <a:avLst>
              <a:gd name="adj" fmla="val 25000"/>
            </a:avLst>
          </a:prstGeom>
          <a:solidFill>
            <a:srgbClr val="ffff00">
              <a:alpha val="40000"/>
            </a:srgbClr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55280" y="609480"/>
            <a:ext cx="74883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tatistical confidentiality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602080" y="2637000"/>
            <a:ext cx="1062000" cy="757080"/>
          </a:xfrm>
          <a:prstGeom prst="flowChartMultidocumen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18320" y="2243160"/>
            <a:ext cx="2930400" cy="825480"/>
          </a:xfrm>
          <a:prstGeom prst="flowChartInputOutput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D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02080" y="3789360"/>
            <a:ext cx="1062000" cy="757080"/>
          </a:xfrm>
          <a:prstGeom prst="flowChartMultidocumen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4000" y="28512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haracterist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52600" y="3684600"/>
            <a:ext cx="1427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Identifiers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PINs, sex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ate of birth, addres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39640" y="5013360"/>
            <a:ext cx="367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PERSONS BACKB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full range of all persons as from 199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08" name=""/>
          <p:cNvCxnSpPr/>
          <p:nvPr/>
        </p:nvCxnSpPr>
        <p:spPr>
          <a:xfrm>
            <a:off x="3081240" y="3068280"/>
            <a:ext cx="23040" cy="1142280"/>
          </a:xfrm>
          <a:prstGeom prst="straightConnector1">
            <a:avLst/>
          </a:prstGeom>
          <a:ln w="25560">
            <a:solidFill>
              <a:srgbClr val="ffffff"/>
            </a:solidFill>
            <a:prstDash val="sysDot"/>
            <a:miter/>
            <a:headEnd len="med" type="oval" w="med"/>
            <a:tailEnd len="med" type="oval" w="med"/>
          </a:ln>
        </p:spPr>
      </p:cxnSp>
      <p:sp>
        <p:nvSpPr>
          <p:cNvPr id="409" name=""/>
          <p:cNvSpPr/>
          <p:nvPr/>
        </p:nvSpPr>
        <p:spPr>
          <a:xfrm>
            <a:off x="6713640" y="2266920"/>
            <a:ext cx="0" cy="7923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856840" y="3160800"/>
            <a:ext cx="222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dministrative sour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57760" y="3835440"/>
            <a:ext cx="2930760" cy="825480"/>
          </a:xfrm>
          <a:prstGeom prst="flowChartInputOutpu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ID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524640" y="3859200"/>
            <a:ext cx="0" cy="792000"/>
          </a:xfrm>
          <a:prstGeom prst="line">
            <a:avLst/>
          </a:prstGeom>
          <a:ln w="255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56480" y="4753080"/>
            <a:ext cx="190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ousehold surve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14" name=""/>
          <p:cNvCxnSpPr>
            <a:stCxn id="403" idx="2"/>
            <a:endCxn id="404" idx="3"/>
          </p:cNvCxnSpPr>
          <p:nvPr/>
        </p:nvCxnSpPr>
        <p:spPr>
          <a:xfrm flipV="1" rot="10800000">
            <a:off x="3663360" y="2654640"/>
            <a:ext cx="2448360" cy="1513800"/>
          </a:xfrm>
          <a:prstGeom prst="bentConnector3">
            <a:avLst>
              <a:gd name="adj1" fmla="val 55955"/>
            </a:avLst>
          </a:prstGeom>
          <a:ln w="1908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415" name=""/>
          <p:cNvCxnSpPr/>
          <p:nvPr/>
        </p:nvCxnSpPr>
        <p:spPr>
          <a:xfrm flipH="1" flipV="1">
            <a:off x="4737960" y="4163400"/>
            <a:ext cx="1213560" cy="846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416" name=""/>
          <p:cNvCxnSpPr>
            <a:stCxn id="404" idx="1"/>
            <a:endCxn id="406" idx="3"/>
          </p:cNvCxnSpPr>
          <p:nvPr/>
        </p:nvCxnSpPr>
        <p:spPr>
          <a:xfrm flipH="1">
            <a:off x="1978920" y="4168440"/>
            <a:ext cx="623160" cy="514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402" idx="1"/>
            <a:endCxn id="405" idx="3"/>
          </p:cNvCxnSpPr>
          <p:nvPr/>
        </p:nvCxnSpPr>
        <p:spPr>
          <a:xfrm flipH="1">
            <a:off x="1978920" y="3015720"/>
            <a:ext cx="623160" cy="3960"/>
          </a:xfrm>
          <a:prstGeom prst="straightConnector1">
            <a:avLst/>
          </a:prstGeom>
          <a:ln w="1908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418" name=""/>
          <p:cNvCxnSpPr>
            <a:stCxn id="400" idx="3"/>
            <a:endCxn id="407" idx="0"/>
          </p:cNvCxnSpPr>
          <p:nvPr/>
        </p:nvCxnSpPr>
        <p:spPr>
          <a:xfrm rot="5400000">
            <a:off x="2575080" y="4532760"/>
            <a:ext cx="281880" cy="680400"/>
          </a:xfrm>
          <a:prstGeom prst="bentConnector3">
            <a:avLst>
              <a:gd name="adj1" fmla="val 47953"/>
            </a:avLst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419" name=""/>
          <p:cNvSpPr/>
          <p:nvPr/>
        </p:nvSpPr>
        <p:spPr>
          <a:xfrm>
            <a:off x="4503600" y="5430960"/>
            <a:ext cx="388476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759"/>
              <a:gd name="adj5" fmla="val -205467"/>
              <a:gd name="adj6" fmla="val -5638"/>
            </a:avLst>
          </a:prstGeom>
          <a:solidFill>
            <a:srgbClr val="ff66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Ds in sources are replaced by ran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cord Identification Number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(RIN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Lock"/>
          <p:cNvSpPr/>
          <p:nvPr/>
        </p:nvSpPr>
        <p:spPr>
          <a:xfrm>
            <a:off x="4427640" y="4581360"/>
            <a:ext cx="360360" cy="505080"/>
          </a:xfrm>
          <a:prstGeom prst="pi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6342120" y="4371840"/>
            <a:ext cx="193680" cy="3524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513480" y="2616120"/>
            <a:ext cx="203400" cy="34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07DC-C982-48DC-83F3-326C0385A10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524720" cy="97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19280" y="1592280"/>
            <a:ext cx="7524720" cy="46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History of the Dutch Censu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Data source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Micro linkage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Micro integration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Social Statistical Database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Estimation aspect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Statistical confidentiality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4621-6232-446F-AE09-7EE5BB4471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19280" y="404640"/>
            <a:ext cx="7524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619280" y="1773360"/>
            <a:ext cx="7524720" cy="40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Matching is relatively cheap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Matching is relatively quick (short production time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Micro integration remains important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The SSD has found its place in the organisation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Repeated weighting method guarantees consistent estimate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Statistical confidentiality aspects have become very important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ED68-DFF0-4817-A8FA-D295B6BB61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11280" y="5624280"/>
            <a:ext cx="8028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Time for questions and discuss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200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6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1943280" y="1160640"/>
            <a:ext cx="6589440" cy="43210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1908000" y="476280"/>
            <a:ext cx="5610240" cy="495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9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5840">
                  <a:solidFill>
                    <a:srgbClr val="008000"/>
                  </a:solidFill>
                  <a:miter/>
                </a:ln>
                <a:solidFill>
                  <a:srgbClr val="ccffcc">
                    <a:alpha val="95000"/>
                  </a:srgbClr>
                </a:solidFill>
                <a:latin typeface="Arial Black"/>
              </a:rPr>
              <a:t>Thank you for your attention!</a:t>
            </a:r>
            <a:endParaRPr b="0" lang="en-US" sz="2800" spc="1" strike="noStrike">
              <a:ln w="15840">
                <a:solidFill>
                  <a:srgbClr val="008000"/>
                </a:solidFill>
                <a:miter/>
              </a:ln>
              <a:solidFill>
                <a:srgbClr val="ccffcc">
                  <a:alpha val="95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8C00-E268-46E3-939A-98AC8C2B71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7524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History of the Dutch Censu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19280" y="1218960"/>
            <a:ext cx="7524720" cy="508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ADITIONAL CENSU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Ministry of Home Affairs: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1829, 1839, 1849, 1859, 1869, 1879 and 1889 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13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Statistics Netherlands: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1899, 1909, 1920, 1930, 1947, 1960 and 1971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19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Unwillingness (nonresponse) and reduction </a:t>
            </a:r>
            <a:br>
              <a:rPr sz="2200"/>
            </a:b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expenses </a:t>
            </a:r>
            <a:r>
              <a:rPr b="1" lang="en-GB" sz="2200" spc="-1" strike="noStrike">
                <a:solidFill>
                  <a:srgbClr val="ff9900"/>
                </a:solidFill>
                <a:latin typeface="Symbol"/>
                <a:ea typeface="Symbol"/>
              </a:rPr>
              <a:t></a:t>
            </a: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 no more Traditional Censuses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1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TERNATIVE: VIRTUAL CENSU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1981 and 1991: Population Register and surveys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development 90’s: more registers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  <a:ea typeface="Arial"/>
              </a:rPr>
              <a:t>→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2001: integrated set of registers and surveys, SSD</a:t>
            </a:r>
            <a:r>
              <a:rPr b="1" lang="nl-NL" sz="2200" spc="-1" strike="noStrike">
                <a:solidFill>
                  <a:srgbClr val="33cc33"/>
                </a:solidFill>
                <a:latin typeface="Arial"/>
              </a:rPr>
              <a:t>  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CCA0-60E5-4E55-81A1-8FFD89853D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19280" y="441360"/>
            <a:ext cx="7524720" cy="51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2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ata sour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19280" y="1160280"/>
            <a:ext cx="7524720" cy="54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gisters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Population Register (PR),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6 million records</a:t>
            </a:r>
            <a:br>
              <a:rPr sz="2000"/>
            </a:b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demographic variables: sex, age, household status etc.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Jobs file, employees,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.5 million records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,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and </a:t>
            </a:r>
            <a:br>
              <a:rPr sz="2000"/>
            </a:b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   self-employed persons,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90 thousand records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dates of job, branch of economic activity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Fiscal administration (FIBASE)</a:t>
            </a:r>
            <a:br>
              <a:rPr sz="2000"/>
            </a:b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jobs,</a:t>
            </a: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.2 million records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, and </a:t>
            </a:r>
            <a:br>
              <a:rPr sz="2000"/>
            </a:b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   pensions and life insurance benefits,</a:t>
            </a: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.7 million records</a:t>
            </a: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3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Social Security administrations,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 million record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 </a:t>
            </a:r>
            <a:br>
              <a:rPr sz="2000"/>
            </a:b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auxiliary information integration proces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ts val="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rveys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Survey on Employment and Earnings (SEE), </a:t>
            </a:r>
            <a:br>
              <a:rPr sz="2000"/>
            </a:b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 million records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,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working hours, place of work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ts val="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Labour Force Survey (LFS),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 years: 230.000 records</a:t>
            </a:r>
            <a:br>
              <a:rPr sz="2000"/>
            </a:b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education, occupation, (economic) activity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FA51-FBD5-4DAB-AC96-516BF48F9C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619280" y="1881360"/>
            <a:ext cx="7524720" cy="376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7628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Matching of registers and datasets to a self constructed Central Matching File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Records are identified by a surrogate identifier (RIN)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One unique table RIN-Social Security Number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Minimal set of identifying variables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Every step in the process is a deterministic match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4762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619280" y="609480"/>
            <a:ext cx="7524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ffff00"/>
                </a:solidFill>
                <a:latin typeface="Arial"/>
              </a:rPr>
              <a:t>Matching proces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3269-3321-4D31-B28B-14EEBBA443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404280"/>
            <a:ext cx="752472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tatistics Netherlands’ backbone of person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619280" y="1736640"/>
          <a:ext cx="7524720" cy="4352760"/>
        </p:xfrm>
        <a:graphic>
          <a:graphicData uri="http://schemas.openxmlformats.org/drawingml/2006/table">
            <a:tbl>
              <a:tblPr/>
              <a:tblGrid>
                <a:gridCol w="3256560"/>
                <a:gridCol w="4268160"/>
              </a:tblGrid>
              <a:tr h="764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e Central Matching File (April 2007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6.436.060 records 16.334.210 unique pers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ocial security number (sofi)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&lt;  0.03 % unknown for 1995-2007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ate of bir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&lt; 0.5% unknown month and/or da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end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w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stal co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&lt; 0.05% unknow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ous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&lt; 0.05% unknow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IN Pers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w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IN Addr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w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frame of variable valid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w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055A-3A36-4B72-B930-08A354905D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55280" y="609480"/>
            <a:ext cx="74883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ffff00"/>
                </a:solidFill>
                <a:latin typeface="Arial"/>
              </a:rPr>
              <a:t>Matching proces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55280" y="1600200"/>
            <a:ext cx="74883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Social security number matching</a:t>
            </a:r>
            <a:br>
              <a:rPr sz="2400"/>
            </a:b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Check on date of birth and gender</a:t>
            </a:r>
            <a:br>
              <a:rPr sz="2400"/>
            </a:b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A valid match when no more than one of the variables year, month, day of birth and gender differ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else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AutoNum type="arabicPeriod" startAt="2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Matching using other variables like postal code, house number, date of birth, gender     All keys must match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else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AutoNum type="arabicPeriod" startAt="3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Match on social security number without any control on other variable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4206-5FC5-49A4-B191-2F5F0DD69D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971640" y="1123920"/>
            <a:ext cx="1081080" cy="1441440"/>
            <a:chOff x="971640" y="1123920"/>
            <a:chExt cx="1081080" cy="1441440"/>
          </a:xfrm>
        </p:grpSpPr>
        <p:sp>
          <p:nvSpPr>
            <p:cNvPr id="65" name=""/>
            <p:cNvSpPr/>
            <p:nvPr/>
          </p:nvSpPr>
          <p:spPr>
            <a:xfrm>
              <a:off x="971640" y="1197000"/>
              <a:ext cx="215640" cy="13683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71640" y="1123920"/>
              <a:ext cx="1079280" cy="73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87280" y="1197000"/>
              <a:ext cx="865440" cy="1366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87280" y="1123920"/>
              <a:ext cx="0" cy="1440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03280" y="1123920"/>
              <a:ext cx="0" cy="1440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123920"/>
              <a:ext cx="0" cy="1440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836720" y="1123920"/>
              <a:ext cx="0" cy="1440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71640" y="126828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71640" y="134136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71640" y="141300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971640" y="148428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71640" y="155736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71640" y="162864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71640" y="170028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71640" y="177336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71640" y="184464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71640" y="191628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71640" y="198900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71640" y="206064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971640" y="213192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71640" y="220500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71640" y="227664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71640" y="234936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71640" y="242100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71640" y="249228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71640" y="119700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826920" y="1413000"/>
            <a:ext cx="1081080" cy="1441440"/>
            <a:chOff x="826920" y="1413000"/>
            <a:chExt cx="1081080" cy="1441440"/>
          </a:xfrm>
        </p:grpSpPr>
        <p:sp>
          <p:nvSpPr>
            <p:cNvPr id="92" name=""/>
            <p:cNvSpPr/>
            <p:nvPr/>
          </p:nvSpPr>
          <p:spPr>
            <a:xfrm>
              <a:off x="826920" y="1486080"/>
              <a:ext cx="215640" cy="13683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26920" y="1413000"/>
              <a:ext cx="1079280" cy="73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42560" y="1486080"/>
              <a:ext cx="865440" cy="1366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42560" y="1413000"/>
              <a:ext cx="0" cy="1440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58560" y="1413000"/>
              <a:ext cx="0" cy="1440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76000" y="1413000"/>
              <a:ext cx="0" cy="1440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92000" y="1413000"/>
              <a:ext cx="0" cy="1440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26920" y="148608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60000" y="1486080"/>
              <a:ext cx="216000" cy="13683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26920" y="155736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26920" y="163044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26920" y="170208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26920" y="177480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26920" y="184644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26920" y="191772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6920" y="199080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26920" y="206244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26920" y="213372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26920" y="220680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6920" y="227808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26920" y="234972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6920" y="242280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28360" y="2494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6920" y="256716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6920" y="263844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26920" y="271008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6920" y="278316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81120" y="188640"/>
            <a:ext cx="7562880" cy="53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icro dat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with Surrogate Identifier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4639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Regis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82560" y="3932280"/>
            <a:ext cx="1081080" cy="1441440"/>
            <a:chOff x="682560" y="3932280"/>
            <a:chExt cx="1081080" cy="1441440"/>
          </a:xfrm>
        </p:grpSpPr>
        <p:sp>
          <p:nvSpPr>
            <p:cNvPr id="122" name=""/>
            <p:cNvSpPr/>
            <p:nvPr/>
          </p:nvSpPr>
          <p:spPr>
            <a:xfrm>
              <a:off x="682560" y="4005360"/>
              <a:ext cx="215640" cy="13683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2560" y="3932280"/>
              <a:ext cx="1079280" cy="73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98200" y="4005360"/>
              <a:ext cx="865440" cy="1366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98200" y="3932280"/>
              <a:ext cx="0" cy="1440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14200" y="3932280"/>
              <a:ext cx="0" cy="1440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31640" y="3932280"/>
              <a:ext cx="0" cy="1440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7640" y="3932280"/>
              <a:ext cx="0" cy="1440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2560" y="407664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2560" y="414972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2560" y="422136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2560" y="429264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2560" y="436572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2560" y="443700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2560" y="450864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2560" y="458172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2560" y="465300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2560" y="472464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2560" y="479736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2560" y="486900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2560" y="494028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2560" y="501336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2560" y="508500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2560" y="515772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2560" y="522936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2560" y="530064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2560" y="400536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82560" y="5337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rve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71640" y="6093000"/>
            <a:ext cx="217440" cy="72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71640" y="6380280"/>
            <a:ext cx="217440" cy="73080"/>
          </a:xfrm>
          <a:prstGeom prst="rect">
            <a:avLst/>
          </a:prstGeom>
          <a:solidFill>
            <a:srgbClr val="99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5950080"/>
            <a:ext cx="18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rect Identif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87280" y="623736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urrogate Identifier (RI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88000" y="836640"/>
            <a:ext cx="0" cy="57610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27280" y="2708280"/>
            <a:ext cx="1944720" cy="10080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Micro data Preparation and docum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24000" y="2060640"/>
            <a:ext cx="360360" cy="2736720"/>
          </a:xfrm>
          <a:custGeom>
            <a:avLst/>
            <a:gdLst>
              <a:gd name="textAreaLeft" fmla="*/ 0 w 360360"/>
              <a:gd name="textAreaRight" fmla="*/ 129960 w 36036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82560" y="1700280"/>
            <a:ext cx="1081080" cy="1441440"/>
            <a:chOff x="682560" y="1700280"/>
            <a:chExt cx="1081080" cy="1441440"/>
          </a:xfrm>
        </p:grpSpPr>
        <p:sp>
          <p:nvSpPr>
            <p:cNvPr id="157" name=""/>
            <p:cNvSpPr/>
            <p:nvPr/>
          </p:nvSpPr>
          <p:spPr>
            <a:xfrm>
              <a:off x="682560" y="1773360"/>
              <a:ext cx="215640" cy="13683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2560" y="1700280"/>
              <a:ext cx="1079280" cy="730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98200" y="1773360"/>
              <a:ext cx="865440" cy="1366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98200" y="1700280"/>
              <a:ext cx="0" cy="1440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14200" y="1700280"/>
              <a:ext cx="0" cy="1440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31640" y="1700280"/>
              <a:ext cx="0" cy="1440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47640" y="1700280"/>
              <a:ext cx="0" cy="1440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2560" y="177336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15640" y="1773360"/>
              <a:ext cx="216000" cy="13683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82560" y="184464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2560" y="191772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2560" y="198936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2560" y="206208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2560" y="213372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82560" y="220500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2560" y="227808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2560" y="234972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82560" y="242100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2560" y="249408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2560" y="256536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2560" y="263700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2560" y="271008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4000" y="27813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2560" y="285444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2560" y="292572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2560" y="299736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82560" y="307044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395280" y="2058840"/>
            <a:ext cx="1081080" cy="1441440"/>
            <a:chOff x="395280" y="2058840"/>
            <a:chExt cx="1081080" cy="1441440"/>
          </a:xfrm>
        </p:grpSpPr>
        <p:sp>
          <p:nvSpPr>
            <p:cNvPr id="185" name=""/>
            <p:cNvSpPr/>
            <p:nvPr/>
          </p:nvSpPr>
          <p:spPr>
            <a:xfrm>
              <a:off x="395280" y="2131920"/>
              <a:ext cx="215640" cy="13683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5280" y="2058840"/>
              <a:ext cx="1079280" cy="730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0920" y="2131920"/>
              <a:ext cx="865440" cy="1366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0920" y="2058840"/>
              <a:ext cx="0" cy="1440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26920" y="2058840"/>
              <a:ext cx="0" cy="1440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44360" y="2058840"/>
              <a:ext cx="0" cy="1440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60360" y="2058840"/>
              <a:ext cx="0" cy="1440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5280" y="220320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5280" y="227628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5280" y="234792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5280" y="241920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5280" y="249228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5280" y="256356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5280" y="263520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5280" y="270828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5280" y="277956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95280" y="285120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95280" y="292392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5280" y="299556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5280" y="306684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95280" y="313992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5280" y="321156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5280" y="328428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5280" y="335592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5280" y="342720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5280" y="2131920"/>
              <a:ext cx="107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6985080" y="765000"/>
            <a:ext cx="2266920" cy="3528360"/>
            <a:chOff x="6985080" y="765000"/>
            <a:chExt cx="2266920" cy="3528360"/>
          </a:xfrm>
        </p:grpSpPr>
        <p:sp>
          <p:nvSpPr>
            <p:cNvPr id="212" name=""/>
            <p:cNvSpPr/>
            <p:nvPr/>
          </p:nvSpPr>
          <p:spPr>
            <a:xfrm>
              <a:off x="6985080" y="3213000"/>
              <a:ext cx="212400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YearMonthBirth, gender, municipality, civil statu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67640" y="765000"/>
              <a:ext cx="1584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mployment income, jobs education social security,.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971640" y="7650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nicipal Popula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276720" y="3860640"/>
            <a:ext cx="934920" cy="2710080"/>
            <a:chOff x="3276720" y="3860640"/>
            <a:chExt cx="934920" cy="2710080"/>
          </a:xfrm>
        </p:grpSpPr>
        <p:sp>
          <p:nvSpPr>
            <p:cNvPr id="216" name=""/>
            <p:cNvSpPr/>
            <p:nvPr/>
          </p:nvSpPr>
          <p:spPr>
            <a:xfrm>
              <a:off x="3516480" y="4581360"/>
              <a:ext cx="198360" cy="136872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16320" y="4581360"/>
              <a:ext cx="200160" cy="13687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16320" y="4508640"/>
              <a:ext cx="398520" cy="727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16480" y="4508640"/>
              <a:ext cx="1440" cy="1439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14840" y="4508640"/>
              <a:ext cx="1440" cy="1439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16320" y="4653000"/>
              <a:ext cx="3985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3316320" y="4723920"/>
              <a:ext cx="39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16320" y="4581360"/>
              <a:ext cx="39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3316320" y="4795920"/>
              <a:ext cx="3985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3316320" y="4869000"/>
              <a:ext cx="3985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316320" y="4940280"/>
              <a:ext cx="3985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16320" y="5011560"/>
              <a:ext cx="39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3316320" y="5083200"/>
              <a:ext cx="3985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316320" y="5154120"/>
              <a:ext cx="39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3316320" y="5227200"/>
              <a:ext cx="39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316320" y="5299200"/>
              <a:ext cx="3985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316320" y="5372280"/>
              <a:ext cx="3985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3316320" y="5443560"/>
              <a:ext cx="3985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316320" y="5514480"/>
              <a:ext cx="39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316320" y="5587560"/>
              <a:ext cx="39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316320" y="5659560"/>
              <a:ext cx="3985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16320" y="5732640"/>
              <a:ext cx="3985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316320" y="5803920"/>
              <a:ext cx="3985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3316320" y="5874840"/>
              <a:ext cx="39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48080" y="4292640"/>
              <a:ext cx="398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RI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56960" y="4005360"/>
              <a:ext cx="454680" cy="25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-identification ta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76720" y="3860640"/>
              <a:ext cx="431640" cy="432000"/>
            </a:xfrm>
            <a:prstGeom prst="upDownArrow">
              <a:avLst>
                <a:gd name="adj1" fmla="val 50000"/>
                <a:gd name="adj2" fmla="val 19924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5148360" y="56070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-identified micro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4859280" y="765000"/>
            <a:ext cx="3456000" cy="4536720"/>
            <a:chOff x="4859280" y="765000"/>
            <a:chExt cx="3456000" cy="4536720"/>
          </a:xfrm>
        </p:grpSpPr>
        <p:grpSp>
          <p:nvGrpSpPr>
            <p:cNvPr id="245" name=""/>
            <p:cNvGrpSpPr/>
            <p:nvPr/>
          </p:nvGrpSpPr>
          <p:grpSpPr>
            <a:xfrm>
              <a:off x="4932360" y="765000"/>
              <a:ext cx="2809080" cy="3962160"/>
              <a:chOff x="4932360" y="765000"/>
              <a:chExt cx="2809080" cy="396216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6012000" y="980640"/>
                <a:ext cx="1729440" cy="2017440"/>
                <a:chOff x="6012000" y="980640"/>
                <a:chExt cx="1729440" cy="2017440"/>
              </a:xfrm>
            </p:grpSpPr>
            <p:grpSp>
              <p:nvGrpSpPr>
                <p:cNvPr id="247" name=""/>
                <p:cNvGrpSpPr/>
                <p:nvPr/>
              </p:nvGrpSpPr>
              <p:grpSpPr>
                <a:xfrm>
                  <a:off x="6661080" y="980640"/>
                  <a:ext cx="1080360" cy="1441440"/>
                  <a:chOff x="6661080" y="980640"/>
                  <a:chExt cx="1080360" cy="144144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6661080" y="1053360"/>
                    <a:ext cx="215640" cy="1368720"/>
                  </a:xfrm>
                  <a:prstGeom prst="rect">
                    <a:avLst/>
                  </a:prstGeom>
                  <a:solidFill>
                    <a:srgbClr val="99c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661080" y="980640"/>
                    <a:ext cx="1079280" cy="72720"/>
                  </a:xfrm>
                  <a:prstGeom prst="rect">
                    <a:avLst/>
                  </a:prstGeom>
                  <a:blipFill rotWithShape="0">
                    <a:blip r:embed="rId7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920" bIns="259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6876720" y="1053360"/>
                    <a:ext cx="864720" cy="1366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876720" y="980640"/>
                    <a:ext cx="0" cy="14396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7092720" y="980640"/>
                    <a:ext cx="0" cy="14396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7310160" y="980640"/>
                    <a:ext cx="0" cy="14396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7526160" y="980640"/>
                    <a:ext cx="0" cy="14396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6661080" y="112500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6661080" y="119808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6661080" y="126936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6661080" y="134100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6661080" y="141372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6661080" y="148536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6661080" y="155664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6661080" y="162972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6661080" y="170136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6661080" y="177264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6661080" y="184572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6661080" y="191700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6661080" y="198864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661080" y="206172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661080" y="213300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661080" y="220608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6661080" y="227736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6661080" y="234900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6661080" y="105336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6300720" y="1269360"/>
                  <a:ext cx="1080360" cy="1441440"/>
                  <a:chOff x="6300720" y="1269360"/>
                  <a:chExt cx="1080360" cy="144144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6300720" y="1342080"/>
                    <a:ext cx="215640" cy="1368720"/>
                  </a:xfrm>
                  <a:prstGeom prst="rect">
                    <a:avLst/>
                  </a:prstGeom>
                  <a:solidFill>
                    <a:srgbClr val="99c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6300720" y="1269360"/>
                    <a:ext cx="1079280" cy="72720"/>
                  </a:xfrm>
                  <a:prstGeom prst="rect">
                    <a:avLst/>
                  </a:prstGeom>
                  <a:blipFill rotWithShape="0">
                    <a:blip r:embed="rId8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920" bIns="259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6516360" y="1342080"/>
                    <a:ext cx="864720" cy="1366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6516360" y="1269360"/>
                    <a:ext cx="0" cy="14396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6732360" y="1269360"/>
                    <a:ext cx="0" cy="14396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6949800" y="1269360"/>
                    <a:ext cx="0" cy="14396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7165800" y="1269360"/>
                    <a:ext cx="0" cy="14396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6300720" y="141372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6300720" y="148680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6300720" y="155808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6300720" y="162972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6300720" y="170244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6300720" y="177408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6300720" y="184536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6300720" y="191844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300720" y="199008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6300720" y="206136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300720" y="213444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6300720" y="220572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6300720" y="227736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6300720" y="235044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6300720" y="242172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6300720" y="249480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300720" y="256608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6300720" y="263772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6300720" y="134208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1" name=""/>
                <p:cNvGrpSpPr/>
                <p:nvPr/>
              </p:nvGrpSpPr>
              <p:grpSpPr>
                <a:xfrm>
                  <a:off x="6012000" y="1556640"/>
                  <a:ext cx="1080360" cy="1441440"/>
                  <a:chOff x="6012000" y="1556640"/>
                  <a:chExt cx="1080360" cy="144144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6012000" y="1629360"/>
                    <a:ext cx="215640" cy="1368720"/>
                  </a:xfrm>
                  <a:prstGeom prst="rect">
                    <a:avLst/>
                  </a:prstGeom>
                  <a:solidFill>
                    <a:srgbClr val="99c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6012000" y="1556640"/>
                    <a:ext cx="1079280" cy="72720"/>
                  </a:xfrm>
                  <a:prstGeom prst="rect">
                    <a:avLst/>
                  </a:prstGeom>
                  <a:blipFill rotWithShape="0">
                    <a:blip r:embed="rId9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920" bIns="259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6227640" y="1629360"/>
                    <a:ext cx="864720" cy="136692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6227640" y="1556640"/>
                    <a:ext cx="0" cy="14396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6443640" y="1556640"/>
                    <a:ext cx="0" cy="14396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6661080" y="1556640"/>
                    <a:ext cx="0" cy="14396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6877080" y="1556640"/>
                    <a:ext cx="0" cy="14396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6012000" y="170100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6012000" y="177408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12000" y="184536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12000" y="191700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6012000" y="198972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012000" y="206136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6012000" y="213264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6012000" y="220572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6012000" y="227736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6012000" y="234864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6012000" y="242172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6012000" y="249300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6012000" y="256464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6012000" y="263772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6012000" y="270900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6012000" y="278208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6012000" y="285336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6012000" y="292500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6012000" y="1629360"/>
                    <a:ext cx="10792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8" name=""/>
              <p:cNvGrpSpPr/>
              <p:nvPr/>
            </p:nvGrpSpPr>
            <p:grpSpPr>
              <a:xfrm>
                <a:off x="6012000" y="3285720"/>
                <a:ext cx="1081080" cy="1441440"/>
                <a:chOff x="6012000" y="3285720"/>
                <a:chExt cx="1081080" cy="144144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012000" y="3358440"/>
                  <a:ext cx="216000" cy="1368720"/>
                </a:xfrm>
                <a:prstGeom prst="rect">
                  <a:avLst/>
                </a:prstGeom>
                <a:solidFill>
                  <a:srgbClr val="99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012000" y="3285720"/>
                  <a:ext cx="1079640" cy="7272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228000" y="3358440"/>
                  <a:ext cx="865080" cy="1366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228000" y="3285720"/>
                  <a:ext cx="0" cy="1439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444000" y="3285720"/>
                  <a:ext cx="0" cy="1439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661440" y="3285720"/>
                  <a:ext cx="0" cy="1439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877440" y="3285720"/>
                  <a:ext cx="0" cy="1439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012000" y="3430080"/>
                  <a:ext cx="1079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012000" y="3503160"/>
                  <a:ext cx="1079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012000" y="3574440"/>
                  <a:ext cx="1079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012000" y="3646080"/>
                  <a:ext cx="1079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012000" y="3718800"/>
                  <a:ext cx="1079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12000" y="3790440"/>
                  <a:ext cx="1079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012000" y="3861720"/>
                  <a:ext cx="1079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012000" y="3934800"/>
                  <a:ext cx="1079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012000" y="4006440"/>
                  <a:ext cx="1079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012000" y="4077720"/>
                  <a:ext cx="1079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012000" y="4150800"/>
                  <a:ext cx="1079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012000" y="4222080"/>
                  <a:ext cx="1079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012000" y="4293720"/>
                  <a:ext cx="1079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012000" y="4366800"/>
                  <a:ext cx="1079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012000" y="4438080"/>
                  <a:ext cx="1079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012000" y="4511160"/>
                  <a:ext cx="1079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012000" y="4582440"/>
                  <a:ext cx="1079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012000" y="4654080"/>
                  <a:ext cx="1079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012000" y="3358440"/>
                  <a:ext cx="1079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5" name=""/>
              <p:cNvSpPr/>
              <p:nvPr/>
            </p:nvSpPr>
            <p:spPr>
              <a:xfrm>
                <a:off x="4932360" y="2854080"/>
                <a:ext cx="863640" cy="86364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940360" y="3070080"/>
                <a:ext cx="398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RIN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940360" y="1341000"/>
                <a:ext cx="398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RIN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227640" y="1053720"/>
                <a:ext cx="398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RIN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588000" y="765000"/>
                <a:ext cx="398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RIN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4859280" y="4714560"/>
              <a:ext cx="34560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lection from Municipal population regi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4000320" y="692280"/>
            <a:ext cx="7290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ion environment S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88720" y="765000"/>
            <a:ext cx="73260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cro data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ocial Statistics Data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E76F-7A01-4215-8BBE-FBB77B7CDD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655280" y="367920"/>
            <a:ext cx="7488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692360" y="1341360"/>
          <a:ext cx="7451280" cy="4463640"/>
        </p:xfrm>
        <a:graphic>
          <a:graphicData uri="http://schemas.openxmlformats.org/drawingml/2006/table">
            <a:tbl>
              <a:tblPr/>
              <a:tblGrid>
                <a:gridCol w="1266480"/>
                <a:gridCol w="381240"/>
                <a:gridCol w="801720"/>
                <a:gridCol w="927720"/>
                <a:gridCol w="241920"/>
                <a:gridCol w="610920"/>
                <a:gridCol w="810000"/>
                <a:gridCol w="548640"/>
                <a:gridCol w="1063080"/>
                <a:gridCol w="799560"/>
              </a:tblGrid>
              <a:tr h="3178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400" spc="-1" strike="noStrike">
                          <a:solidFill>
                            <a:srgbClr val="33cc33"/>
                          </a:solidFill>
                          <a:latin typeface="Arial"/>
                          <a:ea typeface="Times New Roman"/>
                        </a:rPr>
                        <a:t>Employement and Wages survey </a:t>
                      </a:r>
                      <a:r>
                        <a:rPr b="0" lang="en-GB" sz="1400" spc="-1" strike="noStrike">
                          <a:solidFill>
                            <a:srgbClr val="33cc33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8012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824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tal match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74797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8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7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ofi number, year of birth, month, day, gen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5770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4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8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stal code, year of birth, month, day, gen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642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ofi numb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6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824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t match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32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8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alid sofi numb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119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8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alid postal co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7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8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valid postal co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29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82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n-resid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1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8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nknown or invalid sofi numb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207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8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alid postal co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7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8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valid postal co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5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82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n-resid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3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B650-0636-43DF-8735-17CE7D1796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2T14:33:14Z</dcterms:created>
  <dc:creator>Eric Schulte Nordholt</dc:creator>
  <dc:description/>
  <dc:language>en-US</dc:language>
  <cp:lastModifiedBy>Eric</cp:lastModifiedBy>
  <cp:lastPrinted>2002-02-11T11:11:40Z</cp:lastPrinted>
  <dcterms:modified xsi:type="dcterms:W3CDTF">2007-05-24T12:44:10Z</dcterms:modified>
  <cp:revision>304</cp:revision>
  <dc:subject/>
  <dc:title>Combined use of da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40632605</vt:r8>
  </property>
  <property fmtid="{D5CDD505-2E9C-101B-9397-08002B2CF9AE}" pid="3" name="_AuthorEmail">
    <vt:lpwstr>ESLE@CBS.nl</vt:lpwstr>
  </property>
  <property fmtid="{D5CDD505-2E9C-101B-9397-08002B2CF9AE}" pid="4" name="_AuthorEmailDisplayName">
    <vt:lpwstr>Schulte Nordholt, drs E.</vt:lpwstr>
  </property>
  <property fmtid="{D5CDD505-2E9C-101B-9397-08002B2CF9AE}" pid="5" name="_EmailSubject">
    <vt:lpwstr>UNECE-Eurostat Meeting on Population and Housing Censuses, Astana 4-6 June 2007</vt:lpwstr>
  </property>
</Properties>
</file>