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239840" indent="-195120">
              <a:spcBef>
                <a:spcPts val="601"/>
              </a:spcBef>
              <a:buClr>
                <a:srgbClr val="778d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3848040" indent="-114120">
              <a:spcBef>
                <a:spcPts val="601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040" y="617220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Arial"/>
              </a:rPr>
              <a:t>Page </a:t>
            </a:r>
            <a:fld id="{8F7F5FCA-FF0D-4300-8C70-ABD71D93DB5A}" type="slidenum">
              <a:rPr b="0" lang="en-US" sz="10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3828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74570"/>
                </a:solidFill>
                <a:latin typeface="Arial"/>
              </a:rPr>
              <a:t>The quality of the Population Census in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956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65f82"/>
                </a:solidFill>
                <a:latin typeface="Arial"/>
              </a:rPr>
              <a:t>4 jun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88620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10688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7680" y="4830840"/>
            <a:ext cx="1463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e1e1e1"/>
                </a:solidFill>
                <a:latin typeface="Arial"/>
              </a:rPr>
              <a:t>4 jun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1" marL="3780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8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752400" algn="ctr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868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778de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8de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78deb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e quality of the population census in France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79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ivier Lefebvre, Insee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  <a:ea typeface="Arial"/>
              </a:rPr>
              <a:t>The management of quality, process by proces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Sampling fram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Sampling frame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« quality » survey of the RI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An annual survey to assess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he surpluses and the deficit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he surplus-deficit balance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he proportion of communes for which the quality is deemed mediocre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he sample : 190 000 addresses and 520 000 dwelling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he results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0.9 % of dwellings in deficit, 1.4 % in surplu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one commune out of eight beyond 2.5% of deficit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A level of quality higher than that of usual geographical registers 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A regular improvement proces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Sampling frames (2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action pla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o improve the quality of the RIL with targetted operation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Decided and implemented by the Regional Directorates in relation with the commune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As a function of the strong points and the weak points detected locally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raining of communes, fieldwork…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Allowing for an operational management of quality because targetted on specific problems and based on the closeness between the regional teams and the commune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he future efforts: reduce the surpluses and arrive at level surplus-deficit balance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 procedures during the data coll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follow-up and control upon the initiative of the commun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s at the Insee after the data collection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reception-control, in office control, controls in the field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 procedure during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 precise data collection protoco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Checked by the municipal offic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by the superviso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Follow-up and control system upon the initiative of the commune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Upstream from the data collec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Validation of the sample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Control-validation of the field to be observed carried-out by the enumerator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Follow-up of the data collec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Follow-up of the progress of work of the enumerator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Follow-up of key indicators : FLNE, vacant dwellings, quality of the log book of the tour-visit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514080"/>
            <a:ext cx="8534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s at the Insee after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666666"/>
                </a:solidFill>
                <a:latin typeface="Arial"/>
              </a:rPr>
              <a:t>Successive « sorting »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step of reception-registering of the questionnair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Establishment of indicator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Communes with insufficient scores subject to in-depth control (approx. 10% of the communes)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esk control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Verification with the help of the housing Tax file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On the exhaustiveness of the dwellings, the FLNE, the structure of main/not main residence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n field control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in-field control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y are done by Insee agent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y relate to the communes whose quality is presumed insufficie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Most often, they confirm the data collectio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errors detected are correcte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66666"/>
                </a:solidFill>
                <a:latin typeface="Arial"/>
              </a:rPr>
              <a:t>N.B. these controls are not representative, therefore </a:t>
            </a:r>
            <a:r>
              <a:rPr b="0" i="1" lang="fr-FR" sz="2000" spc="-1" strike="noStrike" u="sng">
                <a:solidFill>
                  <a:srgbClr val="666666"/>
                </a:solidFill>
                <a:uFillTx/>
                <a:latin typeface="Arial"/>
              </a:rPr>
              <a:t>their results cannot be extrapolate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in-field control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57000"/>
          </a:bodyPr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429000"/>
            <a:ext cx="1828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0 000 in-fiel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362320" y="2590560"/>
            <a:ext cx="137160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3809880"/>
            <a:ext cx="1447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267080"/>
            <a:ext cx="144756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2286000"/>
            <a:ext cx="297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23 500 controls of dwel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505320"/>
            <a:ext cx="1981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6 400 controls of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105520"/>
            <a:ext cx="350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500 controls by tele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3048120"/>
            <a:ext cx="3352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which: 2 800 in the communes of more than 10 000 in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886200"/>
            <a:ext cx="3048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which: 3 600 in the communes of less than 10 000 in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312408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Zoom on controls of dwellings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362320" y="2590560"/>
            <a:ext cx="137160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3809880"/>
            <a:ext cx="1447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4267080"/>
            <a:ext cx="144756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286000"/>
            <a:ext cx="396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85 % : verification of a F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3505320"/>
            <a:ext cx="502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9 % : verification of a main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5105520"/>
            <a:ext cx="5029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6 % : verification of secondary residence, vacant dwelling or occasional dw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Plan of the presenta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Short brief about french censu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management of the census qualit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General principl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Sampling fram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ata collection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ata processing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issemination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Results of controls of FLNE</a:t>
            </a:r>
            <a:r>
              <a:rPr b="1" lang="fr-FR" sz="2800" spc="-1" strike="noStrike" u="sng">
                <a:solidFill>
                  <a:srgbClr val="465f82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n 85% of the cases, the household enumerator finds the information</a:t>
            </a:r>
            <a:r>
              <a:rPr b="1" lang="fr-FR" sz="24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Most often, the FLNE does concern a main residence and the number of persons is correctly estim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n 10 % of the cases, FLNEs have been wrongly provided  (for non-main residence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processing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9360">
            <a:solidFill>
              <a:srgbClr val="465f82"/>
            </a:solidFill>
            <a:miter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Data input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Quality criteria specifically defined in the specificatio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securing of transports and data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maximum rate of error by category of variable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Control of discrepancies by « </a:t>
            </a:r>
            <a:r>
              <a:rPr b="0" lang="fr-FR" sz="2000" spc="-1" strike="noStrike">
                <a:solidFill>
                  <a:srgbClr val="465f82"/>
                </a:solidFill>
                <a:latin typeface="Arial"/>
              </a:rPr>
              <a:t>flashage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evaluated by an independent control process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sample that has been input twice and arbitration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processing (2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Encodi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Quality control work station for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ssessing the quality of the automatic coding and manual correction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Estimating a « threshold » of percentage of bulletins « non codable »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The contributions of this approach :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dding to the </a:t>
            </a:r>
            <a:r>
              <a:rPr b="0" lang="fr-FR" sz="1800" spc="-1" strike="noStrike">
                <a:solidFill>
                  <a:srgbClr val="465f82"/>
                </a:solidFill>
                <a:latin typeface="Arial"/>
              </a:rPr>
              <a:t>expert system</a:t>
            </a:r>
            <a:r>
              <a:rPr b="0" lang="fr-FR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files 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the improvement of training and protocols  (precisions added in codification rules)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</a:rPr>
              <a:t>A finer management of quality, without going in for « excess quality »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processing (3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65f82"/>
                </a:solidFill>
                <a:latin typeface="Arial"/>
              </a:rPr>
              <a:t>Data editing and imput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nayse the share of non responses or incoherent respons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Imputation of missing data or data presumed non-coherent (hot-deck procedure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They are fine-tuned year after year, in view of the quality of the variables produced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65f82"/>
                </a:solidFill>
                <a:latin typeface="Arial"/>
              </a:rPr>
              <a:t>Dissemination</a:t>
            </a:r>
            <a:endParaRPr b="1" lang="en-US" sz="32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A step prepared with the users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efine with them the products and services : two groups of the CNI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ssess their satisfaction : groups of the CNIS and satisfaction survey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A systematic validation of the data before dissemina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t the national level and in each regional directorate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Any questions ?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676520"/>
            <a:ext cx="7924680" cy="0"/>
          </a:xfrm>
          <a:prstGeom prst="line">
            <a:avLst/>
          </a:prstGeom>
          <a:ln w="442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1905120"/>
            <a:ext cx="8447040" cy="3580920"/>
            <a:chOff x="304920" y="1905120"/>
            <a:chExt cx="8447040" cy="35809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04920" y="2120760"/>
              <a:ext cx="1839960" cy="20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2057400" y="2819160"/>
              <a:ext cx="18194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3886200" y="35049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5"/>
            <a:stretch/>
          </p:blipFill>
          <p:spPr>
            <a:xfrm>
              <a:off x="5410080" y="28191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6934320" y="1905120"/>
              <a:ext cx="18176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method of the new census</a:t>
            </a:r>
            <a:br>
              <a:rPr sz="2800"/>
            </a:b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Times New Roman"/>
              </a:rPr>
              <a:t>Two major principles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  <a:ea typeface="Arial"/>
              </a:rPr>
              <a:t>Data collection in rotation (annual surveys)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  <a:ea typeface="Arial"/>
              </a:rPr>
              <a:t>Resorting to sample surveys for large communes (more than 10000 inhabitants)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The sampling base:</a:t>
            </a:r>
            <a:r>
              <a:rPr b="0" lang="fr-FR" sz="28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the located buildings register (répertoire d’immeubles localisés - RIL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  <a:ea typeface="Arial"/>
              </a:rPr>
              <a:t>Special case of persons not living in ordinary dwellings (institutions, homeless people, nomads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proceedings of the census surve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The same modus operandi as in 1999  for the habitants : deposit-withdrawal of the questionnaires by the enumerator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A « non surveyed dwelling form » (called FLNE in french) in case of impossibility of contacting people or refusa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cc33"/>
                </a:solidFill>
                <a:latin typeface="Tahoma"/>
              </a:rPr>
              <a:t>The questionnaires</a:t>
            </a:r>
            <a:endParaRPr b="1" lang="en-US" sz="24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382680" indent="-3812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80098"/>
                </a:solidFill>
                <a:latin typeface="Tahoma"/>
              </a:rPr>
              <a:t>The dwelling data she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80098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5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371600"/>
            <a:ext cx="7924680" cy="0"/>
          </a:xfrm>
          <a:prstGeom prst="line">
            <a:avLst/>
          </a:prstGeom>
          <a:ln w="442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rmAutofit fontScale="41000"/>
          </a:bodyPr>
          <a:p>
            <a:pPr marL="156600" indent="-1562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80098"/>
                </a:solidFill>
                <a:latin typeface="Tahoma"/>
              </a:rPr>
              <a:t>The individual bulle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6600" indent="-15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6600" indent="-15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009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6600" indent="-15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6600" indent="-1562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6600" indent="-1562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040" indent="-155880">
              <a:lnSpc>
                <a:spcPct val="100000"/>
              </a:lnSpc>
              <a:spcBef>
                <a:spcPts val="499"/>
              </a:spcBef>
              <a:buClr>
                <a:srgbClr val="9800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336680" y="1981080"/>
            <a:ext cx="2928960" cy="411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257800" y="2514600"/>
            <a:ext cx="27907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866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990720" y="1676520"/>
            <a:ext cx="7391160" cy="4419360"/>
            <a:chOff x="990720" y="1676520"/>
            <a:chExt cx="7391160" cy="4419360"/>
          </a:xfrm>
        </p:grpSpPr>
        <p:grpSp>
          <p:nvGrpSpPr>
            <p:cNvPr id="119" name=""/>
            <p:cNvGrpSpPr/>
            <p:nvPr/>
          </p:nvGrpSpPr>
          <p:grpSpPr>
            <a:xfrm>
              <a:off x="990720" y="1890360"/>
              <a:ext cx="7391160" cy="4205520"/>
              <a:chOff x="990720" y="1890360"/>
              <a:chExt cx="7391160" cy="4205520"/>
            </a:xfrm>
          </p:grpSpPr>
          <p:sp>
            <p:nvSpPr>
              <p:cNvPr id="120" name=""/>
              <p:cNvSpPr/>
              <p:nvPr/>
            </p:nvSpPr>
            <p:spPr>
              <a:xfrm>
                <a:off x="17298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991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6852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386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079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77320" y="1890360"/>
                <a:ext cx="0" cy="420552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704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164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8612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5584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52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642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945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340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033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730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4244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18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11800" y="1890360"/>
                <a:ext cx="0" cy="420552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600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9072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0991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Se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u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6008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cc3300"/>
                  </a:solidFill>
                  <a:latin typeface="Verdana"/>
                </a:rPr>
                <a:t>Ju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2944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Aoû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6888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Oc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3824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Nov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079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Dé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167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M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255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u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61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Avr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5548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Ma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773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704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Fév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3400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Se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49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cc3300"/>
                  </a:solidFill>
                  <a:latin typeface="Verdana"/>
                </a:rPr>
                <a:t>Ju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6428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Aoû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7308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Nov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280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Dé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121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25360" y="1676520"/>
              <a:ext cx="125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Verdana"/>
                </a:rPr>
                <a:t>Year N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29640" y="1683720"/>
              <a:ext cx="125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Verdana"/>
                </a:rPr>
                <a:t>Year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schedule of a campaig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590920"/>
            <a:ext cx="914400" cy="30456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209680"/>
            <a:ext cx="380880" cy="30492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IL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971800"/>
            <a:ext cx="259056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0808"/>
                </a:solidFill>
                <a:latin typeface="Arial Narrow"/>
              </a:rPr>
              <a:t>Setting-up of 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352680"/>
            <a:ext cx="121932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0808"/>
                </a:solidFill>
                <a:latin typeface="Arial Narrow"/>
              </a:rPr>
              <a:t>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733920"/>
            <a:ext cx="1219320" cy="304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 Narrow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4114800"/>
            <a:ext cx="114300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 Narrow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4495680"/>
            <a:ext cx="60948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 Narrow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876920"/>
            <a:ext cx="1218960" cy="304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0808"/>
                </a:solidFill>
                <a:latin typeface="Arial Narrow"/>
              </a:rPr>
              <a:t>Re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5257800"/>
            <a:ext cx="175284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0808"/>
                </a:solidFill>
                <a:latin typeface="Arial Narrow"/>
              </a:rPr>
              <a:t>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661000"/>
            <a:ext cx="2971800" cy="30492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Data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47280" y="1981080"/>
            <a:ext cx="38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Verdana"/>
              </a:rPr>
              <a:t>Oc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  <a:ea typeface="Arial"/>
              </a:rPr>
              <a:t>The management of the census qual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 continuous evaluation approach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Enabled through the annual feature of the oper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Based on  systematic overall resul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19320" y="2057400"/>
            <a:ext cx="6705360" cy="1676160"/>
            <a:chOff x="1219320" y="2057400"/>
            <a:chExt cx="6705360" cy="1676160"/>
          </a:xfrm>
        </p:grpSpPr>
        <p:sp>
          <p:nvSpPr>
            <p:cNvPr id="178" name=""/>
            <p:cNvSpPr/>
            <p:nvPr/>
          </p:nvSpPr>
          <p:spPr>
            <a:xfrm>
              <a:off x="1219320" y="3206880"/>
              <a:ext cx="2438280" cy="52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ampa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2057400"/>
              <a:ext cx="2438640" cy="52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400" y="3206880"/>
              <a:ext cx="2438280" cy="52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mprov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9204200">
              <a:off x="2666880" y="2631600"/>
              <a:ext cx="762120" cy="478800"/>
            </a:xfrm>
            <a:prstGeom prst="rightArrow">
              <a:avLst>
                <a:gd name="adj1" fmla="val 50000"/>
                <a:gd name="adj2" fmla="val 39793"/>
              </a:avLst>
            </a:prstGeom>
            <a:solidFill>
              <a:srgbClr val="465f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703000">
              <a:off x="5627520" y="2538360"/>
              <a:ext cx="47880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465f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769400">
              <a:off x="4191120" y="3206880"/>
              <a:ext cx="761760" cy="478800"/>
            </a:xfrm>
            <a:prstGeom prst="rightArrow">
              <a:avLst>
                <a:gd name="adj1" fmla="val 50000"/>
                <a:gd name="adj2" fmla="val 39774"/>
              </a:avLst>
            </a:prstGeom>
            <a:solidFill>
              <a:srgbClr val="465f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national commission for the evaluation of the censu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Under the rule of the CNIS (National Council for Statistical Information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Presided over by a senato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t associates communes, the data users (researchers, administrations, municipalities), the Inse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t enables an exchange on data collection, control protocols, useful in improving the process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t must give an opinion on the texts governing the organisation of the censu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9:26:37Z</dcterms:created>
  <dc:creator>LEFEBVRE</dc:creator>
  <dc:description/>
  <dc:language>en-US</dc:language>
  <cp:lastModifiedBy>sprl</cp:lastModifiedBy>
  <dcterms:modified xsi:type="dcterms:W3CDTF">2007-06-03T13:07:42Z</dcterms:modified>
  <cp:revision>98</cp:revision>
  <dc:subject/>
  <dc:title>Plan de la journé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371572</vt:r8>
  </property>
  <property fmtid="{D5CDD505-2E9C-101B-9397-08002B2CF9AE}" pid="3" name="_AuthorEmail">
    <vt:lpwstr>leger@easyconnect.fr</vt:lpwstr>
  </property>
  <property fmtid="{D5CDD505-2E9C-101B-9397-08002B2CF9AE}" pid="4" name="_AuthorEmailDisplayName">
    <vt:lpwstr>leger</vt:lpwstr>
  </property>
  <property fmtid="{D5CDD505-2E9C-101B-9397-08002B2CF9AE}" pid="5" name="_EmailSubject">
    <vt:lpwstr>RE : Trad..</vt:lpwstr>
  </property>
</Properties>
</file>