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A36F-2AB6-4ED7-BA42-A775BC9C2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EFE1-9D96-40EE-B968-96B7DCBA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FF54-2BA5-4C74-B049-9E336A2C6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48EA-394A-4ABC-AF18-F3276C0C5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BAB48-86A5-4E2B-80C3-DB5B9B80A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1EBB7-270C-4133-8366-438A8737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D739D-7D9C-4233-8CF5-C0F14E39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BD2AB-E6C6-4AB5-A94F-72D5F268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60D27-0FD0-4A22-BC64-F5826DE5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DB155-A512-4598-AB58-B4485A23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E6C5A-B993-4B5F-A7B1-CDA0075E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F7B9-FBCC-4696-8FFE-5EA357B4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FBF2C-CE04-4464-89C0-1F9A7CAB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C086E-4CA5-4546-9F5D-41E93B21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F4EEA-D5AB-40C2-811D-E141FA31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FB05A-95B7-4717-B730-16235AA1D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2EFE5-C4FC-4BFC-84CD-BFAAFE3F1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BB11-1C96-48AE-9F0A-62C4B413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9BB1-93D0-44E3-B5A6-6CAA97B3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DD34-1656-497D-A091-7C0F9353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F9C1-A1DC-45CE-9BEB-37634FE1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CABB-C1F0-4A79-B277-4BADDEF0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8C90-80C7-47C0-A287-C7CC9910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F750-7E5C-425D-9F9C-54349776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17892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9 May 200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8BA9-01DA-4005-8E6B-A13DCD604F43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66880" cy="77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68DC-199D-4379-BB92-FE02DA547F78}" type="datetime">
              <a:rPr b="0" lang="he-IL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r>
              <a:rPr b="0" lang="he-I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683BDD7B-AE35-456F-8894-6DEC115F5A23}" type="datetime10">
              <a:rPr b="0" lang="he-IL" sz="1200" spc="-1" strike="noStrike">
                <a:solidFill>
                  <a:srgbClr val="ffffff"/>
                </a:solidFill>
                <a:latin typeface="Times New Roman"/>
              </a:rPr>
              <a:t>15:17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613D-2919-476F-B8F1-DB15774F9CD0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964720" cy="27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Определение связи и соответствующих процедур для обеспечения качества в интегрированном регистр-переписи</a:t>
            </a:r>
            <a:r>
              <a:rPr b="0" lang="ru-RU" sz="48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40328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нин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Д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нтральное бюро статистик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раи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66880" cy="77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Pnina ZADKA, ISRA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EDA0E-9E7B-4FAB-B617-E0433D565BB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E10AC51-F2E1-4A87-8983-118A98FBB985}" type="datetime8">
              <a:rPr lang="en-US"/>
              <a:t>07/29/26 15: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вязь данных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428920"/>
            <a:ext cx="82296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ное соответствие с НР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терминированная процеду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мер документа, удостоверяющего личность, в т.ч. контрольная циф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м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та рожден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Arial"/>
              </a:rPr>
              <a:t>Данные объединялись только в случае полного соответствия, таким образом создавалась исчерпывающая информация, включающая данные всех объединенных файлов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nina ZADKA, ISRA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D888-7347-4C5C-AF84-DD92AB8FDB7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9E5B07-649A-4733-9F6F-AC295A8D674D}" type="datetime8">
              <a:rPr lang="en-US"/>
              <a:t>07/29/26 15: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вязь данных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оятностная процедур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мя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амилия и имя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 ошибками в написании и упущениями гласных,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од рожд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Взвешенная иерархия переменных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Порог вероятности точности соответствия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превышающий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 85% (</a:t>
            </a: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вероятность, подсчитанная на основе данных пилотной переписи и предыдущей переписи населения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33"/>
                </a:solidFill>
                <a:latin typeface="Arial"/>
              </a:rPr>
              <a:t>Адрес для соответствия не использовался</a:t>
            </a:r>
            <a:r>
              <a:rPr b="0" lang="en-US" sz="1800" spc="-1" strike="noStrike">
                <a:solidFill>
                  <a:srgbClr val="ccff33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ccff33"/>
                </a:solidFill>
                <a:latin typeface="Arial"/>
              </a:rPr>
              <a:t>основную переменную необходимо изменить</a:t>
            </a:r>
            <a:r>
              <a:rPr b="0" lang="en-US" sz="1800" spc="-1" strike="noStrike">
                <a:solidFill>
                  <a:srgbClr val="ccff33"/>
                </a:solidFill>
                <a:latin typeface="Arial"/>
              </a:rPr>
              <a:t>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nina ZADKA, ISRA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D0E9-4C29-4F94-8C04-8BDCF814E6B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099D5F-31F3-4D33-87AF-9900143B4A57}" type="datetime8">
              <a:rPr lang="en-US"/>
              <a:t>07/29/26 15: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министративные источники являются важными и доступными источниками д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чники данных необходимо проверять на присущие ошиб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обходимо установить иерархию точности д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ование итеративных методов объеди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верка процесса при помощи традиционной переписи методом обхода насе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nina ZADKA, ISRA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0437-5E81-448F-8E8B-528066C600F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CABF19-E8D4-414D-857A-49A3CCB10A26}" type="datetime8">
              <a:rPr lang="en-US"/>
              <a:t>07/29/26 15: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одержание презентаци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065320"/>
            <a:ext cx="822960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чники данных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рка источников дан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язь данны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цедуры обеспечения качества источников дан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nina ZADKA, ISRA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746F-D56E-4692-8C63-D625EDF3EF2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86F476-5CDC-4FAC-B407-AE71375F10C8}" type="datetime8">
              <a:rPr lang="en-US"/>
              <a:t>07/29/26 15: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907920"/>
            <a:ext cx="8510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Административные источники данных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9044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циональный регистр населени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Р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ститут национального страховани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ьное и медицинское страховани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оходный нало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униципальное социальное обеспеч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граничный контро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лефонные номе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тингент учащих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nina ZADKA, ISRA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70CE-1DAC-435B-AD41-9DD92D2E286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59F0B1-3FCC-4CD9-9953-CC2C3DB4164D}" type="datetime8">
              <a:rPr lang="en-US"/>
              <a:t>07/29/26 15: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1052640"/>
            <a:ext cx="88930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e3e3ff"/>
                </a:solidFill>
                <a:latin typeface="Arial"/>
              </a:rPr>
              <a:t>Проверка административных</a:t>
            </a:r>
            <a:r>
              <a:rPr b="0" lang="en-US" sz="3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3800" spc="-1" strike="noStrike">
                <a:solidFill>
                  <a:srgbClr val="e3e3ff"/>
                </a:solidFill>
                <a:latin typeface="Arial"/>
              </a:rPr>
              <a:t>данных</a:t>
            </a:r>
            <a:endParaRPr b="0" lang="en-US" sz="3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428920"/>
            <a:ext cx="82296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еделение потенциальных ошибо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стовер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нота охва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nina ZADKA, ISRA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F0BC-B065-4952-8056-CB2EF75BC4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C972D1-57C5-42BC-B1E9-B736EF40704A}" type="datetime8">
              <a:rPr lang="en-US"/>
              <a:t>07/29/26 15: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907560"/>
            <a:ext cx="865512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e3e3ff"/>
                </a:solidFill>
                <a:latin typeface="Arial"/>
              </a:rPr>
              <a:t>Потенциальные административные ошибки</a:t>
            </a:r>
            <a:endParaRPr b="0" lang="en-US" sz="3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дминистративные ошибки в адрес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лог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иферийные населенные пункт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тингент учащихс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гиональные  преференц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удент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о на получение стипендии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чие места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шибки ввода д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Источники с известными ошибками в адресе использовались только в случае, когда адрес проверялся по всем членам семь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nina ZADKA, ISRA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74CB-AF9B-449A-B2BE-7B3EF5B9FAD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16DA26-A642-4110-B7D9-15A0C9DB8963}" type="datetime8">
              <a:rPr lang="en-US"/>
              <a:t>07/29/26 15: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510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e3e3ff"/>
                </a:solidFill>
                <a:latin typeface="Arial"/>
              </a:rPr>
              <a:t>Потенциальные административные ошибки</a:t>
            </a:r>
            <a:endParaRPr b="0" lang="en-US" sz="3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065320"/>
            <a:ext cx="822960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министративные ошибки в учете насе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резидент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удент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бочи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женц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бегающие контакта с официальными властям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ступник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меющи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имеющие права на обслуживани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Добавление лиц из дополнительных источников с двойной проверкой путем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включения деталей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имени и номера документа, удостоверяющего личность при помощи связи детерминированных/вероятностных дан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nina ZADKA, ISRA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3FB3-3769-4A24-91FA-9D349B8401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58CCA3-61AD-4F9B-8630-4AB312CE3728}" type="datetime8">
              <a:rPr lang="en-US"/>
              <a:t>07/29/26 15: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510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роверка на достоверность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2060640"/>
            <a:ext cx="85406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стоверность номера документа, удостоверяющего лич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верка законности контрольных циф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основе используемой формул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личие номера в НР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Для обновления и добавления информации, не включенной в НРН, рассматривались только данные, прошедшие проверку на достовер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nina ZADKA, ISRA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0404-7E1A-4C1C-A27D-A94D352227A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C8D8E6-0365-43D3-BF42-54A52AC9D011}" type="datetime8">
              <a:rPr lang="en-US"/>
              <a:t>07/29/26 15: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оответствие данных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новление данных по населен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Р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граничный контрол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ждаемость и смерт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ьное обеспеч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новление адре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четчики электроэнерг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тингент учащих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т транспортных средст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nina ZADKA, ISRA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0841-E7EB-4CC5-BAFC-9C86EC56FFB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F5326D-C975-49D7-992E-0A7CD75371D3}" type="datetime8">
              <a:rPr lang="en-US"/>
              <a:t>07/29/26 15: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Р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е семейные отношени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живающие по тому же адресу НР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бавление произвольных адре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гласование одиноких лиц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Воссоздание семьи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итеративный мет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примерно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3 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итерации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Создание административных семей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nina ZADKA, ISRA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C2CA-5ED2-4FE0-B255-ADD6C1D2310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4141A3-22E2-4F59-84CD-9DE0FEC5BB68}" type="datetime8">
              <a:rPr lang="en-US"/>
              <a:t>07/29/26 15: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4T13:26:08Z</dcterms:created>
  <dc:creator>pninaz</dc:creator>
  <dc:description/>
  <dc:language>en-US</dc:language>
  <cp:lastModifiedBy>User</cp:lastModifiedBy>
  <dcterms:modified xsi:type="dcterms:W3CDTF">2007-06-01T05:03:21Z</dcterms:modified>
  <cp:revision>22</cp:revision>
  <dc:subject/>
  <dc:title>Record Linkage and Preference Procedures to Assure Quality in an Integrated Register Based Census </dc:title>
</cp:coreProperties>
</file>