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83A-B583-4C5D-8E99-371A13E6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DC6-5161-4FB5-ACF1-327CBFE6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022-F7C4-4696-AD7D-A0F8FE3F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184-88D4-4669-BB28-F42A097D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23A96-0829-4882-8016-E487BBC2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F8E61-8EE0-4D2E-83C0-09AE5D61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0BD14-C882-494D-A7AA-3D4202F5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00380-9D92-4D77-98B0-C370C23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44A00-A502-4B17-A5BF-06FA6482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D591F-024D-40B7-AD69-34921603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C9EBE-DF8E-48D2-910C-199FD0E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806-51E9-41FF-A712-FEA2044F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ED688-704A-445B-8DC7-3528C0C4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D96A4-D2CA-45E3-8166-E238FC1D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8EB2F-2C55-4BD6-9061-F0375AC9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D64A1-83C7-4AF0-AC9F-A0D6182A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63A37-9351-4751-8570-A00C3002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FA3-73E0-4337-8458-E1AF679C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EC9-7640-4C28-8993-839025C1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748-2676-4F29-BF16-04A36D26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1D2-9DD8-4EA2-A053-36F4D5FF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A1C-5B09-45C8-B855-AC34212F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702-AE82-44AD-AAF3-C29D1730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126-EF6F-488C-9DC4-874655A2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17892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9 May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3139-1CE1-4B84-BFFA-78B376612D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353D-F91A-4A9A-8E1E-5A363BD0C9DD}" type="datetime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r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CB46102-45AE-45F8-833A-8500249624EA}" type="datetime10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15:1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A796-EB9D-4A44-AEBA-06D38884FEC2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Record Linkage and Preference Procedures in an Integrated Register Based Census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nina ZAD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Bureau of Statist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2DC1C-A909-429C-AC33-F8FA45B8BFC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A32531-6729-4CF7-A1E9-69F1C20796B1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cord Link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ompatibility with NP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eterministic procedure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 number including control dig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name, sex, date of bir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ecords were matched if all were ident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nd a comprehensive record was formed including information from all matched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3C2-B581-427C-B325-DEA1639BFC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D557E-F67A-459A-8DC0-A207E8EA2B1C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cord Link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stic proced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(sure and given) with spelling errors and vowels omissions. 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of 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Weighted Hierarchy of vari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hreshold of probability matched correctly, exceeding 85% (probability computed from pilot censuses and previous traditional censu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Address was not used for matching - a core variable to be updated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39A-74C2-42FB-B448-93D836266E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BFC45-BC33-43C0-AED4-CE6CEE0C3F38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sources are important and affordable 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sources should be examined for inherent f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archy of validity should be esta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converging iterative proced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of process  with traditional enumeration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F38-B1A1-438E-AE18-F4260C41A3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89045-9748-4CAF-A195-D1DC590C6138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tent of Presen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ting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link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sources preference 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369-154F-4F9A-9653-38397A3B89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FD8A7-B99F-42FB-9FFA-D77D14DF4693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20640"/>
            <a:ext cx="8510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ministrative Data Sources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Population Register (NP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Insurance Institute (Social security and National Health Insur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icipal welf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de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phone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nrol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DE3-C595-4131-9F4F-93B65D95E6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2C9A2-AA5F-4472-AF6B-00FF9690C0BB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510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uditing Administrative fi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ing potential b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FBF-6DFC-4874-9659-EAC76122C9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A6E6B-5C11-4C56-B6BC-25D868D6A12D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ministrative Potential  Bia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9812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biases i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(peripheral localiti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enrolment (region preferen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(scholarship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igi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kpl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entry mi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Arial"/>
              </a:rPr>
              <a:t>Sources with known biases in address were used only if the address was consistent for all administrative family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85D-7E92-4ADB-9492-ABF275FA80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69922-8998-4BE2-9C99-4733F6784BCE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510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ministrative Potential  Bia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ministrative population o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residents ( students, workers, displac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ing contact with official authorities (felon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gible/not eligible for the serv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dding persons from complementary  sources with duplication check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clusion specificat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names and ID using deterministic/probability record linkag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16C-CB49-44DE-B600-9DC04CF66D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96EE6-DBEA-4D79-8D8F-CED9F542FE48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10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lidity Chec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ity of ID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of legitimacy of control digit (based on the formula in u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ence of the number in the N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Only records passing the validity checks were considered</a:t>
            </a:r>
            <a:r>
              <a:rPr b="0" lang="he-IL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66ff"/>
                </a:solidFill>
                <a:latin typeface="Arial"/>
              </a:rPr>
              <a:t> for updates or adding information not included in the N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D27-DB50-46CD-9548-311C894FF5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9AD20-131B-4B50-A6D3-12A3E866B00D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ching files Hierarc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ing for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der  control + Births and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ing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ity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nrol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 regist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F9A-22BC-429A-B38C-536D880070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76F43-62B3-4719-A299-78D772058E35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R - all family rel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ing in the same NPR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ng optional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ing of single pers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amily reconstruction – iterative 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(approximately 3 iter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reating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ministrative Families</a:t>
            </a:r>
            <a:br>
              <a:rPr sz="40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nina ZADKA, ISRA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6D9-18C9-43C5-83BF-62DE2713F3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55579-F5AF-4CEB-BA1F-126BDB57D81B}" type="datetime8">
              <a:rPr lang="en-US"/>
              <a:t>07/29/26 15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3:26:08Z</dcterms:created>
  <dc:creator>pninaz</dc:creator>
  <dc:description/>
  <dc:language>en-US</dc:language>
  <cp:lastModifiedBy>pninaz</cp:lastModifiedBy>
  <dcterms:modified xsi:type="dcterms:W3CDTF">2007-05-29T11:14:30Z</dcterms:modified>
  <cp:revision>11</cp:revision>
  <dc:subject/>
  <dc:title>Record Linkage and Preference Procedures to Assure Quality in an Integrated Register Based Census </dc:title>
</cp:coreProperties>
</file>