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C7218-6024-4AF8-A6E0-965F68358E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E6CE1-83B9-4BC5-9E16-FBC0DC429E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6B84-7F39-413B-807D-E05894C4C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E617-9DB6-45A8-9062-835A01AE3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12AC-7EB1-4D55-980C-9C08ADEEC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549E-C351-4025-9FC3-0D49DC3E3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10AB-6276-4A3C-BE67-5F6882462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07B0-BE67-4126-9470-47C9DF8E8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0CF7-DCE0-48E4-B500-C0681EFE5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AAAC-AFF1-4105-A79A-84F03C8F2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54B6-C3B8-48B7-90B8-C587529A8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0DEB-C8EE-4DB6-8569-F1E3AC36C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F1C5-B30C-4C13-AE2F-7EAC92FEB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4AA2-14ED-452E-9DCF-61305B447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05A3E-DDF6-4246-8DE8-4B8635EE46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914040"/>
            <a:ext cx="8610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248520" y="5105160"/>
            <a:ext cx="22096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Докладчик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Треси Уэссл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июня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2007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3657600"/>
            <a:ext cx="7716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Использование устройств высокоскоростной обработки данных по переписи насел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2209680"/>
            <a:ext cx="7772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Бюро переписи США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Комплексная система десятилетних данных по переписи населения (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КСДДПН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276720" y="228600"/>
            <a:ext cx="205740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асто незамечаемые важные момент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тветствует ли структура анкеты структуре системы регистрации данны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система предупреждает потерю данны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ет ли устройство оптического считывания меток правильно выбирать необходимые ответ в сложных ситуация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читается, что эффективное использование устройства оптического распознавания символов требует значительных инвестиций в процесс настройки и тестирова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еет ли системы возможность контроля и обеспечения качест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спекты структуры анкет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ная причина ошибок сист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утаница респондентов приводит к ошибкам регистрации да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иентированность на респондента в сравнении с ориентированностью на систем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лияние на точность регистрации да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кеты рассматриваются как исходные данные для системы регистраци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ключая аспекты изменчивости данных респонденто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труктура анкет обеспечивает факторы проведения перепис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ние репрезентативной группы специалистов в области содержания, структуры, печати и рассылки анкет, а также регистрации данны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ет производителями устройств всех трудносте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заимодействий и альтернати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ологически современные системы способны обрабатывать формы, ориентированные на респондента, в отличие от форм, ориентированных на компьютерную обработк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едупреждение потери данн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система обеспечивает контроль данны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слеживание штрих-к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явление двойной подачи во время сканир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цесс подтверждения анк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тверждение данны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учение данны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спекты ОС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яется как сбор данных из многорядных клеток анк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деляется внимание оптическому распознаванию ответ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Бюро переписи важно знать ответ респондента, а не содержание символов клетки анкет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тройство оптического распознавания ответа является специальной формой ОС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ногие устройства ОСМ не проводят оптического распознавания отв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спекты оптического распознавания символо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терегается чрезмерных заявлений продавцов о точности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юро переписи надеется на получение большого уровня зарегистрированных данных с помощью ОР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80%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ли выш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высокий процент точност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99%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ли выше, определенный на места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что требует значительных инвестиций в развит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спекты оптического распознавания символ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Бюро переписи рентабельность капиталовложений является очень важным для большей части анкет в связи с большими объемами перепис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приме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 разработки программы по перепис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0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использования ОР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было невозможно зарегистрировать полные имена со всех анке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гистрация имен имела большое значение для решения проблемы дублирован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чество данных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ыт БП показывает, что многие имеющиеся в продаже приложения не включают соответствующий контроль и обеспечение качества данны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ое внимание БП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еспечение качества всего проце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ого тестирования недостаточно для обеспечения качества данных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же самая тщательная проверка не может полностью воспроизвести реальную ситуацию с переписью населе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чество данных оценивается в ходе действительного процесса их обработки, так выявляются и исправляются ошиб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0T16:51:02Z</dcterms:created>
  <dc:creator>Home User</dc:creator>
  <dc:description/>
  <dc:language>en-US</dc:language>
  <cp:lastModifiedBy>Администратор</cp:lastModifiedBy>
  <dcterms:modified xsi:type="dcterms:W3CDTF">2007-06-03T09:59:16Z</dcterms:modified>
  <cp:revision>39</cp:revision>
  <dc:subject/>
  <dc:title>Critical Success Question</dc:title>
</cp:coreProperties>
</file>