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64E3-AC28-4994-AA03-4241F44F5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2BA-1EDB-4351-80E6-22F812A7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C2F-77A3-464E-9688-1B51559A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FB4-C6CF-41A5-9B88-F8D030F7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B20-4388-45CA-9C27-444EE196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FF0-53AE-44C0-BD87-1B0C3337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1EF-ACFE-41D4-9D41-18E5565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713-37B3-4E36-82CA-6AD8129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B92-E91D-4FE9-88B8-AA82A41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439-64EF-489A-BD84-A76E568F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C8A-7397-4C24-9827-37FB4E2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D2B-BE3D-479F-AAFC-D1A0BF8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84C-136B-4823-AF89-DDC1E7B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AD8-2690-46C1-9CAF-FB6B376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5692-F957-4362-A574-2C4C40D5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se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acy Wes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ne 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657600"/>
            <a:ext cx="771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he Use of High Speed Data Processing</a:t>
            </a:r>
            <a:br>
              <a:rPr sz="28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o Capture Censu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.S. Census Bur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cennial Response Integration System (D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205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ten Overlooked Critical Success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orm design compatible with the data capture system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ystem prevent loss of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ptical mark recognition capable of picking the intended answer correctly in complex situ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appreciated that use of Optical Character Recognition effectively requires a significant investment in tuning and t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ystem have adequate quality assurance and quality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 Design Consider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cause of automation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nt confusion sets stage for data capture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nt Friendly vs. machine friendly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ly impact data captur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are considered as inputs to the data capture system, including considerations of variability contributed by respon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s Design Success Fac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C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representative team of knowledge people in areas of content, layout, printing and mailing considerations, and data capture consid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required vendors to demonstrate a thorough understanding of the complexities, interactions, and tradeoff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cally superior systems are capable of processing forms optimized for the respondent vs. forms optimized for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Data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system control inven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Cod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ng Double Feeds during 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Check Out Process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cknowledgement (receipt for delivered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capture of data from multiple choice bo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d emphasis on what we call Optical Answer Recognition. Census wants to know the answer the respondent was trying to communicate, and not just which boxes contained some sort of a ma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Answer Recognition is a specialized form of OMR – Many OMR products do not do Optical Answer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cal Character Recognitio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exaggerated vendor claims for data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 believes to obtain both a high percentage of work captured by OCR (80% or higher accept rate) and a high accuracy rate (99% or higher measured at the field level) requires a significant upfront development inves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R Consideration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ensus, return on investment is significant for most forms due to extremely large census volu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prior to Census 2000 and the use of OCR, it was not possible to capture full names on all forms. Name capture was critical to resolve a large number of duplicates experie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us experience is that many commercial applications lack adequate quality assurance and quality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by Census - Quality is engineered into al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is not enough to ensure quality data – the most rigorous testing cannot completely simulate the live Censu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quality is measured during live processing so that errors can be detected and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6:51:02Z</dcterms:created>
  <dc:creator>Home User</dc:creator>
  <dc:description/>
  <dc:language>en-US</dc:language>
  <cp:lastModifiedBy>wessl001</cp:lastModifiedBy>
  <dcterms:modified xsi:type="dcterms:W3CDTF">2007-05-31T18:05:28Z</dcterms:modified>
  <cp:revision>17</cp:revision>
  <dc:subject/>
  <dc:title>Critical Success Question</dc:title>
</cp:coreProperties>
</file>