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312-351A-41A3-812E-C7D46BCA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DE4-C63C-48C4-932F-F8BD17D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DAB-DFF1-4AD0-A42A-49AFBDFA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7FC-7872-42E1-AF91-9182D6B2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2A4-DC8B-4630-9E6E-6105400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FDD-030B-4657-871D-AD3B378C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D94-B514-4930-9E7D-EDB3E0D5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16C-D60B-41B7-BE00-75E5666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1A-62D2-4C18-939E-C7AC5BD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3CB-75E5-4E65-A33D-6F7B4E6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924-CB47-4183-A713-5601314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1D8-D149-48EC-8B3F-A3D0221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A10-062E-4923-8700-F25B7DC05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stats/cmf/Welcome.html" TargetMode="External"/><Relationship Id="rId2" Type="http://schemas.openxmlformats.org/officeDocument/2006/relationships/hyperlink" Target="http://www.unece.org/stats/cmf/Welcome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5796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C and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3500280"/>
            <a:ext cx="5473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ssion organiz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 Booleman (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jaz Jug (New Zea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za Klep (Slove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29716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ece.org/stats/cmf/Welcom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2133720"/>
            <a:ext cx="2949480" cy="41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9717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484360" y="2133720"/>
            <a:ext cx="2938680" cy="41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onl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only d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ante metadata: what should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post metadata: what did I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s relative to norms: Ex post – Ex 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7172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ld w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Models and Techniques but al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i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all doing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97172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P-cour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Metadata – Introductory Cour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way and The Netherland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lo, October 2007, fully book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xembourg, December 2007, adjusted program</a:t>
            </a:r>
            <a:br>
              <a:rPr sz="1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orburg, May 2008, fully booke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lo,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8:13:50Z</dcterms:created>
  <dc:creator>Max Booleman</dc:creator>
  <dc:description/>
  <dc:language>en-US</dc:language>
  <cp:lastModifiedBy>Max Booleman</cp:lastModifiedBy>
  <dcterms:modified xsi:type="dcterms:W3CDTF">2008-04-04T07:24:01Z</dcterms:modified>
  <cp:revision>10</cp:revision>
  <dc:subject/>
  <dc:title>Part C and 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9074456</vt:r8>
  </property>
  <property fmtid="{D5CDD505-2E9C-101B-9397-08002B2CF9AE}" pid="3" name="_AuthorEmail">
    <vt:lpwstr>MBLN@CBS.nl</vt:lpwstr>
  </property>
  <property fmtid="{D5CDD505-2E9C-101B-9397-08002B2CF9AE}" pid="4" name="_AuthorEmailDisplayName">
    <vt:lpwstr>Booleman, drs M.</vt:lpwstr>
  </property>
  <property fmtid="{D5CDD505-2E9C-101B-9397-08002B2CF9AE}" pid="5" name="_EmailSubject">
    <vt:lpwstr>Part C and D.ppt</vt:lpwstr>
  </property>
</Properties>
</file>