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7DC-DCE2-4FF3-94F6-BF8DB2BF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334-53D2-4423-B0AA-272F193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13A-B219-49C2-BE7A-B0E99976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120-F6B2-41BF-8B2D-3AF66FC4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9DD-21D7-40A4-A9E3-A12A4481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A6C-3B3E-42A2-9466-2750E7CE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DB9-139D-409A-B90D-D9155C1F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8AC-BE9B-4D19-9E31-431A42F4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C4B-C025-4ED3-A524-A63703F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FC1-742E-4197-98C7-D54FDF7A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1E3-AD8D-45D3-A8C9-614815B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16F-62BD-40A9-AC9E-7E632B06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4238-62CD-484A-8227-5D2FE40D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ece.org/stats/cmf/Welcome.html" TargetMode="External"/><Relationship Id="rId2" Type="http://schemas.openxmlformats.org/officeDocument/2006/relationships/hyperlink" Target="http://www.unece.org/stats/cmf/Welcome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5796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C and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3500280"/>
            <a:ext cx="5473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ssion organiz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 Booleman (Netherl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jaz Jug (New Zea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za Klep (Sloven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29716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nece.org/stats/cmf/Welcom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2133720"/>
            <a:ext cx="2949480" cy="41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19717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484360" y="2133720"/>
            <a:ext cx="2938680" cy="41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only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only descri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ante metadata: what should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post metadata: what did I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s relative to norms: Ex post – Ex 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971720" cy="27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ld w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Models and Techniques but al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si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all doing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971720" cy="27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P-cour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al Metadata – Introductory Cour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way and The Netherland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lo, October 2007, fully book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xembourg, December 2007, adjusted program</a:t>
            </a:r>
            <a:br>
              <a:rPr sz="18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orburg, May 2008, fully booke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lo,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8:13:50Z</dcterms:created>
  <dc:creator>Max Booleman</dc:creator>
  <dc:description/>
  <dc:language>en-US</dc:language>
  <cp:lastModifiedBy>Max Booleman</cp:lastModifiedBy>
  <dcterms:modified xsi:type="dcterms:W3CDTF">2008-04-04T07:24:01Z</dcterms:modified>
  <cp:revision>10</cp:revision>
  <dc:subject/>
  <dc:title>Part C and 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9074456</vt:r8>
  </property>
  <property fmtid="{D5CDD505-2E9C-101B-9397-08002B2CF9AE}" pid="3" name="_AuthorEmail">
    <vt:lpwstr>MBLN@CBS.nl</vt:lpwstr>
  </property>
  <property fmtid="{D5CDD505-2E9C-101B-9397-08002B2CF9AE}" pid="4" name="_AuthorEmailDisplayName">
    <vt:lpwstr>Booleman, drs M.</vt:lpwstr>
  </property>
  <property fmtid="{D5CDD505-2E9C-101B-9397-08002B2CF9AE}" pid="5" name="_EmailSubject">
    <vt:lpwstr>Part C and D.ppt</vt:lpwstr>
  </property>
</Properties>
</file>