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788-3A28-4033-936A-AF761E06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336-E9F6-4EEB-98F7-7A270C38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FE0-37AF-4683-B69C-E7CD715F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CD4-A534-497C-B0A6-9D281EB7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CAC-6F9C-4995-8C4B-065B016F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45E-1F8A-4687-95AD-C6A27D3F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192-F806-49CD-925C-34FD1CC1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568-D435-4855-B332-7B4B9068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C6D-6B41-493B-A275-436AC259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0CF-A9B7-49AB-A0EB-E417A22A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EBF-F9B6-4956-AC32-BACEA79F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1E4B-A81C-4345-97BF-FE1D307E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1473-44ED-465E-80B0-EB335CF7778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2 (ii) Metadata concept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standards, models and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s from opening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mon terminology – SDMX’s MCV, definitions for terms such as survey</a:t>
            </a:r>
            <a:br>
              <a:rPr sz="2400"/>
            </a:b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lassification / typology of statistical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2 (ii) Metadata concept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standards, models and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etadata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ultidimensional classification for statistical metadata – by purpose (who, why), by content (what), by source and by form (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tadata by usage or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l processes produc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tadata X each process –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radata (peri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tadata by content – object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rporate metadata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cess, data, conceptual object, collectio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ally combines –source X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classifica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 we need a metadata classification by form – coded, structured, orga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DMX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tructural metadata – descriptors of the data (Bo’s Table 2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erence metadata – contents and quality of data (Bo’s tables 2a, 2b and 2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chive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dministrative – Bo’s table 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tructure – Bo’s table 2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urvey and definitional – Bo’s tables 2a, 2b, 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registries and harmonized cont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tadata classifications and standards – How do we move to more harmonization of metadata standards and classif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SS – metadata are documented according to a standard meta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DMX metadata standards – good start – should definitions be adopted as part of METIS CM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e of interoperability – should they be part of the CM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C AXIS – SDM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DMX – 1117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mappings / crossw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emantics and interoperability (data and semant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wo papers – US paper on data and datatypes; Statistics Netherlands on metadata models (classifications and datas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ata semantics – better understanding of the meaning of data (paragraph 2 US and paragraph 9 N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ynonymous information and 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echanisms needed to identify metadata items that are the same – synony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r categorical data – equality is defined the same way as for numbers - semantics of values must be the same  to allow for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re these ideas simi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classif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ogic of classification systems is essentially Boolean algebra – new view of classif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lated view ontolog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gures 5 and 6 – Is the rule the classes must be mutual exclusive not resp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clusion: formal semantics  can play a constructive role in the development of models for statistical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does this view relate to Dan’s – ontology  is formal means for organizing data and data descri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9T07:09:33Z</dcterms:created>
  <dc:creator>SCSD BUSC</dc:creator>
  <dc:description/>
  <dc:language>en-US</dc:language>
  <cp:lastModifiedBy>bornali</cp:lastModifiedBy>
  <dcterms:modified xsi:type="dcterms:W3CDTF">2008-04-24T16:58:05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4849307</vt:r8>
  </property>
  <property fmtid="{D5CDD505-2E9C-101B-9397-08002B2CF9AE}" pid="3" name="_AuthorEmail">
    <vt:lpwstr>Alice.Born@a.statcan.ca</vt:lpwstr>
  </property>
  <property fmtid="{D5CDD505-2E9C-101B-9397-08002B2CF9AE}" pid="4" name="_AuthorEmailDisplayName">
    <vt:lpwstr>Born, Alice - Standards/Normes</vt:lpwstr>
  </property>
  <property fmtid="{D5CDD505-2E9C-101B-9397-08002B2CF9AE}" pid="5" name="_EmailSubject">
    <vt:lpwstr>Feedback on METIS 2008</vt:lpwstr>
  </property>
</Properties>
</file>