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ACF-35E8-490D-95D5-E4DC569A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C18-472F-4C32-84D3-25AC9F18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253-2920-4606-ADFB-3432FDD8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CA6-F330-4A11-9F2E-D2FFEFB2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099-7795-4207-9843-FD3FC1CE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CCD-E59C-4BED-9EA7-F6B9D463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47E-3E6F-48DF-A6E1-CF9B7E00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60D-A19F-495C-A676-CAFD8447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25A-C971-485A-A19C-EB06EAEC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AB6-785E-474A-B7EF-0399B4ED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188-250A-41BA-A581-88BE9EB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D43-1924-4244-8FD8-70A698F4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AB9-7BD7-42AB-884F-AE06F917F7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 (ii) Metadata concept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standards, models and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from openin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mon terminology – SDMX’s MCV, definitions for terms such as survey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lassification / typology of statistical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 (ii) Metadata concept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standards, models and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etadata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ltidimensional classification for statistical metadata – by purpose (who, why), by content (what), by source and by form (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by usage or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l processes produc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X each process 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adata (peri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by content – object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rporate metadat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cess, data, conceptual object, collecti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ally combines –source X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classifica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we need a metadata classification by form – coded, structured, orga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DMX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ructural metadata – descriptors of the data (Bo’s Table 2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erence metadata – contents and quality of data (Bo’s tables 2a, 2b and 2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chiv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ministrative – Bo’s table 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ructure – Bo’s table 2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rvey and definitional – Bo’s tables 2a, 2b,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registries and harmonized cont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tadata classifications and standards – How do we move to more harmonization of metadata standards and class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SS – metadata are documented according to a standard meta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DMX metadata standards – good start – should definitions be adopted as part of METIS CM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interoperability – should they be part of the CM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 AXIS – SD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DMX – 1117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mappings / crossw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mantics and interoperability (data and seman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wo papers – US paper on data and datatypes; Statistics Netherlands on metadata models (classifications and datas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ata semantics – better understanding of the meaning of data (paragraph 2 US and paragraph 9 N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ynonymous information and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echanisms needed to identify metadata items that are the same – syn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categorical data – equality is defined the same way as for numbers - semantics of values must be the same  to allow for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e these ideas simi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classif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ogic of classification systems is essentially Boolean algebra – new view of class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lated view ontolog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gures 5 and 6 – Is the rule the classes must be mutual exclusive not resp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lusion: formal semantics  can play a constructive role in the development of models for statistical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view relate to Dan’s – ontology  is formal means for organizing data and data descri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07:09:33Z</dcterms:created>
  <dc:creator>SCSD BUSC</dc:creator>
  <dc:description/>
  <dc:language>en-US</dc:language>
  <cp:lastModifiedBy>bornali</cp:lastModifiedBy>
  <dcterms:modified xsi:type="dcterms:W3CDTF">2008-04-24T16:58:05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849307</vt:r8>
  </property>
  <property fmtid="{D5CDD505-2E9C-101B-9397-08002B2CF9AE}" pid="3" name="_AuthorEmail">
    <vt:lpwstr>Alice.Born@a.statcan.ca</vt:lpwstr>
  </property>
  <property fmtid="{D5CDD505-2E9C-101B-9397-08002B2CF9AE}" pid="4" name="_AuthorEmailDisplayName">
    <vt:lpwstr>Born, Alice - Standards/Normes</vt:lpwstr>
  </property>
  <property fmtid="{D5CDD505-2E9C-101B-9397-08002B2CF9AE}" pid="5" name="_EmailSubject">
    <vt:lpwstr>Feedback on METIS 2008</vt:lpwstr>
  </property>
</Properties>
</file>