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59B4-96C5-4AF6-8D67-D8B9DA28DF45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Klas makes the introduction and Jana is the moderator opening and driving the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TOPIC 2(i): ADVOCATING FOR STATISTICAL METADATA IN A CORPORATE CONTEXT (CMF PART 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 We have 3 invited papers (Norway, Cyprus and Czech), no contributed p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1FB-41B3-4166-B28B-9701CC5B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121-0EA8-4602-8472-520FEE16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72C-7263-46AA-AB15-3B279DDE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DC5-58BC-49A0-94EE-39ED17F7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C4B-5845-4CCA-BA5E-318C632E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D17-E2CE-4CA0-9F94-A48558CE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E32-E118-4419-90D0-D66345CA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70B-0E70-403F-B7E1-8E3150D8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82E-DEE4-4662-8F1E-01092351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62D-5F13-46DE-BB8F-D6E8F7E6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713-A142-43F7-8DCE-8B605EE4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778-0357-45D5-9CA4-5B7F908B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390680" y="1762200"/>
            <a:ext cx="71978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504720"/>
          <a:ext cx="912960" cy="579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4720"/>
                    <a:ext cx="912960" cy="57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7162920" y="5407200"/>
          <a:ext cx="2004840" cy="14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407200"/>
                    <a:ext cx="20048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133720" y="64008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D0CE91-E58F-4F51-BB71-CB7D6A6B2B5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30200" y="1268280"/>
            <a:ext cx="74898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914400"/>
            <a:ext cx="77709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3333cc"/>
                </a:solidFill>
                <a:latin typeface="Arial Black"/>
              </a:rPr>
              <a:t>Topic 2 (i)</a:t>
            </a:r>
            <a:br>
              <a:rPr sz="4800"/>
            </a:br>
            <a:br>
              <a:rPr sz="4800"/>
            </a:b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Advocating for metadata </a:t>
            </a:r>
            <a:br>
              <a:rPr sz="3600"/>
            </a:b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n a corporate context</a:t>
            </a:r>
            <a:br>
              <a:rPr sz="3600"/>
            </a:br>
            <a:br>
              <a:rPr sz="3600"/>
            </a:b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Discussion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4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Jana Meliskova and Klas Blomqv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C24-F95E-4DD9-A4D5-B4C362334A9D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ssues for discussion (cont)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ed to share  with other international activ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sed on case studies and other available documents, views appreciated namely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rtug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5FB-4F5E-4FA9-A682-60A8CBAB74E3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ssues for discussion (cont)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995120"/>
            <a:ext cx="77407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0000"/>
                </a:solidFill>
                <a:latin typeface="Arial"/>
              </a:rPr>
              <a:t>SBP: g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od practices, lessons learned 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 of the to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volvement 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bject-matter statisticians and methodologist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for externa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S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tegy and vision vs implementa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AF6-3585-46A2-9301-6303D6191D78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ssues for discussion</a:t>
            </a:r>
            <a:r>
              <a:rPr b="0" lang="cs-CZ" sz="36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cs-CZ" sz="2000" spc="-1" strike="noStrike">
                <a:solidFill>
                  <a:srgbClr val="3333cc"/>
                </a:solidFill>
                <a:latin typeface="Arial Black"/>
              </a:rPr>
              <a:t>(cont.)</a:t>
            </a:r>
            <a:endParaRPr b="0" lang="en-US" sz="20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Good practices, lessons learned 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allenges?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 work  (statisticians, methodologists, IT exp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mplementation of SD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esign of current 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ition of current to redesigned 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s, c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9C8-B0D6-4AFB-B29D-DDEDB6F25D41}" type="slidenum">
              <a:t>12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2852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3333cc"/>
                </a:solidFill>
                <a:latin typeface="Arial Black"/>
              </a:rPr>
              <a:t>Metadata in a corporate context</a:t>
            </a:r>
            <a:endParaRPr b="0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1640" y="2349000"/>
            <a:ext cx="71247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 is a corporate cont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MS - integral part of  SIS and SO strategic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role of SMS in SO activities/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4AB-E34C-4C34-9A5A-B40A90F440B7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3333cc"/>
                </a:solidFill>
                <a:latin typeface="Arial Black"/>
              </a:rPr>
              <a:t>Metadata in a corporate context</a:t>
            </a:r>
            <a:endParaRPr b="0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Recent tendency in many NSOs : to increase efficiency of SIS using 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roved synergy between SMS and 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ift from technical role of metadata to the statistical content and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ift from information to controlling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1AF-AED5-4E6E-BCB7-4B844567B8F0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3333cc"/>
                </a:solidFill>
                <a:latin typeface="Arial Black"/>
              </a:rPr>
              <a:t>Basis for discussion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 A of Common Metadata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prus -   Strategy for the Development of a New Integrated Metadata Driven Statistical Information System in the Statistical Service of Cyp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wa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ing metadata in Statistics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zech Republic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ainform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ystem for the Czech Statistical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METIS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WP for WS- Vienna 2007 and for WS-Luxembourg 200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76E-19CE-4593-9E4C-DF0D57FA2EFB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3333cc"/>
                </a:solidFill>
                <a:latin typeface="Arial Black"/>
              </a:rPr>
              <a:t>CYPRUS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ategy for  Metadata Driven 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Direct supervision by to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S-M statisticians from the very beginning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Impact on the organization of statistic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d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role of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SMS a key element for statistical business process (SB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CD3-6C42-4480-BDCE-EA4FCD28769C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Arial Black"/>
              </a:rPr>
              <a:t>NORVAY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etadata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gration of divers metadata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nefiting from SD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adata portal – easier  access, searching and use of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d support by top management still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rmonizing definitions among S-M divisions is a demanding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 – to investigate the role of metadata in S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5A2-1FA0-4CAC-BC65-81704A0B75CD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Arial Black"/>
              </a:rPr>
              <a:t>Czech Republic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design of SIS (including  S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rectly supervised by top management,  tea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ilot of the first version in 2008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MS in SB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   design, implementation and management of statistical   tasks/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  methodology ,data quality, respondent burden,     administrativ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MS in other SIS activities/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st cont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valuation of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F0A-20B9-451E-8AE1-BBF26C7D95BB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ssues for discussion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 statistical activities/processes should be serviced by S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S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st efficiency of statistical activities/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ty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173-6C1B-49CB-AE02-3496D66F58A3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Arial Black"/>
              </a:rPr>
              <a:t>Issues for discussion (cont)</a:t>
            </a:r>
            <a:endParaRPr b="0" lang="en-US" sz="36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alling  for international coop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al data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data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al activities/processes 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C9A-3177-49CD-A9ED-EC8D4F24A0B1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7:32:10Z</dcterms:created>
  <dc:creator>Lars-Göran Lundell</dc:creator>
  <dc:description/>
  <dc:language>en-US</dc:language>
  <cp:lastModifiedBy>Gardner</cp:lastModifiedBy>
  <dcterms:modified xsi:type="dcterms:W3CDTF">2008-04-24T15:20:39Z</dcterms:modified>
  <cp:revision>197</cp:revision>
  <dc:subject/>
  <dc:title>MetaPlus  -  lägesrapport</dc:title>
</cp:coreProperties>
</file>