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C8E-A599-43C7-A24B-E981AAA26AE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Klas makes the introduction and Jana is the moderator opening and driving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TOPIC 2(i): ADVOCATING FOR STATISTICAL METADATA IN A CORPORATE CONTEXT (CMF PART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 We have 3 invited papers (Norway, Cyprus and Czech), no contributed 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F38-7077-4D1E-AB4B-E617ABD3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1F1-2D94-4343-95CF-008D118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13E-B54C-4A3C-B526-FB49EB89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969-B15C-4BB9-AAB2-FB653B5A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17F-CF14-4FBB-9900-4BF3E00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B6C-9123-44F0-811D-A5218174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1DD-C7C4-4FB4-AC0D-18C10DA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989-0220-45BF-887A-D747F90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40C-3CB7-45E0-8AD3-EB17FF4E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1AD-A0BF-41F3-9C53-D58724D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152-CD96-46A8-8503-8106162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61F-DEC3-4E13-9B8B-41C7F84F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90680" y="1762200"/>
            <a:ext cx="71978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504720"/>
          <a:ext cx="912960" cy="579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4720"/>
                    <a:ext cx="912960" cy="57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7162920" y="5407200"/>
          <a:ext cx="20048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407200"/>
                    <a:ext cx="20048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1337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EB7EF6-2A34-474D-9C73-27ED76A3AB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0200" y="1268280"/>
            <a:ext cx="7489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914400"/>
            <a:ext cx="7770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3333cc"/>
                </a:solidFill>
                <a:latin typeface="Arial Black"/>
              </a:rPr>
              <a:t>Topic 2 (i)</a:t>
            </a:r>
            <a:br>
              <a:rPr sz="4800"/>
            </a:br>
            <a:br>
              <a:rPr sz="48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Advocating for metadata </a:t>
            </a:r>
            <a:br>
              <a:rPr sz="36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n a corporate context</a:t>
            </a:r>
            <a:br>
              <a:rPr sz="3600"/>
            </a:br>
            <a:br>
              <a:rPr sz="36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Jana Meliskova and Klas Blomqv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198-B807-4FDF-83AE-E68547C8F03B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ed to share  with other international activ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 on case studies and other available documents, views appreciated namely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0FC-9327-485A-9638-FAFE7323626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995120"/>
            <a:ext cx="7740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Arial"/>
              </a:rPr>
              <a:t>SBP: g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od practices, lessons learned 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of the 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ement 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bject-matter statisticians and methodologis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for extern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tegy and vision vs implemen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853-425D-4906-BDAE-C99A1C6E8F6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3333cc"/>
                </a:solidFill>
                <a:latin typeface="Arial Black"/>
              </a:rPr>
              <a:t>(cont.)</a:t>
            </a:r>
            <a:endParaRPr b="0" lang="en-US" sz="2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Good practices, lessons learned 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allenges?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work  (statisticians, methodologists, IT 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lementation of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ign of current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of current to redesigned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, c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98F-61A3-4668-8DDE-463059D43B52}" type="slidenum">
              <a:t>12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Arial Black"/>
              </a:rPr>
              <a:t>Metadata in a corporate context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7124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is a corporate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MS - integral part of  SIS and SO strategi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ole of SMS in SO activities/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C5E-FC77-47C3-9DFB-8DDA9D7F62F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Arial Black"/>
              </a:rPr>
              <a:t>Metadata in a corporate context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ecent tendency in many NSOs : to increase efficiency of SIS using 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roved synergy between SMS and 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from technical role of metadata to the statistical content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from information to controll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3D9-F5DE-40E2-8020-F208B68A0C81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Arial Black"/>
              </a:rPr>
              <a:t>Basi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 A of Common Metadat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prus -   Strategy for the Development of a New Integrated Metadata Driven Statistical Information System in the Statistical Service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wa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ing metadata in 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zech Republic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in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stem for the Czech Statistical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ETIS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WP for WS- Vienna 2007 and for WS-Luxembourg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C7D-F5B7-48DD-AE30-8CF470D275C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Arial Black"/>
              </a:rPr>
              <a:t>CYPRU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ategy for  Metadata Driven 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irect supervision by 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-M statisticians from the very beginning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mpact on the organization of statis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role of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MS a key element for statistical business process (S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6C0-587B-4F53-B184-BB690033C70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Arial Black"/>
              </a:rPr>
              <a:t>NORVAY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adata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gration of divers metadata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ing from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portal – easier  access, searching and use of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support by top management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monizing definitions among S-M divisions is a demandin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 – to investigate the role of metadata in 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C86-5905-47EB-B5E3-89F64F0983B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Arial Black"/>
              </a:rPr>
              <a:t>Czech Republic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design of SIS (including  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ctly supervised by top management,  tea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ot of the first version in 200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S in SB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  design, implementation and management of statistical   tasks/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 methodology ,data quality, respondent burden,     administrativ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S in other SIS activities/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st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aluation of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8B8-FFB8-4FCA-8890-2E100438997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statistical activities/processes should be serviced by 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S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st efficiency of statistical activities/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4C0-74E1-4C03-B75B-28B7734C21C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lling  for international coop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data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data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activities/processes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AE1-F186-4C8C-BF5F-4F91D52B34D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2:10Z</dcterms:created>
  <dc:creator>Lars-Göran Lundell</dc:creator>
  <dc:description/>
  <dc:language>en-US</dc:language>
  <cp:lastModifiedBy>Gardner</cp:lastModifiedBy>
  <dcterms:modified xsi:type="dcterms:W3CDTF">2008-04-24T15:20:39Z</dcterms:modified>
  <cp:revision>197</cp:revision>
  <dc:subject/>
  <dc:title>MetaPlus  -  lägesrapport</dc:title>
</cp:coreProperties>
</file>