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77CD-58EC-4526-98CF-B50254B1E5C9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Klas makes the introduction and Jana is the moderator opening and driving the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TOPIC 2(i): ADVOCATING FOR STATISTICAL METADATA IN A CORPORATE CONTEXT (CMF PART 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ifferent needs for different settings, there is no right or w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eds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We want to solve the problem of providing the relevant metadata to all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n the long run more use of metadata can aloso give a more inspring working envrionment, we are meeting new demands from a more mobile labour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A lot of poeple se it as shady, provide a clearer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We have 3 invited papers (Norway, Cyprus and Czech), no contributed p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MF part A – provides a good introduction and contains among many tother things a compilation of good practiceses – givning arguments, provides a roadmap trying to give advice on how to go 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he papers are examples from NSI of how toi work with the issue of advocay in different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ifferent prerequi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ifferent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Similar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Similar demands, webb-demands, visions and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Many similar probelms, that I also recognise from stats sweden, like how to get subject matter statisticians to understand the whole point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Getting everyone on ba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One focus could be on the different needs for advocacy depending on the implementation stage the organization is at. Early implementation stage one aspect of advocacy focusing on management - later stages call for advocacy among subject matter statisticians. These two aspects of advocacy need to be handled in differing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epending at hat stage the organisation is 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he focus chang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Parallell wokr is necessary, w ork with all or sever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hese issues ate menitioned in some form in alla of the papers for the session, and also in papers for other s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Providing the long term organisational view, creating strategies for how to get t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hange the strategy when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w SMS and current state of 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sers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upport to content and method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ost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Efficientcy from the last slide, M like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Aspect focusing on the management role and what use they can have of 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1 Management - for organizations at an early stage in implementing 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A lot has been said about this already. In addition, focus on implementation of metadata administration would be desir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Working together, all groups are important for being sucess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MEthodology should be the driving force – good knowledge of the problems at h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T cabt be the driving forc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Several examples of IT-consultant saying no problem, we can do that, no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evelopment and implementation: Needs a teamwork organization, It is a corporate task. The driving force are the statistical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A statistical variable is not do be defined by technology, it´s a conceptual issue and should be defined by methodologists (maybe in combination with subject matter statisticia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An other aspect is that metadata in a broad sense not only for data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n order to provide good descriptions for external and internal users we need good quality content. Quality in terms of comparability and transpr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More time for ”fun” the core part – analysis, the subject matter st and metodologists do not have to stick his nose into every detail. Several examples of this is given in the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Make it useful, not a bu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Getting methodologists and subject matter statisticians "on board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An other aspect is that metadata in a broad sense not only for data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alue of SMS as an important content/methodological  tool for the SIS integration inside and outside the 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tting up SMS 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ifferent perrequi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mplementaiotn plan, uses several of the issues i have mentioned to motivate developing a SMS, and focus on that metadata is a methodology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Strategy how it been carried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Examples of metadata needs, the need for clearly defined resopn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eam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Predesign strategy, having a holistic perspective as a driving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ecribing the way to get t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Exaples of how the metadata is used in the produc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Focus on conte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5D7-4E41-43FC-A03A-A497C21D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7B5-1CA9-493B-BD61-96C25F5B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8C6-78BC-4080-9F6D-9253B63E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E189-5104-46DB-9F3A-B7729C18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151-8DAF-413C-98EA-B1821D7B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E12-A573-4D87-B55E-1E75CC9A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B9B-EA4F-4721-B4D0-91A72BFA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8CF-09C6-44C4-9155-C30824F5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4BC-559D-421E-81C9-25E171C2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7F97-C1D2-4E7B-B5FA-B8126F04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5E5-E4C0-4274-A1EB-7B83B229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B24-39B8-41FF-8272-7AE5F9F1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390680" y="1762200"/>
            <a:ext cx="71978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504720"/>
          <a:ext cx="912960" cy="579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4720"/>
                    <a:ext cx="912960" cy="57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7162920" y="5407200"/>
          <a:ext cx="2004840" cy="14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5407200"/>
                    <a:ext cx="200484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52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133720" y="64008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DA75C4-4D70-4CBD-8519-081EEE9DCF2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30200" y="1268280"/>
            <a:ext cx="74898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914400"/>
            <a:ext cx="77709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400" spc="-1" strike="noStrike">
                <a:solidFill>
                  <a:srgbClr val="3333cc"/>
                </a:solidFill>
                <a:latin typeface="Arial Black"/>
              </a:rPr>
              <a:t>Topic 2 (i)</a:t>
            </a:r>
            <a:br>
              <a:rPr sz="5400"/>
            </a:br>
            <a:br>
              <a:rPr sz="5400"/>
            </a:br>
            <a:r>
              <a:rPr b="0" lang="sv-SE" sz="4000" spc="-1" strike="noStrike">
                <a:solidFill>
                  <a:srgbClr val="3333cc"/>
                </a:solidFill>
                <a:latin typeface="Arial Black"/>
              </a:rPr>
              <a:t>Advocating for metadata </a:t>
            </a:r>
            <a:br>
              <a:rPr sz="4000"/>
            </a:br>
            <a:r>
              <a:rPr b="0" lang="sv-SE" sz="4000" spc="-1" strike="noStrike">
                <a:solidFill>
                  <a:srgbClr val="3333cc"/>
                </a:solidFill>
                <a:latin typeface="Arial Black"/>
              </a:rPr>
              <a:t>in a corporate context</a:t>
            </a:r>
            <a:endParaRPr b="0" lang="en-US" sz="40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45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Klas Blomqvist and Jana Melisk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C05F-5038-4E38-B96E-7FBC1E1BDF0F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Why do we need metadata?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16160" y="2421000"/>
            <a:ext cx="6676920" cy="338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0BB0-33EE-42D0-977D-61DEC57FF463}" type="slidenum">
              <a:t>10</a:t>
            </a:fld>
          </a:p>
        </p:txBody>
      </p:sp>
    </p:spTree>
  </p:cSld>
  <p:transition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Black"/>
              </a:rPr>
              <a:t>Why do we need metadata?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8949" r="0" b="7723"/>
          <a:stretch/>
        </p:blipFill>
        <p:spPr>
          <a:xfrm>
            <a:off x="1042920" y="1959120"/>
            <a:ext cx="7777080" cy="407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090-EEA1-4C16-A0B4-CDC38363490A}" type="slidenum">
              <a:t>11</a:t>
            </a:fld>
          </a:p>
        </p:txBody>
      </p:sp>
    </p:spTree>
  </p:cSld>
  <p:transition advTm="1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Issues for discussion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3280" y="1981080"/>
            <a:ext cx="77407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ood practices, lessons learned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le o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M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efits for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S 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tegy and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E2F1-BEEB-4897-87ED-8FE2FDBCF486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Issues for discussion</a:t>
            </a:r>
            <a:r>
              <a:rPr b="0" lang="cs-CZ" sz="36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cs-CZ" sz="2000" spc="-1" strike="noStrike">
                <a:solidFill>
                  <a:srgbClr val="3333cc"/>
                </a:solidFill>
                <a:latin typeface="Arial Black"/>
              </a:rPr>
              <a:t>(cont.)</a:t>
            </a:r>
            <a:endParaRPr b="0" lang="en-US" sz="20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ood practices, lessons learned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?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m work  (statisticians, methodologists, IT expe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esign of current 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ition of current to redesigned 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s, c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EC1-ED83-4B30-B943-5561819973DE}" type="slidenum">
              <a:t>13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2852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Metadata and advocacy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1640" y="2349000"/>
            <a:ext cx="71247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oal of the session – advocate for 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the role of metadata in 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adata systems – a part of an organisations strategic dir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quest to highlight the role of Statistical Metadata Systems at the CES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6D44-693B-4BBB-A1CE-EF943F7116C6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cc"/>
                </a:solidFill>
                <a:latin typeface="Arial Black"/>
              </a:rPr>
              <a:t>Papers</a:t>
            </a: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 and </a:t>
            </a:r>
            <a:r>
              <a:rPr b="0" lang="cs-CZ" sz="3600" spc="-1" strike="noStrike">
                <a:solidFill>
                  <a:srgbClr val="3333cc"/>
                </a:solidFill>
                <a:latin typeface="Arial Black"/>
              </a:rPr>
              <a:t>document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rt A of Common Metadata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p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y for the Development of a New Integrated Metadata Driven Statistical Information System in the Statistical Service of Cypru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metadata in Statistics Norw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ainfor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em for the Czech Statistical Offi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324-32CD-44BC-9C9C-4BDC146BAF73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Adocacy need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isions,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 and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7FD8-1202-400B-9A41-BB5C6A6E0305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cc"/>
                </a:solidFill>
                <a:latin typeface="Arial Black"/>
              </a:rPr>
              <a:t>Vision, strategie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w SMS and current state of 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sers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tern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content an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st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Reduce respondent bu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EF9-6638-42AB-BE5C-D9668FB4D2A4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cc"/>
                </a:solidFill>
                <a:latin typeface="Arial Black"/>
              </a:rPr>
              <a:t>Management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am approach across the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organisati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anning and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le of the top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tion of th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73F-74C2-446F-B158-4BBC3A267D41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Development and building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effort,different types of experts, not exclusively an IT-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matter statist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74F6-D147-4A8C-B9A8-0860D75D08E9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Implement</a:t>
            </a:r>
            <a:r>
              <a:rPr b="0" lang="cs-CZ" sz="3600" spc="-1" strike="noStrike">
                <a:solidFill>
                  <a:srgbClr val="3333cc"/>
                </a:solidFill>
                <a:latin typeface="Arial Black"/>
              </a:rPr>
              <a:t>ation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sts and subject matter statist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use in the statistical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contr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u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sem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of statistical data and statistical proce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nly for 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onizing and standardi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0A0-6787-4A3F-B4E2-8D12BE3AAA54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Examples from the paper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pr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ample of how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z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design approach - integrated metadat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3245-1F49-4CB5-8D35-BB5400CDA6B8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07:32:10Z</dcterms:created>
  <dc:creator>Lars-Göran Lundell</dc:creator>
  <dc:description/>
  <dc:language>en-US</dc:language>
  <cp:lastModifiedBy>scbklab</cp:lastModifiedBy>
  <dcterms:modified xsi:type="dcterms:W3CDTF">2008-04-09T10:19:56Z</dcterms:modified>
  <cp:revision>186</cp:revision>
  <dc:subject/>
  <dc:title>MetaPlus  -  lägesrapport</dc:title>
</cp:coreProperties>
</file>