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2854-71FB-4691-8E02-A3FA936B5EF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Klas makes the introduction and Jana is the moderator opening and driving the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TOPIC 2(i): ADVOCATING FOR STATISTICAL METADATA IN A CORPORATE CONTEXT (CMF PART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ifferent needs for different settings, there is no right or w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eds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We want to solve the problem of providing the relevant metadata to all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the long run more use of metadata can aloso give a more inspring working envrionment, we are meeting new demands from a more mobile labour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 lot of poeple se it as shady, provide a clearer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We have 3 invited papers (Norway, Cyprus and Czech), no contributed 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MF part A – provides a good introduction and contains among many tother things a compilation of good practiceses – givning arguments, provides a roadmap trying to give advice on how to go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papers are examples from NSI of how toi work with the issue of advocay in different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ifferent prerequi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imilar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imilar demands, webb-demands, visions and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any similar probelms, that I also recognise from stats sweden, like how to get subject matter statisticians to understand the whole point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Getting everyone on ba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One focus could be on the different needs for advocacy depending on the implementation stage the organization is at. Early implementation stage one aspect of advocacy focusing on management - later stages call for advocacy among subject matter statisticians. These two aspects of advocacy need to be handled in differing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epending at hat stage the organisation is 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focus chang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arallell wokr is necessary, w ork with all or sever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se issues ate menitioned in some form in alla of the papers for the session, and also in papers for other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roviding the long term organisational view, creating strategies for how to get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hange the strategy when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w SMS and current state of 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sers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upport to content and method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ost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Efficientcy from the last slide, M like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spect focusing on the management role and what use they can have of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1 Management - for organizations at an early stage in implementing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 lot has been said about this already. In addition, focus on implementation of metadata administration would be desi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Working together, all groups are important for being sucess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Ethodology should be the driving force – good knowledge of the problems at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T cabt be the driving forc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everal examples of IT-consultant saying no problem, we can do that, no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evelopment and implementation: Needs a teamwork organization, It is a corporate task. The driving force are the statistic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 statistical variable is not do be defined by technology, it´s a conceptual issue and should be defined by methodologists (maybe in combination with subject matter statisticia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n other aspect is that metadata in a broad sense not only for data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order to provide good descriptions for external and internal users we need good quality content. Quality in terms of comparability and transpr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ore time for ”fun” the core part – analysis, the subject matter st and metodologists do not have to stick his nose into every detail. Several examples of this is given in the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ake it useful, not a bu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Getting methodologists and subject matter statisticians "on board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n other aspect is that metadata in a broad sense not only for data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lue of SMS as an important content/methodological  tool for the SIS integration inside and outside the 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tting up SMS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ifferent perrequi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mplementaiotn plan, uses several of the issues i have mentioned to motivate developing a SMS, and focus on that metadata is a methodology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trategy how it been carried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Examples of metadata needs, the need for clearly defined resop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eam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redesign strategy, having a holistic perspective as a driving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ecribing the way to get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Exaples of how the metadata is used in the produ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Focus on cont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964-0444-4D5E-9AB1-D1F3C731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D0D-1F83-4DA2-A24F-0D93E8ED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C64-C5DF-41A0-BD69-56B9CC3E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437-AADA-48A0-BCCC-52DB7123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2F5-1CCB-4A5A-8E3E-8ECE2C18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BEF-2D7E-4ACB-982B-2042D1D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7A0-442E-4661-895C-EAA6745C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B31-B2AF-4BD6-814D-DADD0E03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FE5-807F-45DE-BEBE-3A371700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48C-B878-4E61-89CB-A22BACF9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F2E-223E-4373-8D1C-25ABD0A9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E36-8DA5-4EB6-9B3F-D1347D1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90680" y="1762200"/>
            <a:ext cx="71978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504720"/>
          <a:ext cx="912960" cy="579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4720"/>
                    <a:ext cx="912960" cy="57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7162920" y="5407200"/>
          <a:ext cx="2004840" cy="14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407200"/>
                    <a:ext cx="20048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1337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62E0CD-40FC-4508-9797-679D7419AD5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0200" y="1268280"/>
            <a:ext cx="74898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914400"/>
            <a:ext cx="77709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3333cc"/>
                </a:solidFill>
                <a:latin typeface="Arial Black"/>
              </a:rPr>
              <a:t>Topic 2 (i)</a:t>
            </a:r>
            <a:br>
              <a:rPr sz="5400"/>
            </a:br>
            <a:br>
              <a:rPr sz="5400"/>
            </a:br>
            <a:r>
              <a:rPr b="0" lang="sv-SE" sz="4000" spc="-1" strike="noStrike">
                <a:solidFill>
                  <a:srgbClr val="3333cc"/>
                </a:solidFill>
                <a:latin typeface="Arial Black"/>
              </a:rPr>
              <a:t>Advocating for metadata </a:t>
            </a:r>
            <a:br>
              <a:rPr sz="4000"/>
            </a:br>
            <a:r>
              <a:rPr b="0" lang="sv-SE" sz="4000" spc="-1" strike="noStrike">
                <a:solidFill>
                  <a:srgbClr val="3333cc"/>
                </a:solidFill>
                <a:latin typeface="Arial Black"/>
              </a:rPr>
              <a:t>in a corporate context</a:t>
            </a:r>
            <a:endParaRPr b="0" lang="en-US" sz="40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Klas Blomqvist and Jana Melis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E66-3CB2-4108-91E4-BB9D08168FDB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Why do we need metadata?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16160" y="2421000"/>
            <a:ext cx="6676920" cy="33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D8B-9223-4E23-A4E2-0801CA7C7F0A}" type="slidenum">
              <a:t>10</a:t>
            </a:fld>
          </a:p>
        </p:txBody>
      </p:sp>
    </p:spTree>
  </p:cSld>
  <p:transition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Why do we need metadata?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8949" r="0" b="7723"/>
          <a:stretch/>
        </p:blipFill>
        <p:spPr>
          <a:xfrm>
            <a:off x="1042920" y="1959120"/>
            <a:ext cx="7777080" cy="40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223-5A22-4FC1-AB28-8B2A2E187848}" type="slidenum">
              <a:t>11</a:t>
            </a:fld>
          </a:p>
        </p:txBody>
      </p:sp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981080"/>
            <a:ext cx="77407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ood practices, lessons learned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M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fo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S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tegy and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1B8-F2E7-4263-BC27-4A37CEEE6F97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</a:t>
            </a: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cs-CZ" sz="2000" spc="-1" strike="noStrike">
                <a:solidFill>
                  <a:srgbClr val="3333cc"/>
                </a:solidFill>
                <a:latin typeface="Arial Black"/>
              </a:rPr>
              <a:t>(cont.)</a:t>
            </a:r>
            <a:endParaRPr b="0" lang="en-US" sz="20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ood practices, lessons learned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?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work  (statisticians, methodologists, IT exp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sign of current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ition of current to redesigned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s, c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51C-C22A-41E7-8DFC-B5898FFEB543}" type="slidenum">
              <a:t>13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Metadata and advocacy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1640" y="2349000"/>
            <a:ext cx="7124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al of the session – advocate for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he role of metadata in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data systems – a part of an organisations strategic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quest to highlight the role of Statistical Metadata Systems at the CES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E73-C7FC-4578-BDCE-6CF75320B941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Papers</a:t>
            </a: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 and </a:t>
            </a: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document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t A of Common Metadata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 for the Development of a New Integrated Metadata Driven Statistical Information System in the Statistical Service of Cypr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metadata in Statistics Norw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em for the Czech Statistical Off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A78-696B-4ADC-86A9-55A4E80B1B57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Adocacy need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isions,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and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253-F43F-46EC-ACC7-88B44EA3F7D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Vision, strategie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w SMS and current state of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er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ontent an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s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Reduce respondent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9FC-9933-439F-AB42-1D86E093D064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Management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am approach across the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nning and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le of the to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tion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D35-57EF-491D-B6E3-874B24BFFA79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Development and building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effort,different types of experts, not exclusively an IT-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matter statist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2B7-1645-4953-B61B-4CE46308FFFD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mplement</a:t>
            </a: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at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sts and subject matter statist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use in the statistical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contr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u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e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of statistical data and statistical proc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for 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zing and standard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32F-6D5B-489E-B4A4-17CE4A832209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Examples from the paper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how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z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design approach - integrated metadat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96B-3DE8-4895-BDBB-D4A361103589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7:32:10Z</dcterms:created>
  <dc:creator>Lars-Göran Lundell</dc:creator>
  <dc:description/>
  <dc:language>en-US</dc:language>
  <cp:lastModifiedBy>scbklab</cp:lastModifiedBy>
  <dcterms:modified xsi:type="dcterms:W3CDTF">2008-04-09T10:19:56Z</dcterms:modified>
  <cp:revision>186</cp:revision>
  <dc:subject/>
  <dc:title>MetaPlus  -  lägesrapport</dc:title>
</cp:coreProperties>
</file>