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2292-79D1-49D0-BCAC-D789C3CFD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1C2-78F2-4D2E-A710-E5DC37F17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943-1A04-4D82-8D43-2A81194A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1F1-C2CD-4B6B-8F38-1E6A063F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863-9F4C-48D2-982B-7A979B5F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40D-C9DF-4B91-9DF7-DD0F67F1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C57-653E-4A4A-B211-8F95E479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211-1374-490A-8911-B793A8FB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60A-4816-4D2E-80C4-754361D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728-4D32-4FB6-B19D-4760E9A8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64A-02EA-4808-8B62-FA325EC2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CCF-736C-4A57-B1DF-2C452FE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CFB-F5F3-465F-956C-D1E2F765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35C-9897-4AD5-831E-F2429AC3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946-4806-4EC3-93BC-BC622D4C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dmx.org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n the Mapping of Metadata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/IEC 11179, SDMX,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699080"/>
            <a:ext cx="423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ofan Gregory, Executiv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n Data Foundatio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IS Meeting, Luxembour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ril 9-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ing Point: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mappings have been identified as a good starting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– ISO/IEC 111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I – ISO/IEC 111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RL – ISO/IEC 111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– D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RL - SD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– ISO/IEC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alse starts – this is a difficult 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is on integration of SDMX mechanisms and ISO/IEC 11179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does not cover the same detail as ISO/IEC 11179, but provides points of contact (eg, code lists and other representations, classifications, conce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pping is important to the ISO acceptance of SDMX version 2.0 Technical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raft is currently being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516720" y="1357200"/>
            <a:ext cx="2370240" cy="3660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516720" y="4213080"/>
            <a:ext cx="2370240" cy="25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le 22"/>
          <p:cNvSpPr/>
          <p:nvPr/>
        </p:nvSpPr>
        <p:spPr>
          <a:xfrm>
            <a:off x="2629080" y="-30240"/>
            <a:ext cx="605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DMX and ISO/IEC 111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8840" y="1357200"/>
            <a:ext cx="2370240" cy="2011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4360" y="1996920"/>
            <a:ext cx="1458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00120" y="4714920"/>
            <a:ext cx="12240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MX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007400" y="6004080"/>
            <a:ext cx="122364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020000" y="1933560"/>
            <a:ext cx="143964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966000" y="4294080"/>
            <a:ext cx="144144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bl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2143080" y="21826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2000160" y="3357720"/>
            <a:ext cx="0" cy="136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7689960" y="3139920"/>
            <a:ext cx="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7613640" y="4935600"/>
            <a:ext cx="0" cy="10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85880" y="71280"/>
            <a:ext cx="1224000" cy="91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MX Structur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696960" y="2416320"/>
            <a:ext cx="1458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84360" y="2865600"/>
            <a:ext cx="1458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27040" y="1353960"/>
            <a:ext cx="25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MX Structur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155680" y="253836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155680" y="299556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224160" y="2357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ble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214720" y="357192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es semantic from a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7702560" y="31068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umerated or non enumerate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7613640" y="48261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umerated domains have valu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643200" y="5808600"/>
            <a:ext cx="1928880" cy="916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/IEC 11179 Data El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643200" y="4730760"/>
            <a:ext cx="18576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/IEC 11179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43"/>
          <p:cNvCxnSpPr>
            <a:stCxn id="109" idx="3"/>
            <a:endCxn id="128" idx="1"/>
          </p:cNvCxnSpPr>
          <p:nvPr/>
        </p:nvCxnSpPr>
        <p:spPr>
          <a:xfrm>
            <a:off x="2723760" y="5038200"/>
            <a:ext cx="91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arrow" w="med"/>
          </a:ln>
        </p:spPr>
      </p:cxnSp>
      <p:sp>
        <p:nvSpPr>
          <p:cNvPr id="130" name="Text Box 22"/>
          <p:cNvSpPr/>
          <p:nvPr/>
        </p:nvSpPr>
        <p:spPr>
          <a:xfrm>
            <a:off x="271476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45"/>
          <p:cNvCxnSpPr>
            <a:stCxn id="128" idx="2"/>
            <a:endCxn id="127" idx="0"/>
          </p:cNvCxnSpPr>
          <p:nvPr/>
        </p:nvCxnSpPr>
        <p:spPr>
          <a:xfrm>
            <a:off x="4570920" y="5376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32" name="Text Box 4"/>
          <p:cNvSpPr/>
          <p:nvPr/>
        </p:nvSpPr>
        <p:spPr>
          <a:xfrm>
            <a:off x="285840" y="5929200"/>
            <a:ext cx="185724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/IEC 11179 Data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47"/>
          <p:cNvCxnSpPr>
            <a:stCxn id="132" idx="3"/>
            <a:endCxn id="127" idx="1"/>
          </p:cNvCxnSpPr>
          <p:nvPr/>
        </p:nvCxnSpPr>
        <p:spPr>
          <a:xfrm>
            <a:off x="2142720" y="6252840"/>
            <a:ext cx="150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4" name="Straight Arrow Connector 48"/>
          <p:cNvCxnSpPr/>
          <p:nvPr/>
        </p:nvCxnSpPr>
        <p:spPr>
          <a:xfrm>
            <a:off x="713160" y="3357360"/>
            <a:ext cx="1080" cy="257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35" name="Text Box 22"/>
          <p:cNvSpPr/>
          <p:nvPr/>
        </p:nvSpPr>
        <p:spPr>
          <a:xfrm>
            <a:off x="714240" y="4214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50"/>
          <p:cNvSpPr/>
          <p:nvPr/>
        </p:nvSpPr>
        <p:spPr>
          <a:xfrm>
            <a:off x="5572080" y="6215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51"/>
          <p:cNvSpPr/>
          <p:nvPr/>
        </p:nvSpPr>
        <p:spPr>
          <a:xfrm flipV="1">
            <a:off x="6143760" y="3715920"/>
            <a:ext cx="1440" cy="25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2"/>
          <p:cNvSpPr/>
          <p:nvPr/>
        </p:nvSpPr>
        <p:spPr>
          <a:xfrm>
            <a:off x="6143760" y="37130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53"/>
          <p:cNvCxnSpPr/>
          <p:nvPr/>
        </p:nvCxnSpPr>
        <p:spPr>
          <a:xfrm flipV="1">
            <a:off x="7286760" y="3071520"/>
            <a:ext cx="216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 Box 21"/>
          <p:cNvSpPr/>
          <p:nvPr/>
        </p:nvSpPr>
        <p:spPr>
          <a:xfrm>
            <a:off x="5553000" y="30574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ble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55"/>
          <p:cNvCxnSpPr>
            <a:stCxn id="117" idx="2"/>
          </p:cNvCxnSpPr>
          <p:nvPr/>
        </p:nvCxnSpPr>
        <p:spPr>
          <a:xfrm flipH="1">
            <a:off x="1396440" y="9950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 Box 18"/>
          <p:cNvSpPr/>
          <p:nvPr/>
        </p:nvSpPr>
        <p:spPr>
          <a:xfrm>
            <a:off x="6429240" y="1353960"/>
            <a:ext cx="25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MX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6418440" y="5018040"/>
            <a:ext cx="119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MX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on-going prototype describing the ISO/IEC 11179 model as an SDMX Reference Metadata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greatly simplify the integration of SDMX and ISO/IEC 11179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DMX Registry could serve as a basic ISO/IEC 11179 Registry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DI – ISO/IEC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I has always been oriented toward the ISO/IEC 11179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s, codes/representations, categories, etc. are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sion 3.0 release of DDI is in final voting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ct as an XML-syntax implementation of ISO/IEC 11179 for concept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mandatory, but it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raft is being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5664240" cy="691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39720" y="76320"/>
            <a:ext cx="22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 3.0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- D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 and SDMX have some degree of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describe multi-dimensional data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have code lists and concep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provide XML formats for the data and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 is oriented toward micro-data, SDMX is oriented toward aggreg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ences based on ISO/IEC 11179 cover much of the mapping (codes, concep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-level use of concepts and codes/representations in data and metadata structures requires a dedicated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raft is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-going prototype is being developed to derive SDMX data structure definitions from DDI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for both aggregates and micro-data documented in DDI to be automatically expressed as SD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-data has limited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tools for data visualization, etc., could directly leverage DDI-documented data sets based on a standard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n early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– XB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and XBRL have differen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 is for individual business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is for aggre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over multi-dimens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Sponsors and XBRL International have agreed to define a standard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s progressing well, and further meetings are expect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llow progress, 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dmx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BRL – ISO/IEC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cally, an XBRL taxonomy could be described according to the ISO/IEC 11179 model, bu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gress has been made in this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pping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Going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appings/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blin Core and ISO 19115 can be described in SDMX as a reference meta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both integrated into the DDI 3.0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Dublin Core XML i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to ISO 19115-compliant shape files are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work is need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highest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-Going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of 5 mappings should emerge in 2008 as drafts for re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 –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 –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–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– 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protoypes/examples are being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cludes some prototype tools for performing cross-wal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and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support and interest has been very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ndividuals/organizations have participated informally: METIS, SDMX Sponsors, XBRL International, ISO committees (Open Forum for Metadata Registries), Open Data Foundation, DDI Alliance, N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organizations understand the need to provide alignments and mappings, to support thei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progress has been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IS can help thi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roviding critical feedback on published draf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roviding visibility and credibility to the results through inclusion in the metadata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IS 2006: Several presentations were given addressing some standards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de-discussions among attend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of note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Data and Metadata Exchange (SDM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ocumentation Initiative (D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9115 (geographic meta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Business Reporting Language (XBR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has been informal work to describe the mappings between these standards among individuals from many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is generally good, howev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abor-in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ission-critical for most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ETIS 2006, a general approach for moving forward was iden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ll standards against ISO/IEC 11179, so it acts as a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pproach has been largel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ways sufficient for al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ndards address issues which ISO/IEC 11179 does not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vot approach has been supplemented with some direct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ping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ways to map different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many technology applications, the criteria for success lies in the answer to the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 I trying to achiev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work has been done in defining use cases which can serve as the basis for producing mappings betwee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Level Vision – Standards Mapp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457200" cy="6094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1828800"/>
            <a:ext cx="457200" cy="6094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895480"/>
            <a:ext cx="1219320" cy="12193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362320"/>
            <a:ext cx="76176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2860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95120" y="2286000"/>
            <a:ext cx="762120" cy="68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1337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1828800"/>
            <a:ext cx="457200" cy="6094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8160" y="133200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ed Registries (Based on SDMX, ebXML, web serv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2438280"/>
            <a:ext cx="17528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DM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48120" y="2743200"/>
            <a:ext cx="3504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4800600"/>
            <a:ext cx="144756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4800600"/>
            <a:ext cx="144792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267080"/>
            <a:ext cx="2286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019920"/>
            <a:ext cx="13716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9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562360" y="563832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5257800"/>
            <a:ext cx="16002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14640" y="541008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44480" y="59799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971800" y="39625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3047760" y="3657240"/>
            <a:ext cx="11430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590920" y="3962520"/>
            <a:ext cx="3808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98680" y="3429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038120" y="2971800"/>
            <a:ext cx="25146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800600" y="3276720"/>
            <a:ext cx="175248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02560" y="374796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erences to sour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267080"/>
            <a:ext cx="685800" cy="76212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990720" y="38098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9680" y="52182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3760" y="350532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ga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00200"/>
            <a:ext cx="762120" cy="10666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1337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00480" y="17971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82360" y="43797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S 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ceding picture embodies several us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microdata sets and their metadata (XBRL, DDI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for microdata/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ISO/IEC 11179 metadata for SDMX/DDI/XBRL objects (concepts, cod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for ISO/IEC 11179 metadata on an SDMX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from SDMX aggregates to DDI/XBR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is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 of DDI – SDMX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8:39:39Z</dcterms:created>
  <dc:creator>agregory</dc:creator>
  <dc:description/>
  <dc:language>en-US</dc:language>
  <cp:lastModifiedBy>agregory</cp:lastModifiedBy>
  <dcterms:modified xsi:type="dcterms:W3CDTF">2008-04-07T14:29:33Z</dcterms:modified>
  <cp:revision>31</cp:revision>
  <dc:subject/>
  <dc:title>Slide 1</dc:title>
</cp:coreProperties>
</file>