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0AC6-E1C6-4701-95F5-7765410BC4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3BB3-E466-41A0-B20B-A5DF6F8504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F1230988-0E07-43A4-BE0D-A6D01EC277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30320" y="73836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66800" y="3580920"/>
            <a:ext cx="5634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57D9-9182-46E8-BEDC-8C4BAE4223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30320" y="73836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8240" y="3580920"/>
            <a:ext cx="56325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77E2-45AF-47E9-8929-6B6876069D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A8E3AEA7-6EC0-4266-82A4-5FA660BAC8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30320" y="73836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66800" y="3580920"/>
            <a:ext cx="563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quires user authentication (CIRCA LDAP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reate metadata in SDMX-ML forma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lect the domain for which metadata should be reported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eview metadata reports submitted in the pa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eview the reference period of the metadata repor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eview the filled metadata template and inform if there are parts that have not been completed (some parts should be mandator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ave submitted responses and continue/upload unfinished parts of the template/questionnaire at a later stag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age versions of the metadata repor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3719-FA00-452A-B853-621962EB5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A193-ABD5-41B6-861F-2D9ED854D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3F87-A36F-45F3-9878-3DDF57FCB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21F4-83FA-4FAF-A349-DE783E4ED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8F0A3-FDDF-4B6C-82B1-0923A1ABDE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D76DA-CBDF-4C7D-B565-0B85EB657A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2D681-1C2F-4795-9698-2B06F7A9F5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78D41-E891-4B38-BBC2-E9B9ECD3C6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A5D30-B3F2-4AEF-8585-33F17F945B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84F77-C22E-485D-BDC7-9BD1F1C0D5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C311D-0CC8-468A-9F72-A8B1044D6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D5FF-8A86-4DD5-9FA8-5170CBFE3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5E85E-52F9-4D20-8C10-0048FBAB5B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85623-1084-4730-9BB8-29F206FEC6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BD8B7-ED67-4193-82CC-56F304ABD1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52C33-6F42-47E6-ABFC-561E39B612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2182D-823F-4F57-A646-AABB75C9C0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040A-FEF6-483F-8AB6-79B5963C7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3E35-2792-41F4-BB25-662D501A1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CC07-A1A8-43C5-8E29-30BAA8E83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B3CE-1266-42A1-B1C9-DDDF3D6FD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F667-5DC2-4DA0-80D2-E64B119BA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D9B4-D010-4F09-9B97-B168CACDE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CEB1-B2DD-4174-8AE4-81408C227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3166920"/>
            <a:ext cx="9161280" cy="368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1CCD-49CD-4CAC-8377-0C242093929C}" type="slidenum">
              <a:rPr b="1" lang="fr-F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11280" y="6308640"/>
            <a:ext cx="5976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oint UNECE/Eurostat/OECD work session on statistical metadata (METI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88000" y="6093000"/>
            <a:ext cx="170676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-14400" y="2195640"/>
            <a:ext cx="9163080" cy="420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22320" y="189000"/>
            <a:ext cx="9166320" cy="666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2484360" y="6308640"/>
            <a:ext cx="39592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TIS work session on statistical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8616960" y="6461280"/>
            <a:ext cx="21600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AF7D-8D68-4AF3-8ADE-691FEC910CEE}" type="slidenum"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0920" y="5373000"/>
            <a:ext cx="1828800" cy="1302120"/>
            <a:chOff x="250920" y="5373000"/>
            <a:chExt cx="1828800" cy="1302120"/>
          </a:xfrm>
        </p:grpSpPr>
        <p:sp>
          <p:nvSpPr>
            <p:cNvPr id="47" name=""/>
            <p:cNvSpPr/>
            <p:nvPr/>
          </p:nvSpPr>
          <p:spPr>
            <a:xfrm>
              <a:off x="250920" y="61545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4">
              <a:lum bright="66000"/>
            </a:blip>
            <a:stretch/>
          </p:blipFill>
          <p:spPr>
            <a:xfrm flipH="1">
              <a:off x="707760" y="537300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716360" y="5589720"/>
            <a:ext cx="1658880" cy="58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732720" y="6021360"/>
            <a:ext cx="1706400" cy="60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engt-ake.lindblad@ec.europa.eu" TargetMode="External"/><Relationship Id="rId2" Type="http://schemas.openxmlformats.org/officeDocument/2006/relationships/hyperlink" Target="mailto:francesco.rizzo@ec.europa.e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052640"/>
            <a:ext cx="8353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Registry Facilities for the Exchange</a:t>
            </a:r>
            <a:br>
              <a:rPr sz="2800"/>
            </a:b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of Statistical Data and Meta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4360" y="3068280"/>
            <a:ext cx="619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Bengt-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  <a:ea typeface="Arial"/>
              </a:rPr>
              <a:t>Å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ke Lindblad,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bengt-ake.lindblad@ec.europa.eu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Francesco Rizzo,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francesco.rizzo@ec.europa.eu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Marco Pellegrino, marco.pellegrino@ec.europa.eu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B4217-5073-47E6-95E1-1997B7A241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8000" y="142920"/>
            <a:ext cx="9036000" cy="6742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588000" y="58042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461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Metadata 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BFB1-02F5-4F80-A69A-7D5106EEF7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475920"/>
            <a:ext cx="7545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ea521"/>
                </a:solidFill>
                <a:latin typeface="Arial"/>
              </a:rPr>
              <a:t>For more info: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SDMX standards </a:t>
            </a:r>
            <a:br>
              <a:rPr sz="2200"/>
            </a:br>
            <a:r>
              <a:rPr b="0" lang="fr-BE" sz="1800" spc="-1" strike="noStrike">
                <a:solidFill>
                  <a:srgbClr val="0f3277"/>
                </a:solidFill>
                <a:latin typeface="Arial"/>
              </a:rPr>
              <a:t>http://www.sdmx.org/index.php?page_id=16#package</a:t>
            </a: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SDMX User Guide</a:t>
            </a:r>
            <a:br>
              <a:rPr sz="2200"/>
            </a:br>
            <a:r>
              <a:rPr b="0" lang="fr-BE" sz="1800" spc="-1" strike="noStrike">
                <a:solidFill>
                  <a:srgbClr val="0f3277"/>
                </a:solidFill>
                <a:latin typeface="Arial"/>
              </a:rPr>
              <a:t>http://www.sdmx.org/index.php?page_id=38</a:t>
            </a: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Implementation of SDMX registry specifications:</a:t>
            </a:r>
            <a:br>
              <a:rPr sz="2200"/>
            </a:b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http://www.sdmx.org/index.php?page_id=52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6363-ED79-4A25-84D8-185B2CBAAC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628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ab730d"/>
                </a:solidFill>
                <a:latin typeface="Arial"/>
              </a:rPr>
              <a:t>Databases and Business Processe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445160" cy="540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8AAF-0706-4373-9AF4-3FF1A6133A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 rot="20700000">
            <a:off x="608040" y="1262160"/>
            <a:ext cx="7920000" cy="36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fa817"/>
                </a:solidFill>
                <a:latin typeface="Comic Sans MS"/>
              </a:rPr>
              <a:t>Thanks for your attention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Bengt-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ke.Lindblad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Francesco.Rizzo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Marco.Pellegrino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ff"/>
                </a:solidFill>
                <a:latin typeface="Comic Sans MS"/>
              </a:rPr>
              <a:t>@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ff"/>
                </a:solidFill>
                <a:latin typeface="Comic Sans MS"/>
              </a:rPr>
              <a:t>ec.europa.eu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124E-33A0-4B71-B562-93395C2848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40464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Working Paper 8: Registry facilitie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6280" y="1413000"/>
            <a:ext cx="75452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Functions of the SDMX Registry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Registry Architecture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Development of the Eurostat SDMX Registry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Registry Content and Implementation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- Data Structure Wizard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- Exchange and management of reference metadata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- Implementation strategy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Standardisation of Metadata Concept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AA21-1743-49DC-9C6C-F78D66AA40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What the SDMX Registry i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mplementation of SDMX standard, version 2.0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Application which is accessible to other programmes over the Internet (Intranet, Extranet) to provide information needed to facilitate the reporting, collection and dissemination of statistics.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Not concerned with the storage of data or reference metadata sets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dex of a distributed database or metadata repository.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Generic form of technology used by applications and not directly by end-users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E82E-B5EE-4F4F-9C47-122AB73EEC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54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SDMX Registry Architecture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561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499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tructural Metadata Repository Layer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Provisioning Metadata Repository Layer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Data and Metadata Registry Layer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ubscription/Notificatio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161040" cy="26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CDD7-B02D-4A03-B05A-76A73972F2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gistr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77080" y="60379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461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registry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E9C13-9D10-4AA5-A66E-79B2244FE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54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Development of the Eurostat SDMX registry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9930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lnSpc>
                <a:spcPct val="80000"/>
              </a:lnSpc>
              <a:spcAft>
                <a:spcPts val="675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277"/>
                </a:solidFill>
                <a:latin typeface="Arial"/>
              </a:rPr>
              <a:t>Development in 2006-2007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Implementing the specifications from SDMX 2.0 standards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Comprises three major blocks (Database, Web service, GUI)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Enable NSI to obtain SDMX structure definitions and dataflow agreements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Used as back-office application for other information systems (eDAMIS, SODI,…)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Published as Open Source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marL="414720" indent="-414720">
              <a:lnSpc>
                <a:spcPct val="80000"/>
              </a:lnSpc>
              <a:spcAft>
                <a:spcPts val="675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277"/>
                </a:solidFill>
                <a:latin typeface="Arial"/>
              </a:rPr>
              <a:t>Development in 2008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As of March of 2008 under stress test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Will be accessible by external organisations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Will become the core of  the “Metadata Handler” in Eurostat (providing a common environment for managing all kinds structural and reference metadata)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Will provide services to users via GUI or associated applications such as DSW and to other applications via the web service  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Will replace the existing GESMES Structural Metadatabases used by Eurostat and ECB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Will be complemented with other off-line and on-line applications and modules being developed for handling specific data or metadata objects  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EB5A-9F67-4D00-AD80-8FD4947E6A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24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The interoperability of reference metadata can be improved by: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Defining Metadata Structures (MSD) based on a standard conceptual structure (ESMS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Generating reference metadata into SDMX-compliant format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Enabling direct transmission of SDMX-ML metadata using push/pull mechanism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nverting/editing metadata which are not yet in SDMX-ML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Loading reference metadata into Eurostat’s metadata base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Extracting and publishing reference metadata on the website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95280" y="333360"/>
            <a:ext cx="8137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Use of registry architecture for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39640" y="4581360"/>
            <a:ext cx="75456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95280" y="5013360"/>
            <a:ext cx="835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By developing a registry architecture which can assist the users in performing the tasks described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BC91-373E-4981-901B-0353F26079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147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SDMX reference metadata architecture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680" y="981000"/>
            <a:ext cx="911232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5CFB-0747-45C2-BB23-1EA0C9A4E6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Web-based application intended to be used by the NSIs - metadata provider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Requires user authentication: CIRCA LDAP</a:t>
            </a:r>
            <a:r>
              <a:rPr b="0" lang="en-GB" sz="1800" spc="-1" strike="noStrike" baseline="30000">
                <a:solidFill>
                  <a:srgbClr val="0f3277"/>
                </a:solidFill>
                <a:latin typeface="Arial"/>
              </a:rPr>
              <a:t>(*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Major Functionalities: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3277"/>
                </a:solidFill>
                <a:latin typeface="Arial"/>
              </a:rPr>
              <a:t>Select and retrieve the MSD from the SDMX Metadata Registry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3277"/>
                </a:solidFill>
                <a:latin typeface="Arial"/>
              </a:rPr>
              <a:t>Build dynamically an SDMX metadata template which can be filled-in by the metadata provider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3277"/>
                </a:solidFill>
                <a:latin typeface="Arial"/>
              </a:rPr>
              <a:t>Fill (even partially) + store the SDMX-ML message in a local repository 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3277"/>
                </a:solidFill>
                <a:latin typeface="Arial"/>
              </a:rPr>
              <a:t>Dispatches the SDMX-ML metadata message to eDAMIS reception space and then to other Web Service modules for further processing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7" name="Rectangle 1026"/>
          <p:cNvSpPr/>
          <p:nvPr/>
        </p:nvSpPr>
        <p:spPr>
          <a:xfrm>
            <a:off x="755640" y="260280"/>
            <a:ext cx="748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SDMX Reference Metadata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535140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*) Lightweight Directory Access Protocol: Authentication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3FA9-2144-4BF0-953D-D5CAC33851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8:23:11Z</dcterms:created>
  <dc:creator>MP</dc:creator>
  <dc:description/>
  <dc:language>en-US</dc:language>
  <cp:lastModifiedBy>Gardner</cp:lastModifiedBy>
  <dcterms:modified xsi:type="dcterms:W3CDTF">2008-04-18T10:13:25Z</dcterms:modified>
  <cp:revision>105</cp:revision>
  <dc:subject/>
  <dc:title>Metadata task-force 2008/02</dc:title>
</cp:coreProperties>
</file>