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8E56-A9A9-420A-9CE8-8592FC8B3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F4B-F753-449E-803B-0DD0F2BB7A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3A2F20F6-E7F5-4020-8DD3-51686E4737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66800" y="3580920"/>
            <a:ext cx="5634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093-A2C6-4D88-8C5D-FA5D8333C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8240" y="3580920"/>
            <a:ext cx="56325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398-A12C-41EC-BBF7-6C7F492B7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8D428C4F-A6DB-4BAA-8D71-E9F68856D5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0320" y="73836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66800" y="3580920"/>
            <a:ext cx="563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quires user authentication (CIRCA LDAP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reate metadata in SDMX-ML forma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lect the domain for which metadata should be reported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metadata reports submitted in the pa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the reference period of the metadata repor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view the filled metadata template and inform if there are parts that have not been completed (some parts should be mandator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ve submitted responses and continue/upload unfinished parts of the template/questionnaire at a later stag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age versions of the metadata repor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8EE6-2F5F-48A3-8C26-D97AF5041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E606-DE6E-47A2-8E08-4A1C685F0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4E44-E9E5-4C5E-82E1-A109FBA2B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8927-31FC-48A2-B70C-A2A01BF90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60C37-CD7B-49EB-A414-690CF09959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6E442-92C1-4938-9E65-78E4EE03DF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9103E-808B-43E8-9AF9-764EE4B0E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6E7FE-693B-4220-B85E-3D447A56F9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67691-67EC-4767-BAF2-F0306E1160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4FF4E-B87A-4678-A7E5-C92678FE13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8158E-9E56-4550-B76D-E9C1962C9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4B6B-42AD-46AA-9283-047AB27FC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85E90-FDF9-4473-A55A-8CF30E0DF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DE1C1-83A5-4B6E-8EDA-39AF01F22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20860-3A60-4612-8D00-E9EA8979A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2077F-76CD-4EEA-9743-0017BA61B5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B420B-76F7-4BD4-8F03-DC33F47CE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EF5-4669-4CAA-9193-E7253BFF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D4E5-1AD6-4B98-A303-1A42FDFD8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B35C-D319-4DF4-9F48-4B3C2BC51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EA53-2A60-431A-ACC5-1A7B083B2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3F06-0EF2-494B-A064-25E2FBA33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D8C0-4A66-48DC-8964-ADF6A6C61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F965-C168-44D5-B5F8-18DADA3E3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F8A-7D24-403D-814F-88147BD5BC9C}" type="slidenum">
              <a:rPr b="1" lang="fr-F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1280" y="6308640"/>
            <a:ext cx="597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oint UNECE/Eurostat/OECD work session on statistical metadata (METI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170676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22320" y="189000"/>
            <a:ext cx="9166320" cy="666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2484360" y="6308640"/>
            <a:ext cx="3959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TIS work session on statistical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8787-7DFC-4A0C-B13B-BE397CC68759}" type="slidenum"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7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716360" y="5589720"/>
            <a:ext cx="1658880" cy="58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32720" y="6021360"/>
            <a:ext cx="170640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gt-ake.lindblad@ec.europa.eu" TargetMode="External"/><Relationship Id="rId2" Type="http://schemas.openxmlformats.org/officeDocument/2006/relationships/hyperlink" Target="mailto:francesco.rizzo@ec.europa.e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052640"/>
            <a:ext cx="835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Registry Facilities for the Exchange</a:t>
            </a:r>
            <a:br>
              <a:rPr sz="2800"/>
            </a:b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of Statistical Data and Meta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360" y="3068280"/>
            <a:ext cx="61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Bengt-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  <a:ea typeface="Arial"/>
              </a:rPr>
              <a:t>Å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ke Lindblad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engt-ake.lindblad@ec.europa.eu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Francesco Rizzo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francesco.rizzo@ec.europa.eu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Marco Pellegrino, marco.pellegrino@ec.europa.eu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A39F-C305-4F9E-9753-829DDA64A0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142920"/>
            <a:ext cx="9036000" cy="6742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588000" y="5804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461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Metadata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1AC-336C-42C7-9A29-79CE618CA1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545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ea521"/>
                </a:solidFill>
                <a:latin typeface="Arial"/>
              </a:rPr>
              <a:t>For more info: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SDMX standards </a:t>
            </a:r>
            <a:br>
              <a:rPr sz="2200"/>
            </a:br>
            <a:r>
              <a:rPr b="0" lang="fr-BE" sz="1800" spc="-1" strike="noStrike">
                <a:solidFill>
                  <a:srgbClr val="0f3277"/>
                </a:solidFill>
                <a:latin typeface="Arial"/>
              </a:rPr>
              <a:t>http://www.sdmx.org/index.php?page_id=16#package</a:t>
            </a: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SDMX User Guide</a:t>
            </a:r>
            <a:br>
              <a:rPr sz="2200"/>
            </a:br>
            <a:r>
              <a:rPr b="0" lang="fr-BE" sz="1800" spc="-1" strike="noStrike">
                <a:solidFill>
                  <a:srgbClr val="0f3277"/>
                </a:solidFill>
                <a:latin typeface="Arial"/>
              </a:rPr>
              <a:t>http://www.sdmx.org/index.php?page_id=38</a:t>
            </a: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3277"/>
                </a:solidFill>
                <a:latin typeface="Arial"/>
              </a:rPr>
              <a:t>Implementation of SDMX registry specifications:</a:t>
            </a:r>
            <a:br>
              <a:rPr sz="2200"/>
            </a:b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http://www.sdmx.org/index.php?page_id=52</a:t>
            </a: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A21B-6CE2-4E20-B726-734DC2AEAD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628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ab730d"/>
                </a:solidFill>
                <a:latin typeface="Arial"/>
              </a:rPr>
              <a:t>Databases and Business Processe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445160" cy="54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52BA-B322-4CA9-9FEB-F2B3788BB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 rot="20700000">
            <a:off x="608040" y="1262160"/>
            <a:ext cx="792000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fa817"/>
                </a:solidFill>
                <a:latin typeface="Comic Sans MS"/>
              </a:rPr>
              <a:t>Thanks for your atten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Bengt-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ke.Lindblad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Francesco.Rizzo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Comic Sans MS"/>
              </a:rPr>
              <a:t>Marco.Pellegri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@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66ff"/>
                </a:solidFill>
                <a:latin typeface="Comic Sans MS"/>
              </a:rPr>
              <a:t>ec.europa.eu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813C-F6F8-4F5C-AF4B-851ECDEADE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40464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Working Paper 8: Registry facilitie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6280" y="1413000"/>
            <a:ext cx="7545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Functions of the SDMX Registry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Registry Architectur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evelopment of the Eurostat SDMX Registry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Registry Content and Implement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Data Structure Wizar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Exchange and management of reference metadat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- Implementation strateg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f3277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Standardisation of Metadata Concep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EFB-53F8-46E9-BFD4-A4C5042642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What the SDMX Registry i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mplementation of SDMX standard, version 2.0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pplication which is accessible to other programmes over the Internet (Intranet, Extranet) to provide information needed to facilitate the reporting, collection and dissemination of statistics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Not concerned with the storage of data or reference metadata set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dex of a distributed database or metadata repository.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spcAft>
                <a:spcPts val="1250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eneric form of technology used by applications and not directly by end-user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FE01-EFFA-4C5D-8B5F-F76219B9D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SDMX Registry Architecture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561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tructural Metadata Reposito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rovisioning Metadata Reposito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Data and Metadata Registry Laye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ubscription/Notificat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161040" cy="26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4246-7C33-44F8-A19F-6D1820FC0B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gistr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77080" y="6037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461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egistr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D547C-A2AF-48E6-A7BC-003EEE1C8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54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Development of the Eurostat SDMX registry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lnSpc>
                <a:spcPct val="80000"/>
              </a:lnSpc>
              <a:spcAft>
                <a:spcPts val="675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"/>
              </a:rPr>
              <a:t>Development in 2006-2007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Implementing the specifications from SDMX 2.0 standards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Comprises three major blocks (Database, Web service, GUI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Enable NSI to obtain SDMX structure definitions and dataflow agreements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Used as back-office application for other information systems (eDAMIS, SODI,…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Published as Open Source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414720" indent="-414720">
              <a:lnSpc>
                <a:spcPct val="80000"/>
              </a:lnSpc>
              <a:spcAft>
                <a:spcPts val="675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277"/>
                </a:solidFill>
                <a:latin typeface="Arial"/>
              </a:rPr>
              <a:t>Development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As of March of 2008 under stress test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3277"/>
                </a:solidFill>
                <a:latin typeface="Arial"/>
              </a:rPr>
              <a:t>Will be accessible by external organisations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become the core of  the “Metadata Handler” in Eurostat (providing a common environment for managing all kinds structural and reference metadata)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provide services to users via GUI or associated applications such as DSW and to other applications via the web service  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replace the existing GESMES Structural Metadatabases used by Eurostat and ECB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Will be complemented with other off-line and on-line applications and modules being developed for handling specific data or metadata objects   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81F2-44C8-4125-A7E1-7A51B789F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e interoperability of reference metadata can be improved by: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Defining Metadata Structures (MSD) based on a standard conceptual structure (ESM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Generating reference metadata into SDMX-compliant format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Enabling direct transmission of SDMX-ML metadata using push/pull mechanism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nverting/editing metadata which are not yet in SDMX-ML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Loading reference metadata into Eurostat’s metadata bas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f3277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Extracting and publishing reference metadata on the websit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5280" y="333360"/>
            <a:ext cx="81374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Use of registry architecture fo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9640" y="4581360"/>
            <a:ext cx="7545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5280" y="5013360"/>
            <a:ext cx="83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By developing a registry architecture which can assist the users in performing the tasks described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830A-512C-4D06-BAC7-C71F56ABA3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147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</a:rPr>
              <a:t>SDMX reference metadata architecture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680" y="981000"/>
            <a:ext cx="91123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42E5-DD78-485E-9D15-9F43B08CB1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Web-based application intended to be used by the NSIs - metadata provid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Requires user authentication: CIRCA LDAP</a:t>
            </a:r>
            <a:r>
              <a:rPr b="0" lang="en-GB" sz="1800" spc="-1" strike="noStrike" baseline="30000">
                <a:solidFill>
                  <a:srgbClr val="0f3277"/>
                </a:solidFill>
                <a:latin typeface="Arial"/>
              </a:rPr>
              <a:t>(*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Major Functionalities: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Select and retrieve the MSD from the SDMX Metadata Registry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Build dynamically an SDMX metadata template which can be filled-in by the metadata provider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Fill (even partially) + store the SDMX-ML message in a local repository 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3277"/>
                </a:solidFill>
                <a:latin typeface="Arial"/>
              </a:rPr>
              <a:t>Dispatches the SDMX-ML metadata message to eDAMIS reception space and then to other Web Service modules for further processing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7" name="Rectangle 1026"/>
          <p:cNvSpPr/>
          <p:nvPr/>
        </p:nvSpPr>
        <p:spPr>
          <a:xfrm>
            <a:off x="755640" y="260280"/>
            <a:ext cx="748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SDMX Reference Metadata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351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*) Lightweight Directory Access Protocol: Authentication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FF31-3A41-4B8F-A7C2-45130BE4D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MP</dc:creator>
  <dc:description/>
  <dc:language>en-US</dc:language>
  <cp:lastModifiedBy>Gardner</cp:lastModifiedBy>
  <dcterms:modified xsi:type="dcterms:W3CDTF">2008-04-18T10:13:25Z</dcterms:modified>
  <cp:revision>105</cp:revision>
  <dc:subject/>
  <dc:title>Metadata task-force 2008/02</dc:title>
</cp:coreProperties>
</file>