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FB5-44F3-4AE8-9084-60DCD3E1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01F-7CA5-4CBA-8FDE-ED65341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296-5EEC-4FB5-B673-3FD405A1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FEC-5F83-4615-B91B-775FCD5B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0B8-4673-40C3-A065-9B4ADA0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EA9-A626-4C06-8394-1D9A956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FE-F013-4B28-8E3C-58ABD6B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B76-AE10-464A-A141-B2B903E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FD4-935F-4A0B-B0C4-2736176B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9B5-2CB9-4C04-9BBF-68FCC64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2E6-A3C6-4CDC-94BB-6F7F460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EF6-F94E-43D3-B123-99C6652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C606-39D4-46F7-A5E7-C2BD557D270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lassifications of statistical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Bo Sund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008-04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549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source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atistical metadata by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d – formatted – free text –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– semistructured – unstruct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: tightly integrated with data – linked to data – separate metadata repositories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lassification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eds the metadata,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for which purposes (e.g. exploratory and explanatory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 the metadata inform about: metadata (attachment) objects and metadata variables (item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the metadata structured and formalised (or not), and how are they organ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 the metadata come from (source processes) and where they go (use processes)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stical metadata by usage/purpose – metadata us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Re)development of a statistic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peration and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Evaluation of a statistic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7610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450800"/>
            <a:ext cx="86421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861840"/>
            <a:ext cx="77752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atistical metadata by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/subsystem/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/output 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tatistical data – metadata – process 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ceptu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tion characte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 characte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stical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rumental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collection – Metadata collection – Process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 &amp;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sons &amp;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&amp; lo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563400"/>
            <a:ext cx="6480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673200"/>
            <a:ext cx="8353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3:06:04Z</dcterms:created>
  <dc:creator>Bo Sundgren</dc:creator>
  <dc:description/>
  <dc:language>en-US</dc:language>
  <cp:lastModifiedBy>Gardner</cp:lastModifiedBy>
  <dcterms:modified xsi:type="dcterms:W3CDTF">2008-04-07T09:01:21Z</dcterms:modified>
  <cp:revision>11</cp:revision>
  <dc:subject/>
  <dc:title>Classifications of statistical metadata</dc:title>
</cp:coreProperties>
</file>