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0654-4488-4692-925C-3DE671FE9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8B17-E969-463D-B3DE-5E94A8EBC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C548-DC6D-4518-A53C-697A8A212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DE52-CE43-429C-AB8F-7E10C68FD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F26E-5D67-46BC-B735-FE703AB71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6BDA-413E-4432-8CD5-AC3D709AC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DF4E-8653-402C-B275-CDC477298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D377-25D9-4B5A-9E23-D8D8AD443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8FA3-053B-4B18-8D6D-88F555358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E428-3C28-4E2E-B69C-2B8EEEDF6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EF54-5339-4CBD-9B81-FBEA90B0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9EFB-1F6B-4F71-88DF-99BBCE64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F2F25-7018-4446-8232-4D2B61531A84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Classifications of statistical meta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Bo Sundg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2008-04-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000000"/>
                </a:solidFill>
                <a:latin typeface="Arial"/>
              </a:rPr>
              <a:t>Metadata by attachment object (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908000" y="549360"/>
            <a:ext cx="525492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Metadata by source and u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33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Statistical metadata by 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ded – formatted – free text – ot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uctured – semistructured – unstructur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ganisation: tightly integrated with data – linked to data – separate metadata repositories</a:t>
            </a: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Classification dimen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h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needs the metadata, and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h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for which purposes (e.g. exploratory and explanatory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ha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do the metadata inform about: metadata (attachment) objects and metadata variables (items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ow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re the metadata structured and formalised (or not), and how are they organis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do the metadata come from (source processes) and where they go (use processes)</a:t>
            </a: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tatistical metadata by usage/purpose – metadata use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522900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(Re)development of a statistical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Operation and moni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Evaluation of a statistical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692360" y="1628640"/>
            <a:ext cx="576108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Metadata by use proces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0920" y="1450800"/>
            <a:ext cx="864216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Metadata by use proces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4360" y="861840"/>
            <a:ext cx="7775280" cy="59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Metadata by use proces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4000" y="1069920"/>
            <a:ext cx="856908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Statistical metadata by 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ystem/subsystem/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put/output dat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statistical data – metadata – process dat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nceptual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bservation characteris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ari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alue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arget characteris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ari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alue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atistical meas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strumental re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ata collection – Metadata collection – Process data col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knowledge &amp; experi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ersons &amp; organis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quipment &amp; local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inancial resources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000000"/>
                </a:solidFill>
                <a:latin typeface="Arial"/>
              </a:rPr>
              <a:t>Metadata by attachment object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332000" y="563400"/>
            <a:ext cx="6480000" cy="629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000000"/>
                </a:solidFill>
                <a:latin typeface="Arial"/>
              </a:rPr>
              <a:t>Metadata by attachment object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95280" y="673200"/>
            <a:ext cx="83534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5T13:06:04Z</dcterms:created>
  <dc:creator>Bo Sundgren</dc:creator>
  <dc:description/>
  <dc:language>en-US</dc:language>
  <cp:lastModifiedBy>Gardner</cp:lastModifiedBy>
  <dcterms:modified xsi:type="dcterms:W3CDTF">2008-04-07T09:01:21Z</dcterms:modified>
  <cp:revision>11</cp:revision>
  <dc:subject/>
  <dc:title>Classifications of statistical metadata</dc:title>
</cp:coreProperties>
</file>