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5f9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a6c9f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86400" y="60469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18b"/>
                </a:solidFill>
                <a:latin typeface="Arial"/>
              </a:rPr>
              <a:t>ČESKÝ STATISTICKÝ ÚŘAD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6320" y="5943600"/>
            <a:ext cx="9296640" cy="0"/>
          </a:xfrm>
          <a:prstGeom prst="line">
            <a:avLst/>
          </a:prstGeom>
          <a:ln w="3240">
            <a:solidFill>
              <a:srgbClr val="004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4" name="logo_csu_modre" descr=""/>
          <p:cNvPicPr/>
          <p:nvPr/>
        </p:nvPicPr>
        <p:blipFill>
          <a:blip r:embed="rId3"/>
          <a:stretch/>
        </p:blipFill>
        <p:spPr>
          <a:xfrm>
            <a:off x="380880" y="6121440"/>
            <a:ext cx="927360" cy="311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781680" y="6305400"/>
            <a:ext cx="206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418b"/>
                </a:solidFill>
                <a:latin typeface="Arial"/>
              </a:rPr>
              <a:t>Na padesátém 81, 100 82  Praha 10</a:t>
            </a:r>
            <a:endParaRPr b="0" lang="en-US" sz="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715160" y="642636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418b"/>
                </a:solidFill>
                <a:latin typeface="Arial"/>
              </a:rPr>
              <a:t>www.czso.cz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468a"/>
                </a:solidFill>
                <a:latin typeface="Arial"/>
              </a:rPr>
              <a:t>Value of Meta</a:t>
            </a:r>
            <a:r>
              <a:rPr b="0" lang="cs-CZ" sz="3600" spc="-1" strike="noStrike">
                <a:solidFill>
                  <a:srgbClr val="00468a"/>
                </a:solidFill>
                <a:latin typeface="Arial"/>
              </a:rPr>
              <a:t>-</a:t>
            </a:r>
            <a:r>
              <a:rPr b="0" lang="en-GB" sz="3600" spc="-1" strike="noStrike">
                <a:solidFill>
                  <a:srgbClr val="00468a"/>
                </a:solidFill>
                <a:latin typeface="Arial"/>
              </a:rPr>
              <a:t>information System for the Czech Statistical Office</a:t>
            </a:r>
            <a:br>
              <a:rPr sz="3600"/>
            </a:br>
            <a:br>
              <a:rPr sz="3600"/>
            </a:br>
            <a:r>
              <a:rPr b="0" lang="en-GB" sz="2000" spc="-1" strike="noStrike">
                <a:solidFill>
                  <a:srgbClr val="00468a"/>
                </a:solidFill>
                <a:latin typeface="Arial"/>
              </a:rPr>
              <a:t>Topic 2(i) Advocating for metadata in corporate context</a:t>
            </a:r>
            <a:endParaRPr b="0" lang="en-US" sz="2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42667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Joint UNECE/Eurostat/OECD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         </a:t>
            </a:r>
            <a:br>
              <a:rPr sz="2000"/>
            </a:b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work session on metadata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         </a:t>
            </a:r>
            <a:br>
              <a:rPr sz="2000"/>
            </a:b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Luxembourg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April 200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8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         Ebbo Petrikovi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         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ebbo.petrikovits@czso.cz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Content of the SMS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752480"/>
            <a:ext cx="1979640" cy="64800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Statistical Tasks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18000" y="2924280"/>
            <a:ext cx="1871640" cy="936360"/>
          </a:xfrm>
          <a:prstGeom prst="ellipse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cc"/>
                </a:solidFill>
                <a:latin typeface="Arial"/>
              </a:rPr>
              <a:t>SMS</a:t>
            </a:r>
            <a:endParaRPr b="0" lang="en-US" sz="30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590920"/>
            <a:ext cx="1979640" cy="6476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cc00"/>
                </a:solidFill>
                <a:latin typeface="Arial"/>
              </a:rPr>
              <a:t>Statistical Quality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429000"/>
            <a:ext cx="1979640" cy="6476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cc00"/>
                </a:solidFill>
                <a:latin typeface="Arial"/>
              </a:rPr>
              <a:t>Time Series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267080"/>
            <a:ext cx="1979640" cy="648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</a:rPr>
              <a:t>Respondents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105520"/>
            <a:ext cx="1979640" cy="64764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Statistical Classifications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5105520"/>
            <a:ext cx="1979640" cy="64764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Statistical </a:t>
            </a:r>
            <a:r>
              <a:rPr b="1" lang="cs-CZ" sz="1600" spc="-1" strike="noStrike">
                <a:solidFill>
                  <a:srgbClr val="0000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4267080"/>
            <a:ext cx="1979640" cy="648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Arial"/>
              </a:rPr>
              <a:t>Data Fund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3429000"/>
            <a:ext cx="1979640" cy="64764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Arial"/>
              </a:rPr>
              <a:t>Dissemination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2590920"/>
            <a:ext cx="1979640" cy="64764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1676520"/>
            <a:ext cx="1979640" cy="64764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5ec6"/>
                </a:solidFill>
                <a:latin typeface="Arial"/>
              </a:rPr>
              <a:t>Statistical Registers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057400"/>
            <a:ext cx="457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895480"/>
            <a:ext cx="457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733920"/>
            <a:ext cx="457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4572000"/>
            <a:ext cx="457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5410080"/>
            <a:ext cx="457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172200" y="1981080"/>
            <a:ext cx="457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172200" y="2895480"/>
            <a:ext cx="457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248520" y="3809880"/>
            <a:ext cx="38088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248520" y="4648320"/>
            <a:ext cx="38088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248520" y="5410080"/>
            <a:ext cx="38088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2057400"/>
            <a:ext cx="1523880" cy="91440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2895480"/>
            <a:ext cx="838080" cy="38124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581280"/>
            <a:ext cx="838080" cy="15264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819520" y="3809520"/>
            <a:ext cx="1218960" cy="76212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19520" y="3885840"/>
            <a:ext cx="1600200" cy="152388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724280" y="3885840"/>
            <a:ext cx="1524240" cy="152388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181480" y="3809520"/>
            <a:ext cx="1067040" cy="83844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409720" y="3580920"/>
            <a:ext cx="838440" cy="22860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09720" y="2895480"/>
            <a:ext cx="762120" cy="30492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800600" y="1981080"/>
            <a:ext cx="1371600" cy="99072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3886200"/>
            <a:ext cx="0" cy="838080"/>
          </a:xfrm>
          <a:prstGeom prst="line">
            <a:avLst/>
          </a:prstGeom>
          <a:ln w="1260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4724280"/>
            <a:ext cx="1218960" cy="337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8000"/>
                </a:solidFill>
                <a:latin typeface="Times New Roman"/>
              </a:rPr>
              <a:t>GA-SMS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SMS implementation strategy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definition and development of individual subsystem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implementation of individual subsystem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tests of individual subsystem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integration tes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semi-operational runnin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pilot project on selected statistical task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operational runnin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step-by-step transition of existing statistical tasks into SMS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Technological environment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Technological infrastructure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UNIX operating syste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Oracle database syste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PC with OS Windows/Linux as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client workst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6760" y="3045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Technological principles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d4d4d"/>
                </a:solidFill>
                <a:latin typeface="Arial"/>
              </a:rPr>
              <a:t>Work stations independent on operating system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d4d4d"/>
                </a:solidFill>
                <a:latin typeface="Arial"/>
              </a:rPr>
              <a:t>Internet browser as a basic tool for communication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d4d4d"/>
                </a:solidFill>
                <a:latin typeface="Arial"/>
              </a:rPr>
              <a:t>No supplementary products on the client work station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d4d4d"/>
                </a:solidFill>
                <a:latin typeface="Arial"/>
              </a:rPr>
              <a:t>Oracle Forms as a basic tool for development of application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d4d4d"/>
                </a:solidFill>
                <a:latin typeface="Arial"/>
              </a:rPr>
              <a:t>Access to the SMS subsystems via SMS Access Portal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Subsystem CLASS</a:t>
            </a: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IFICATION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Inspired by Neuch</a:t>
            </a:r>
            <a:r>
              <a:rPr b="0" lang="en-GB" sz="3000" spc="-1" strike="noStrike">
                <a:solidFill>
                  <a:srgbClr val="4d4d4d"/>
                </a:solidFill>
                <a:latin typeface="Arial"/>
                <a:ea typeface="Arial"/>
              </a:rPr>
              <a:t>â</a:t>
            </a: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tel Classification Mod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Described objects: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version of classifi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variant of classifi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code-lis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basic code-lis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combined code-lis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Subsystem VARIABLES</a:t>
            </a: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468a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Described objects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statistical variabl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basic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subject-matter broken-dow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On conceptual level very similar to the Neuch</a:t>
            </a:r>
            <a:r>
              <a:rPr b="0" lang="en-GB" sz="3000" spc="-1" strike="noStrike">
                <a:solidFill>
                  <a:srgbClr val="4d4d4d"/>
                </a:solidFill>
                <a:latin typeface="Arial"/>
                <a:ea typeface="Arial"/>
              </a:rPr>
              <a:t>â</a:t>
            </a: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tel Variables Mod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Subsystem VARIABLES</a:t>
            </a: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468a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7680" y="1447920"/>
            <a:ext cx="8648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Detailed model: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a statistical data is identified by set of metadat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this set we divide into four complex variabl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complex variable consists of elementary variabl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elementary variable consists of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type of variabl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specification of varia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type/specification of a elementary variable consists of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code-ist cod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code of code-list ite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valid fr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Subsystem VARIABLES</a:t>
            </a: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468a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760" y="24382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Complex variables: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statistical variable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- describes the content of a dat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statistical object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- describes observed objec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time variable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- describes the current time of observ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mplementary variable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- describes other identification attributes which do not belong to the above mentioned variabl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Subsytem TASKS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Described objects: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statistical task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structure of a questionn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elements of a questionn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input/out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ut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se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VIP (virtually identified items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time-tabl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program modules and run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response duty specifi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State-of-art in SMS implementation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CLASS, VAR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049400" indent="-216000">
              <a:spcBef>
                <a:spcPts val="60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tests of ver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sion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1.0 finished,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049400" indent="-216000">
              <a:spcBef>
                <a:spcPts val="60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preparation of real code-lists, classifications and statistical variables needed for the pilot tes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049400" indent="-216000">
              <a:spcBef>
                <a:spcPts val="60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tests of version 1.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TASKS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049400" indent="-216000">
              <a:spcBef>
                <a:spcPts val="60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preparation of tes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049400" indent="-216000">
              <a:spcBef>
                <a:spcPts val="60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training of the member of the test tea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4d4d4d"/>
                </a:solidFill>
                <a:latin typeface="Arial"/>
              </a:rPr>
              <a:t>In 2005</a:t>
            </a: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 two new and important project were launched: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Reform of statistical survey system (SSS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Statistical me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information system (SMS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based on the SMS Vis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4d4d4d"/>
                </a:solidFill>
                <a:latin typeface="Arial"/>
              </a:rPr>
              <a:t>In 2006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Reform of the SSS w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s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transformed into Redesign of statistical information syst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SMS became a standard part of the Redesign projec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SMS Management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management in the implementation phase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project approach applied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multi-professional team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permanent monitoring from the top manage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management in the operational run phase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establishment of the SMS administra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SMS management </a:t>
            </a:r>
            <a:br>
              <a:rPr sz="4000"/>
            </a:b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in the implementation phase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1646280"/>
          <a:ext cx="7315200" cy="41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646280"/>
                    <a:ext cx="731520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SMS management </a:t>
            </a:r>
            <a:br>
              <a:rPr sz="4000"/>
            </a:b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in the operational phase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1752480"/>
            <a:ext cx="26668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imes New Roman"/>
              </a:rPr>
              <a:t>SMS Administration</a:t>
            </a:r>
            <a:endParaRPr b="0" lang="en-US" sz="1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514600"/>
            <a:ext cx="129528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Times New Roman"/>
              </a:rPr>
              <a:t>Central Administration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2514600"/>
            <a:ext cx="129528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CLASS Administration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514600"/>
            <a:ext cx="137160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514600"/>
            <a:ext cx="12189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TASKS Administration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2514600"/>
            <a:ext cx="121932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QUALITY Administration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286000"/>
            <a:ext cx="723888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133720"/>
            <a:ext cx="0" cy="15228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28600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228600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228600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228600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228600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3294000"/>
            <a:ext cx="12189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S-Administrator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809880"/>
            <a:ext cx="12193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C-Administrator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294000"/>
            <a:ext cx="121932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336699"/>
                </a:solidFill>
                <a:latin typeface="Times New Roman"/>
              </a:rPr>
              <a:t>SMS -Methodologist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2971800"/>
            <a:ext cx="0" cy="3049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294000"/>
            <a:ext cx="12193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S-Administrator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3294000"/>
            <a:ext cx="12189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S-Administrator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3294000"/>
            <a:ext cx="12193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S-Administrator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809880"/>
            <a:ext cx="12189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C-Administrator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3809880"/>
            <a:ext cx="12189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C-Administrator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3809880"/>
            <a:ext cx="12193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C-Administrator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4343400"/>
            <a:ext cx="12193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S-Methodologist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4343400"/>
            <a:ext cx="12189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S-Methodologist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343400"/>
            <a:ext cx="12189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S-Methodologist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4343400"/>
            <a:ext cx="12193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S-Methodologist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4724280"/>
            <a:ext cx="12189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663300"/>
                </a:solidFill>
                <a:latin typeface="Times New Roman"/>
              </a:rPr>
              <a:t>Technology Administration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53280" y="2286000"/>
            <a:ext cx="0" cy="2438280"/>
          </a:xfrm>
          <a:prstGeom prst="line">
            <a:avLst/>
          </a:prstGeom>
          <a:ln w="936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5410080"/>
            <a:ext cx="12952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663300"/>
                </a:solidFill>
                <a:latin typeface="Times New Roman"/>
              </a:rPr>
              <a:t>T-Administrators</a:t>
            </a:r>
            <a:endParaRPr b="0" lang="en-US" sz="11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518148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2971800"/>
            <a:ext cx="0" cy="3049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3429000"/>
            <a:ext cx="0" cy="3808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11480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358128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2971800"/>
            <a:ext cx="0" cy="3049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411480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2971800"/>
            <a:ext cx="0" cy="3049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2971800"/>
            <a:ext cx="0" cy="3049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358128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411480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876920"/>
            <a:ext cx="35053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-Administrator - subsystem administrator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-Administrator - content administrator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-Administrator - technology administrator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-Methodologist - subsystem methodologist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58128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411480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Major findings</a:t>
            </a: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468a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SMS </a:t>
            </a:r>
            <a:r>
              <a:rPr b="1" lang="en-GB" sz="2800" spc="-1" strike="noStrike">
                <a:solidFill>
                  <a:srgbClr val="4d4d4d"/>
                </a:solidFill>
                <a:latin typeface="Arial"/>
              </a:rPr>
              <a:t>strategy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- content and methodology -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&gt;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fully in the responsibility of the stat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istical 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offic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SMS </a:t>
            </a:r>
            <a:r>
              <a:rPr b="1" lang="en-GB" sz="2800" spc="-1" strike="noStrike">
                <a:solidFill>
                  <a:srgbClr val="4d4d4d"/>
                </a:solidFill>
                <a:latin typeface="Arial"/>
              </a:rPr>
              <a:t>design and implementation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should be organize in multi-professional teams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-&gt; 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increasing of research capacit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d4d"/>
                </a:solidFill>
                <a:latin typeface="Arial"/>
              </a:rPr>
              <a:t>Development of software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applications -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&gt;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may be outsourced (contract based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d4d"/>
                </a:solidFill>
                <a:latin typeface="Arial"/>
              </a:rPr>
              <a:t>Testing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-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&gt;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close cooperation of the project teams and the contractor  (follow-up the time-schedule is necessary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Major findings </a:t>
            </a:r>
            <a:r>
              <a:rPr b="0" lang="en-GB" sz="1600" spc="-1" strike="noStrike">
                <a:solidFill>
                  <a:srgbClr val="00468a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Coordination of time schedules for Redesign project and SMS projec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Motivation of project teams - sharing of knowledge an informa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Monitoring of the activities by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the top management - quarterl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the steering committee - quarterl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the project task force - monthl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project teams - weekl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Major findings </a:t>
            </a:r>
            <a:r>
              <a:rPr b="0" lang="cs-CZ" sz="1600" spc="-1" strike="noStrike">
                <a:solidFill>
                  <a:srgbClr val="00468a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20574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Importance of training and transfer of SMS know-how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cus on the 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subject matter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topics and use of SMS tools in statistical practice is advisabl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468a"/>
                </a:solidFill>
                <a:latin typeface="Arial"/>
              </a:rPr>
              <a:t>Thank you for your attention</a:t>
            </a:r>
            <a:endParaRPr b="0" lang="en-US" sz="2800" spc="-1" strike="noStrike">
              <a:solidFill>
                <a:srgbClr val="0046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Redesign of SIS - major goals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904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289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reducing response burden and boosting respondent motiv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82760" indent="-289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improving quality of statistical inform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82760" indent="-289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optimising production of statistical information in the CZS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82760" indent="-289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designing a conceptual model of Redesigned SIS and of SM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82760" indent="-289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defining a unified architecture of statistical task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82760" indent="-289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increasing users’ comfor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Redesign of SIS - core principles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systematic assessment and evaluation of statistical data require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increasing share of administrative dat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increasing use of data modell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implementation of SM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implementation of statistical data warehous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freeze of statistical surveys for 2-3 year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avoiding redundancy in statistical surveying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Unification of statistical process</a:t>
            </a: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Work on the GAS-SIS opened the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need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for description and standardization of the key process - production and dissemination of statistical informa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We proposed a model of this proces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It consists of 7 main phas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Inside the phases we defined set of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Key process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04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Phases: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Evaluation of users requirement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Definition of statistical task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preparation of data collection and processin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Data processin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Data analysis and output produc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Dissemina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Links to other processes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Supporting processes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Costs controllin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Work efficiency evaluation based on the processing qualit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a"/>
                </a:solidFill>
                <a:latin typeface="Arial"/>
              </a:rPr>
              <a:t>SMS goals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40" y="14479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4d4d4d"/>
                </a:solidFill>
                <a:latin typeface="Arial"/>
              </a:rPr>
              <a:t>principle goal</a:t>
            </a: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 - to support, standardize and describe the key process in statistics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in this context - support of :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management of methodology-related activiti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assessment of statistical data qualit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monitoring of respondent burde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integration of SIS with public administration and international organization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design, implementation and management of statistical task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SMS Architecture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Based on the SMS Vision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Global Architecture of SMS (GA-SMS)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defined the basic principles and rules for design and implementa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set up the IT environ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0:46:38Z</dcterms:created>
  <dc:creator>Pecka</dc:creator>
  <dc:description/>
  <dc:language>en-US</dc:language>
  <cp:lastModifiedBy>Petrikovits</cp:lastModifiedBy>
  <dcterms:modified xsi:type="dcterms:W3CDTF">2008-04-07T09:03:45Z</dcterms:modified>
  <cp:revision>43</cp:revision>
  <dc:subject/>
  <dc:title>Prezentace aplikace PowerPoint</dc:title>
</cp:coreProperties>
</file>