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BCF-3DDA-4720-BC45-62AC285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61B-D62F-4567-ADF6-2DA8E5B8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273-E4F2-4371-A183-A5BD2A64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C4E-4BDE-4CA2-8055-569E5979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74C-D46B-4640-A01E-230E328D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769-F3C2-4786-B8B3-2724032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327-F714-49A1-BDF2-29744EC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A9B-512D-42DE-B2A2-8D78BF2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2D8-7528-4503-BC2D-B2313BC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226-0754-452E-8793-6E2416E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5E9-EF00-4F8C-8C20-6E82C83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B54-D76B-4E86-B3EE-46416AF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3617-D94D-480A-9BC4-E0AFBFC40340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0240" y="1628640"/>
            <a:ext cx="848376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Managing metadata in Statistics 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nne Gro Hustoft (agt@ssb.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Jenny Linnerud (jal@ssb.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32000" y="1000080"/>
            <a:ext cx="73087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Metadata strategy (2005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rategy for managing meta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Linking different metadata systems together in an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ystem, making metadata easily accessible for all us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pdated in one place and used ”everywhe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everal measures aimed at improving management of meta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finition of key metadata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etadata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finition of clear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29400" y="927000"/>
            <a:ext cx="76377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Metadata p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The overall purpose of the metadata portal is to m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atistics Norway's metadata systems more accessibl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The portal helps managers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up the coverage and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contents of the underlying metadata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5760" y="1143000"/>
            <a:ext cx="59533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ctions that promote metadata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aking formal documents (e.g. Metadata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ep-wise development of metadata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ontinuous follow-up of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eleasing metadata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7360" y="1574640"/>
            <a:ext cx="50907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llocating the necess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armonisation of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cluding metadata in the produc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0 additional stat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arch in 6 700 archive fil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ver 80 000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way navigation between variable definitions and archive file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0 additional stat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arch in 6 700 archive fil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ver 80 000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way navigation between variable definitions and archive file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40:30Z</dcterms:created>
  <dc:creator>Anne Gro Hustoft</dc:creator>
  <dc:description/>
  <dc:language>en-US</dc:language>
  <cp:lastModifiedBy>estat-ampere</cp:lastModifiedBy>
  <dcterms:modified xsi:type="dcterms:W3CDTF">2008-04-09T14:57:52Z</dcterms:modified>
  <cp:revision>38</cp:revision>
  <dc:subject/>
  <dc:title>Lysbil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