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FE5-A654-4B7E-A56C-3C6A87AB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BE5E-EE1A-45C3-B5F2-EE00E5AF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215F-2B7D-40C8-9F96-882F0809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6FA-2278-4B9E-8BA7-31C45C65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EBD-81C9-40F6-AD8C-114C0211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890F-E1D4-483B-8445-E4B15C53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A5E9-71FA-43EA-B691-1C8B3EED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9E57-250A-43D2-BE92-3A0A802E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89B-447D-4678-A9BE-C0A123C0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DDB7-E415-4C75-AF9C-1602E5C8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CF1-C4E6-49D7-9F53-A2F71C4E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27C-074B-4306-9761-7094222C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149E-16F6-48D1-B4C0-D09A63411CCD}" type="slidenum">
              <a:rPr b="0" lang="nb-N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0240" y="1628640"/>
            <a:ext cx="848376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Managing metadata in Statistics No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Anne Gro Hustoft (agt@ssb.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Jenny Linnerud (jal@ssb.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32000" y="1000080"/>
            <a:ext cx="7308720" cy="62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Metadata strategy (2005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trategy for managing meta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- Linking different metadata systems together in an integ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ystem, making metadata easily accessible for all use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updated in one place and used ”everywher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everal measures aimed at improving management of meta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Definition of key metadata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Metadata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Definition of clear role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29400" y="927000"/>
            <a:ext cx="763776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Metadata por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- The overall purpose of the metadata portal is to ma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tatistics Norway's metadata systems more accessibl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easier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- The portal helps managers t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 up the coverage and qu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contents of the underlying metadata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7452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05760" y="1143000"/>
            <a:ext cx="595332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Actions that promote metadata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Making formal documents (e.g. Metadata strate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tep-wise development of metadata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Continuous follow-up of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Releasing metadata on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840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97360" y="1574640"/>
            <a:ext cx="509076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Allocating the necessar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Harmonisation of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Including metadata in the production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20 additional status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earch in 6 700 archive file 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over 80 000 code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2 way navigation between variable definitions and archive file descri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20 additional status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earch in 6 700 archive file 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over 80 000 code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2 way navigation between variable definitions and archive file descri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40:30Z</dcterms:created>
  <dc:creator>Anne Gro Hustoft</dc:creator>
  <dc:description/>
  <dc:language>en-US</dc:language>
  <cp:lastModifiedBy>estat-ampere</cp:lastModifiedBy>
  <dcterms:modified xsi:type="dcterms:W3CDTF">2008-04-09T14:57:52Z</dcterms:modified>
  <cp:revision>38</cp:revision>
  <dc:subject/>
  <dc:title>Lysbil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