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5099-8B81-4115-84C6-277E491282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DEB3-1FA0-4645-A2E8-0020EB50F0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2104-AFB8-4DB2-B0EF-9E524FA74F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F56A-52CA-4A75-A78F-910C580CA5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31F0-30B9-4639-9D8B-62A2CD23EC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99AA-D5CE-4BC3-8A79-C4BEC60118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F1D4-8CC5-4899-810F-5157EC3995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16F1-8C38-4E11-83F7-94899D0D9D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2B5E-821F-4048-B452-D1CDB2E2B5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FBC3-18E2-41EB-AEB5-8CFA97B2BB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75E1-44CA-4EDE-B5F7-453C7CE0E6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9F5D-D4BB-4D19-8969-9EED8E28F6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5053-8E65-4787-8750-6FFA3E5D57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523A-1575-4D59-9520-EF4F477D22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2B04-4CE8-4076-B477-CB855187CD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E40B-20F1-42AA-8772-D3EF9D6A29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5534-8BB3-41B6-8236-352FDDF93F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5B6E-1CC1-4852-B241-8555B30564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E154-4BDB-4602-A38A-F3BDA41C61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B94-DDEA-4AC6-9C39-B8026AA4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A86-5BF2-424B-A04E-5E4A2728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369-F04B-44C5-A78F-3465D4B6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9BF-3FEA-4560-AA9F-692F388E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6AD-A0CD-443B-A3DA-AACC22A1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AE0-BDB3-43AD-9DAC-EB7E729C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906-3D2A-4095-8120-318E917F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1CB-F882-4C2A-A727-AD80382E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E80-3679-4B73-9B5E-9752AFE5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3D9-106D-4807-A147-031566C9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B0F-4D33-45C4-935E-D027060E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9C0-4098-4C1A-8604-4296BFEF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11/04/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STRATEGY FOR THE DEVELOPMENT OF A METADATA DRIVEN STATISTICAL INFORMATION SYSTEM IN CYSTAT METIS 2008 ,LI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3B0C-5E54-46D9-9E40-86D8A6A47B4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itle 1"/>
          <p:cNvGrpSpPr/>
          <p:nvPr/>
        </p:nvGrpSpPr>
        <p:grpSpPr>
          <a:xfrm>
            <a:off x="480960" y="1463760"/>
            <a:ext cx="8302680" cy="1577880"/>
            <a:chOff x="480960" y="1463760"/>
            <a:chExt cx="8302680" cy="1577880"/>
          </a:xfrm>
        </p:grpSpPr>
        <p:pic>
          <p:nvPicPr>
            <p:cNvPr id="49" name="Title 1" descr=""/>
            <p:cNvPicPr/>
            <p:nvPr/>
          </p:nvPicPr>
          <p:blipFill>
            <a:blip r:embed="rId1"/>
            <a:stretch/>
          </p:blipFill>
          <p:spPr>
            <a:xfrm>
              <a:off x="480960" y="1463760"/>
              <a:ext cx="830268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71680" y="1500120"/>
              <a:ext cx="805788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ffff00"/>
                  </a:solidFill>
                  <a:latin typeface="Calibri"/>
                </a:rPr>
                <a:t>STRATEGY FOR THE DEVELOPMENT OF A NEW INTEGRATED METADATA DRIVEN STATISTICAL INFORMATION SYSTEM </a:t>
              </a:r>
              <a:br>
                <a:rPr sz="2500"/>
              </a:br>
              <a:r>
                <a:rPr b="1" lang="en-GB" sz="2500" spc="-1" strike="noStrike">
                  <a:solidFill>
                    <a:srgbClr val="ffff00"/>
                  </a:solidFill>
                  <a:latin typeface="Calibri"/>
                </a:rPr>
                <a:t>IN THE STATISTICAL SERVICE OF CYPRUS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28840" y="371448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alibri"/>
              </a:rPr>
              <a:t>Costas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alibri"/>
              </a:rPr>
              <a:t>K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. </a:t>
            </a:r>
            <a:r>
              <a:rPr b="0" lang="en-GB" sz="2400" spc="-1" strike="noStrike">
                <a:solidFill>
                  <a:srgbClr val="ffff00"/>
                </a:solidFill>
                <a:latin typeface="Calibri"/>
              </a:rPr>
              <a:t>Diamant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alibri"/>
              </a:rPr>
              <a:t>Statistical Service of Cyp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ubtitle 2"/>
          <p:cNvSpPr/>
          <p:nvPr/>
        </p:nvSpPr>
        <p:spPr>
          <a:xfrm>
            <a:off x="1285920" y="54291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alibri"/>
              </a:rPr>
              <a:t>METIS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alibri"/>
              </a:rPr>
              <a:t>Luxembourg, 09-11/04/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CG101"/>
          <p:cNvPicPr/>
          <p:nvPr/>
        </p:nvPicPr>
        <p:blipFill>
          <a:blip r:embed="rId2"/>
          <a:stretch/>
        </p:blipFill>
        <p:spPr>
          <a:xfrm>
            <a:off x="7383600" y="428760"/>
            <a:ext cx="12571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19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YSTAT – ISIS MAIN COMPONENTS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2/6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90D3-8616-45BA-964C-25CC30889C3E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24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428760" y="1285920"/>
            <a:ext cx="828648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i. </a:t>
            </a: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Content and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entral monitoring of statistical methodology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27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YSTAT – ISIS MAIN COMPONENTS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3/6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7956-7913-4128-AE2A-33B9888AC6EC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428760" y="1285920"/>
            <a:ext cx="8286480" cy="375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ii. Statistical Metainformation System (SMS) </a:t>
            </a:r>
            <a:r>
              <a:rPr b="0" lang="en-GB" sz="1600" spc="-1" strike="noStrike">
                <a:solidFill>
                  <a:srgbClr val="c00000"/>
                </a:solidFill>
                <a:latin typeface="Comic Sans MS"/>
              </a:rPr>
              <a:t>(1/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ore part of CYSTAT-I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SMS will ensure a systematic use of metainformation in CYSTAT and drive statistical production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ontent methodological 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35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YSTAT – ISIS MAIN COMPONENTS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4/6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3A76-C25D-40C2-A26B-7261ED904AE9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40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428760" y="1285920"/>
            <a:ext cx="8286480" cy="4667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SMS Functions </a:t>
            </a:r>
            <a:r>
              <a:rPr b="0" lang="en-GB" sz="1600" spc="-1" strike="noStrike">
                <a:solidFill>
                  <a:srgbClr val="c00000"/>
                </a:solidFill>
                <a:latin typeface="Comic Sans MS"/>
              </a:rPr>
              <a:t>(2/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Quality eval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Statistical information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Integration of CYSTAT-ISIS with other government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Integration of CYSTAT-ISIS with the information systems of international organis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Unification and standard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Management of statistical data processing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43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YSTAT – ISIS MAIN COMPONENTS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5/6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1858-3F7C-4689-8D58-EECF23D4DC24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48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28760" y="1285920"/>
            <a:ext cx="8286480" cy="25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iii. Unified production processes and upgraded disse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Data wareho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Unification and standardization of application softwa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Improvement of dissemination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51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YSTAT – ISIS MAIN COMPONENTS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6/6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1FC3-B58F-410A-AAC7-AB9F4FCE80F2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" descr="DATA PROCESSING OPTION 1 060207"/>
          <p:cNvPicPr/>
          <p:nvPr/>
        </p:nvPicPr>
        <p:blipFill>
          <a:blip r:embed="rId3"/>
          <a:stretch/>
        </p:blipFill>
        <p:spPr>
          <a:xfrm>
            <a:off x="1785960" y="1143000"/>
            <a:ext cx="557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59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PLANS, MANAGEMENT AND ORGANIZATION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1/2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C7AE-FA78-4018-A09A-FED505FD864B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64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8760" y="1357200"/>
            <a:ext cx="8286480" cy="31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Implement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Phase 0: Preparatory (2008 – 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Phase 1: Analysis and Design (2010 – 20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Phase 2: Development                                     4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                                                  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(2011 – 20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Phase 3: Mi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ight Brace 7"/>
          <p:cNvSpPr/>
          <p:nvPr/>
        </p:nvSpPr>
        <p:spPr>
          <a:xfrm>
            <a:off x="4143240" y="3214800"/>
            <a:ext cx="71640" cy="785880"/>
          </a:xfrm>
          <a:custGeom>
            <a:avLst/>
            <a:gdLst>
              <a:gd name="textAreaLeft" fmla="*/ 0 w 71640"/>
              <a:gd name="textAreaRight" fmla="*/ 25920 w 71640"/>
              <a:gd name="textAreaTop" fmla="*/ 1800 h 785880"/>
              <a:gd name="textAreaBottom" fmla="*/ 7840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ight Brace 9"/>
          <p:cNvSpPr/>
          <p:nvPr/>
        </p:nvSpPr>
        <p:spPr>
          <a:xfrm>
            <a:off x="6572160" y="2571840"/>
            <a:ext cx="46080" cy="1357200"/>
          </a:xfrm>
          <a:custGeom>
            <a:avLst/>
            <a:gdLst>
              <a:gd name="textAreaLeft" fmla="*/ 0 w 46080"/>
              <a:gd name="textAreaRight" fmla="*/ 16560 w 46080"/>
              <a:gd name="textAreaTop" fmla="*/ 1080 h 1357200"/>
              <a:gd name="textAreaBottom" fmla="*/ 135612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"/>
                  <a:pt x="10800" y="61"/>
                </a:cubicBezTo>
                <a:lnTo>
                  <a:pt x="10800" y="10739"/>
                </a:lnTo>
                <a:cubicBezTo>
                  <a:pt x="10800" y="10770"/>
                  <a:pt x="16200" y="10800"/>
                  <a:pt x="21600" y="10800"/>
                </a:cubicBezTo>
                <a:cubicBezTo>
                  <a:pt x="16200" y="10800"/>
                  <a:pt x="10800" y="10831"/>
                  <a:pt x="10800" y="10861"/>
                </a:cubicBezTo>
                <a:lnTo>
                  <a:pt x="10800" y="21539"/>
                </a:lnTo>
                <a:cubicBezTo>
                  <a:pt x="10800" y="215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69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PLANS, MANAGEMENT AND ORGANIZATION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2/2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C361-F2BB-4D94-9805-3BE740CE2063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74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428760" y="1357200"/>
            <a:ext cx="8286480" cy="25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Management and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entral monitoring of content oriented methodologica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Management of SMS development and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New role of IT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77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YSTAT – ISIS EXPECTED BENEFI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5771-D840-413A-BCE4-4D134825F6EE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82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428760" y="1285920"/>
            <a:ext cx="8286480" cy="405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Modern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Statistical Meta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Improved service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Increased quality of statistical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Easier access to data and meta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Broader use of administrative sources, reduction of respondents’ bur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85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CONCLUSION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06CB-5686-4A9B-B2BB-D00FEFE3C0A1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90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428760" y="1285920"/>
            <a:ext cx="8286480" cy="222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Full support of the top manag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ooperation with other government departments and N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No cost benefit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Big ba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55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TOPIC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8612-26FE-44C2-8171-0D642B60900C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60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428760" y="1285920"/>
            <a:ext cx="8286480" cy="4667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ABOUT CYST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STRATEGIC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URRENT SITUATION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 (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s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tatistical production,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m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etada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YSTAT – ISIS MAIN COMPON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YSTAT – ISIS PLAN, MANAGEMENT, ORGAN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YSTAT – ISIS EXPECTED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63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ABOUT CYSTA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BFE6-8750-4FB4-931F-13FC075AF1C4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68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428760" y="1285920"/>
            <a:ext cx="8286480" cy="4332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Role: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CYSTAT is the competent authority responsible for the compilation and dissemination of most of the official statistical data in Cypru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Staff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: 145 permanent + casual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Organisational structure: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8 main Divisions and 4 supporting S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Location: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Main offices in Lefkosia and small offices in all othe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49e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71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BACKGROUND 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1 / 2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D0A5-A8CB-40C8-BA45-B87F1BD1F2BE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76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428760" y="1285920"/>
            <a:ext cx="8286480" cy="266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Factors influencing the request for more data and metada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3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3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Increased demand for data and metadata by EU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3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3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Increased usage of official statistics by several groups of users like journalists, students and enterpri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3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3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Easy access to statistics offered by the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79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BACKGROUND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 2 / 2 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61B6-AD5A-4442-855B-340410383CBD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428760" y="1285920"/>
            <a:ext cx="8286480" cy="31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2004: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Specification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 of the vision and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2005: 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Public ten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2006: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 Start of the project for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t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he strateg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ic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2007 :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 Completion of th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2008: 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Approval of the strateg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87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STRATEGIC STUD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7094-40B1-4110-A2F1-F95BB56BBCA2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92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428760" y="1285920"/>
            <a:ext cx="8286480" cy="48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Analysis of the current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D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escri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ption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 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of 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the proposed integrated statistical information syst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D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escri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ption of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 the technical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S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pecif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ication of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 requirements for human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D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evelop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ment of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 a management strategy and organization for the CYSTAT – I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E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stimat</a:t>
            </a:r>
            <a:r>
              <a:rPr b="0" lang="el-GR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ion of</a:t>
            </a:r>
            <a:r>
              <a:rPr b="0" lang="en-GB" sz="2000" spc="-1" strike="noStrike">
                <a:solidFill>
                  <a:srgbClr val="00349e"/>
                </a:solidFill>
                <a:latin typeface="Comic Sans MS"/>
                <a:ea typeface="Arial"/>
              </a:rPr>
              <a:t>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95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URRENT SITUATION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 1 / 2 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8E76-427B-4CAB-96DF-D6B2946F33CF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00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28760" y="1285920"/>
            <a:ext cx="8286480" cy="463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Statistical produ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Not efficient technical infrastruc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Decentralised statistical p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Diverse 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Statisticians spend significant amount of time for technical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The website needs upgra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Limited use of administrative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49e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03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URRENT SITUATION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 2 / 2 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0FBE-23DB-4CBE-A391-8A5D37935874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08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428760" y="1285920"/>
            <a:ext cx="8286480" cy="4332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00000"/>
                </a:solidFill>
                <a:latin typeface="Comic Sans MS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No unified and/or formalised metadata system ex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Lack of methodological coordination in meta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49e"/>
                </a:solidFill>
                <a:latin typeface="Comic Sans MS"/>
              </a:rPr>
              <a:t>Statistical classifications are maintained in Divi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Limited central evidence on sampling meth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No coherent statistical metainformation syst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49e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Title 1"/>
          <p:cNvGrpSpPr/>
          <p:nvPr/>
        </p:nvGrpSpPr>
        <p:grpSpPr>
          <a:xfrm>
            <a:off x="396720" y="237960"/>
            <a:ext cx="8345520" cy="974880"/>
            <a:chOff x="396720" y="237960"/>
            <a:chExt cx="8345520" cy="974880"/>
          </a:xfrm>
        </p:grpSpPr>
        <p:pic>
          <p:nvPicPr>
            <p:cNvPr id="111" name="Title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ffff00"/>
                  </a:solidFill>
                  <a:latin typeface="Calibri"/>
                </a:rPr>
                <a:t>CYSTAT – ISIS MAIN COMPONENTS</a:t>
              </a:r>
              <a:r>
                <a:rPr b="1" lang="en-GB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ffff00"/>
                  </a:solidFill>
                  <a:latin typeface="Calibri"/>
                </a:rPr>
                <a:t>(1/6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Footer Placeholder 2"/>
          <p:cNvSpPr/>
          <p:nvPr/>
        </p:nvSpPr>
        <p:spPr>
          <a:xfrm>
            <a:off x="2071800" y="6143760"/>
            <a:ext cx="514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RATEGY FOR THE DEVELOPMENT OF A NEW INTEGRATED METADATA DRIV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STATISTICAL INFORMATION SYSTEM IN CYS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Calibri"/>
              </a:rPr>
              <a:t>METIS 2008 ,LUXEMBOURG 9-11/04/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388360" y="6273720"/>
            <a:ext cx="50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99EB-BED4-437F-9038-C838C51FEC4B}" type="slidenum">
              <a:rPr b="0" lang="en-GB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CG101"/>
          <p:cNvPicPr/>
          <p:nvPr/>
        </p:nvPicPr>
        <p:blipFill>
          <a:blip r:embed="rId2"/>
          <a:stretch/>
        </p:blipFill>
        <p:spPr>
          <a:xfrm>
            <a:off x="0" y="6089760"/>
            <a:ext cx="1257480" cy="723960"/>
          </a:xfrm>
          <a:prstGeom prst="rect">
            <a:avLst/>
          </a:prstGeom>
          <a:ln w="0">
            <a:noFill/>
          </a:ln>
        </p:spPr>
      </p:pic>
      <p:sp>
        <p:nvSpPr>
          <p:cNvPr id="116" name="Straight Connector 8"/>
          <p:cNvSpPr/>
          <p:nvPr/>
        </p:nvSpPr>
        <p:spPr>
          <a:xfrm>
            <a:off x="0" y="6072120"/>
            <a:ext cx="914400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428760" y="1285920"/>
            <a:ext cx="8286480" cy="25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Content and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Statistical meta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4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49e"/>
                </a:solidFill>
                <a:latin typeface="Comic Sans MS"/>
              </a:rPr>
              <a:t>Unified statistical production process and upgraded disse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5:19:48Z</dcterms:created>
  <dc:creator>Costas Diamantides</dc:creator>
  <dc:description/>
  <dc:language>en-US</dc:language>
  <cp:lastModifiedBy>Marco</cp:lastModifiedBy>
  <dcterms:modified xsi:type="dcterms:W3CDTF">2008-04-06T19:17:08Z</dcterms:modified>
  <cp:revision>169</cp:revision>
  <dc:subject/>
  <dc:title>THIS IS A TEST</dc:title>
</cp:coreProperties>
</file>