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4094-97CC-4AAE-8D78-EEE82C9F8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745E-3C04-4A0E-9E71-607DE924F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151D-6DCE-42CE-B2A1-30F2D8BEA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9996-9C6A-4F5F-ABB2-C51A08EF7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E848-AF58-4405-9B9D-875DD705F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D92F-8BDA-46BD-99C6-6A2DD8748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23F8-012E-4752-8F2B-AFF28A5D7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B92D-9A8E-4A0F-B39E-88A044F7F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CAF1-8311-4C90-B1AC-4B25D74C5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86D3-E4F3-446B-9C9C-37D6C2A81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A6A4-0285-4396-9A84-BD7710C0B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B157-2EC0-49A6-8B10-5F8333E0A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0"/>
            <a:ext cx="9171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669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spcAft>
                <a:spcPts val="55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spcAft>
                <a:spcPts val="550"/>
              </a:spcAft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8ECF-7E10-42CB-AE1F-B1D09AFA16A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0920" y="6308280"/>
            <a:ext cx="4897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int UNECE/Eurostat/OECD METIS work session on statistical metadata, 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9280" y="5556960"/>
            <a:ext cx="1828800" cy="1302120"/>
            <a:chOff x="179280" y="5556960"/>
            <a:chExt cx="1828800" cy="1302120"/>
          </a:xfrm>
        </p:grpSpPr>
        <p:sp>
          <p:nvSpPr>
            <p:cNvPr id="6" name=""/>
            <p:cNvSpPr/>
            <p:nvPr/>
          </p:nvSpPr>
          <p:spPr>
            <a:xfrm>
              <a:off x="179280" y="6338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>
              <a:lum bright="66000"/>
            </a:blip>
            <a:stretch/>
          </p:blipFill>
          <p:spPr>
            <a:xfrm flipH="1">
              <a:off x="636120" y="555696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5440" cy="415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916452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66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0920" y="5373000"/>
            <a:ext cx="1828800" cy="1302120"/>
            <a:chOff x="250920" y="5373000"/>
            <a:chExt cx="1828800" cy="1302120"/>
          </a:xfrm>
        </p:grpSpPr>
        <p:sp>
          <p:nvSpPr>
            <p:cNvPr id="48" name=""/>
            <p:cNvSpPr/>
            <p:nvPr/>
          </p:nvSpPr>
          <p:spPr>
            <a:xfrm>
              <a:off x="250920" y="61545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>
              <a:lum bright="66000"/>
            </a:blip>
            <a:stretch/>
          </p:blipFill>
          <p:spPr>
            <a:xfrm flipH="1">
              <a:off x="707760" y="537300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92360" y="6021360"/>
            <a:ext cx="165924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spcAft>
                <a:spcPts val="451"/>
              </a:spcAft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spcAft>
                <a:spcPts val="451"/>
              </a:spcAft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836640"/>
            <a:ext cx="8686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ETIS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55669f"/>
                </a:solidFill>
                <a:latin typeface="Arial"/>
              </a:rPr>
              <a:t>Pre-work session survey of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0"/>
            <a:ext cx="2664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ain challenges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1301"/>
              </a:spcBef>
              <a:spcAft>
                <a:spcPts val="1301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Lack of resources </a:t>
            </a:r>
            <a:r>
              <a:rPr b="0" lang="en-GB" sz="2600" spc="-1" strike="noStrike">
                <a:solidFill>
                  <a:srgbClr val="0f3277"/>
                </a:solidFill>
                <a:latin typeface="Arial"/>
              </a:rPr>
              <a:t>(77%)</a:t>
            </a: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301"/>
              </a:spcBef>
              <a:spcAft>
                <a:spcPts val="1301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Getting subject-matter statisticians support / buy-in </a:t>
            </a:r>
            <a:r>
              <a:rPr b="0" lang="en-GB" sz="2600" spc="-1" strike="noStrike">
                <a:solidFill>
                  <a:srgbClr val="0f3277"/>
                </a:solidFill>
                <a:latin typeface="Arial"/>
              </a:rPr>
              <a:t>(74%)</a:t>
            </a: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451"/>
              </a:spcBef>
              <a:spcAft>
                <a:spcPts val="1451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f3277"/>
                </a:solidFill>
                <a:latin typeface="Arial"/>
              </a:rPr>
              <a:t>Implementing standards </a:t>
            </a:r>
            <a:r>
              <a:rPr b="0" lang="en-GB" sz="2900" spc="-1" strike="noStrike">
                <a:solidFill>
                  <a:srgbClr val="0f3277"/>
                </a:solidFill>
                <a:latin typeface="Arial"/>
              </a:rPr>
              <a:t>(69%)</a:t>
            </a:r>
            <a:endParaRPr b="0" lang="en-US" sz="29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301"/>
              </a:spcBef>
              <a:spcAft>
                <a:spcPts val="1301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Employing and retaining people with the right IT skills </a:t>
            </a:r>
            <a:r>
              <a:rPr b="0" lang="en-GB" sz="2600" spc="-1" strike="noStrike">
                <a:solidFill>
                  <a:srgbClr val="0f3277"/>
                </a:solidFill>
                <a:latin typeface="Arial"/>
              </a:rPr>
              <a:t>(69%)</a:t>
            </a: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5879-9917-447E-BFA3-D687892F5D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89080" y="115920"/>
          <a:ext cx="8604000" cy="6452640"/>
        </p:xfrm>
        <a:graphic>
          <a:graphicData uri="http://schemas.openxmlformats.org/drawingml/2006/table">
            <a:tbl>
              <a:tblPr/>
              <a:tblGrid>
                <a:gridCol w="6915960"/>
                <a:gridCol w="1688040"/>
              </a:tblGrid>
              <a:tr h="155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allen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hange compared to 2007 surv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Getting top management support/buy-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Metadata qualit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Implementing standar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dopting or developing an end-to-end process mod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mploying and retaining people with the right IT skil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Getting subject-matter statisticians support/buy-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8A13-C541-4858-BC01-BB09C74DB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etadata categories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Structural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Definitional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Methodological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Quality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Referential….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is issue will be discussed further as part of Bo Sundgren’s presentation (WP.7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C564-8EDE-42F1-8DE5-B4AB69C22C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How useful is the 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ommon Metadata Framework?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47% - extremely or very useful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35% - useful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18 % - partly or not useful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Encourage feedback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Discussions, future work and evaluation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AAAB-458F-4DFE-8F8C-41EA5EE39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What is needed to help address the challenges?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1063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How can the CMF be more useful?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Have we learnt something of value from this information?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Should we continue to gather it in the future?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Other comments or suggestions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AD27-ED4E-4413-8F77-B2138F11AD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f3277"/>
                </a:solidFill>
                <a:latin typeface="Arial"/>
              </a:rPr>
              <a:t>Thank you</a:t>
            </a:r>
            <a:endParaRPr b="0" lang="en-US" sz="46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5B0A-1786-4CFC-B047-FCCA27650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About the questionnaire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Aim to collect information on existing practices and issues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Developed by METIS Steering Group based on 2007 questionnaire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Sent to METIS participants &amp; mailing list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Responses from 35 statistical offices </a:t>
            </a:r>
            <a:br>
              <a:rPr sz="3100"/>
            </a:b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(~80% of participants at METIS 2008)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E486-35F6-4C64-8399-EF22D855B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etadata strategy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95928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Most have either a </a:t>
            </a:r>
            <a:br>
              <a:rPr sz="3100"/>
            </a:b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corporate metadata strategy or </a:t>
            </a:r>
            <a:br>
              <a:rPr sz="3100"/>
            </a:b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independent systems</a:t>
            </a:r>
            <a:br>
              <a:rPr sz="3100"/>
            </a:b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20% have both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27640" y="2997360"/>
            <a:ext cx="4273560" cy="323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1BC0-5094-49C9-9B52-5E08C9A33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Phase of implementation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Provide an overall picture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Enable countries/organizations to identify others at the same phase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6000" y="4149720"/>
            <a:ext cx="8748720" cy="13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AED0-97B2-4B37-A2EF-96AB2EBFB3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669f"/>
                </a:solidFill>
                <a:latin typeface="Arial"/>
              </a:rPr>
              <a:t>Metadata systems are covering each phase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4325" t="0" r="1963" b="3675"/>
          <a:stretch/>
        </p:blipFill>
        <p:spPr>
          <a:xfrm>
            <a:off x="0" y="1389240"/>
            <a:ext cx="9144000" cy="527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C4C4-05A6-4DBF-9896-5D112823E1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Standards: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urrent use, compared to 2007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700280"/>
          <a:ext cx="7772400" cy="4052880"/>
        </p:xfrm>
        <a:graphic>
          <a:graphicData uri="http://schemas.openxmlformats.org/drawingml/2006/table">
            <a:tbl>
              <a:tblPr/>
              <a:tblGrid>
                <a:gridCol w="4294080"/>
                <a:gridCol w="1739880"/>
                <a:gridCol w="1738440"/>
              </a:tblGrid>
              <a:tr h="106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ly in 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 sinc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onic Data Interch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DI) or UN/EDI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ensible Business Repor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 (XBR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stical Data and Metadata Ex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DMX) ISO 17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C9B5-CD49-4EF8-B09F-B2FE090B07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Standards: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urrent use, compared to 2007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700280"/>
          <a:ext cx="7772400" cy="4730760"/>
        </p:xfrm>
        <a:graphic>
          <a:graphicData uri="http://schemas.openxmlformats.org/drawingml/2006/table">
            <a:tbl>
              <a:tblPr/>
              <a:tblGrid>
                <a:gridCol w="4294080"/>
                <a:gridCol w="1738440"/>
                <a:gridCol w="1739880"/>
              </a:tblGrid>
              <a:tr h="90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ly in 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change sinc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S Metadata Standard ISO 19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on Warehouse Metamodel (CW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data Registry Standard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/IEC 1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Description Framework (RDF) or Web Ontology Language (OW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blin 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Documentation Initiative (DD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90FE-AA44-4040-AD4F-D3835F50F4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Standards being considered,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ompared to 2007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773360"/>
          <a:ext cx="7772400" cy="4176720"/>
        </p:xfrm>
        <a:graphic>
          <a:graphicData uri="http://schemas.openxmlformats.org/drawingml/2006/table">
            <a:tbl>
              <a:tblPr/>
              <a:tblGrid>
                <a:gridCol w="4363920"/>
                <a:gridCol w="1639800"/>
                <a:gridCol w="1768680"/>
              </a:tblGrid>
              <a:tr h="12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change sinc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blin 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stical Data and Metadata Exch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DMX) ISO 17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Description Framework (RD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 Web Ontology Language (OW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378B-2BC1-496A-8EC8-82BA073BE5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Standards being considered,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ompared to 2007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1773360"/>
          <a:ext cx="7772400" cy="4700160"/>
        </p:xfrm>
        <a:graphic>
          <a:graphicData uri="http://schemas.openxmlformats.org/drawingml/2006/table">
            <a:tbl>
              <a:tblPr/>
              <a:tblGrid>
                <a:gridCol w="4364280"/>
                <a:gridCol w="1638720"/>
                <a:gridCol w="1769400"/>
              </a:tblGrid>
              <a:tr h="67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change sinc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on Warehouse Metamodel (CW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onic Data Interchange (ED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 UN/EDI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ensible Business Reporting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BR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S Metadata Standard ISO 19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data Registry Standar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/IEC 1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Documentation Initiative (DD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8D17-F56D-44C9-8F39-ABBA6B1C9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dner</cp:lastModifiedBy>
  <dcterms:modified xsi:type="dcterms:W3CDTF">2008-04-14T16:15:07Z</dcterms:modified>
  <cp:revision>64</cp:revision>
  <dc:subject/>
  <dc:title>Training course   Statistical metadata: concepts and systems </dc:title>
</cp:coreProperties>
</file>