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5D070-A623-41A0-A4E4-22A1C70FC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868200"/>
            <a:ext cx="77724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0F37-815A-4F3A-BA21-7BDC7CF2B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68236-F02D-432F-9E9C-3677B27B4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41264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41264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86820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386820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386820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5B22-50E6-4746-8B9E-EE8501258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360" y="69192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80373-DD9D-4C5E-B1C2-2D8364590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868200"/>
            <a:ext cx="77724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868200"/>
            <a:ext cx="77724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41264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41264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86820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386820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386820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F5E23-691D-44A2-A447-309D9528C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455B-99C4-42EB-AA82-380A23525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373F6-FBAD-4DC7-ABD8-F031E8A65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69192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6BF1-88BC-4C99-AA07-77289F822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ACBC-3A45-4904-BEEF-AE52FAF98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DA88-1352-492B-8843-2A3BD1BC9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868200"/>
            <a:ext cx="77724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264CE-65F1-4A95-8A69-2F3117A8A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0"/>
            <a:ext cx="9171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669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spcAft>
                <a:spcPts val="550"/>
              </a:spcAft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28600">
              <a:spcBef>
                <a:spcPts val="550"/>
              </a:spcBef>
              <a:spcAft>
                <a:spcPts val="55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spcBef>
                <a:spcPts val="550"/>
              </a:spcBef>
              <a:spcAft>
                <a:spcPts val="550"/>
              </a:spcAft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187D-ED8A-4DAD-A93D-A176984BEF15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0920" y="6308280"/>
            <a:ext cx="4897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int UNECE/Eurostat/OECD METIS work session on statistical metadata, Luxembourg, 9 to 11 April 200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9280" y="5556960"/>
            <a:ext cx="1828800" cy="1302120"/>
            <a:chOff x="179280" y="5556960"/>
            <a:chExt cx="1828800" cy="1302120"/>
          </a:xfrm>
        </p:grpSpPr>
        <p:sp>
          <p:nvSpPr>
            <p:cNvPr id="6" name=""/>
            <p:cNvSpPr/>
            <p:nvPr/>
          </p:nvSpPr>
          <p:spPr>
            <a:xfrm>
              <a:off x="179280" y="63385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UNE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3">
              <a:lum bright="66000"/>
            </a:blip>
            <a:stretch/>
          </p:blipFill>
          <p:spPr>
            <a:xfrm flipH="1">
              <a:off x="636120" y="5556960"/>
              <a:ext cx="990360" cy="8506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9145440" cy="4152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-19080"/>
            <a:ext cx="916452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66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5669f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50920" y="5373000"/>
            <a:ext cx="1828800" cy="1302120"/>
            <a:chOff x="250920" y="5373000"/>
            <a:chExt cx="1828800" cy="1302120"/>
          </a:xfrm>
        </p:grpSpPr>
        <p:sp>
          <p:nvSpPr>
            <p:cNvPr id="48" name=""/>
            <p:cNvSpPr/>
            <p:nvPr/>
          </p:nvSpPr>
          <p:spPr>
            <a:xfrm>
              <a:off x="250920" y="615456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UNE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4">
              <a:lum bright="66000"/>
            </a:blip>
            <a:stretch/>
          </p:blipFill>
          <p:spPr>
            <a:xfrm flipH="1">
              <a:off x="707760" y="5373000"/>
              <a:ext cx="990360" cy="85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492360" y="6021360"/>
            <a:ext cx="165924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f327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spcAft>
                <a:spcPts val="451"/>
              </a:spcAft>
              <a:buClr>
                <a:srgbClr val="46484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spcAft>
                <a:spcPts val="451"/>
              </a:spcAft>
              <a:buClr>
                <a:srgbClr val="464847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9280" y="836640"/>
            <a:ext cx="8686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669f"/>
                </a:solidFill>
                <a:latin typeface="Arial"/>
              </a:rPr>
              <a:t>METIS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55669f"/>
                </a:solidFill>
                <a:latin typeface="Arial"/>
              </a:rPr>
              <a:t>Pre-work session survey of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0"/>
            <a:ext cx="2664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669f"/>
                </a:solidFill>
                <a:latin typeface="Arial"/>
              </a:rPr>
              <a:t>Main challenges</a:t>
            </a:r>
            <a:endParaRPr b="1" lang="en-US" sz="36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90000"/>
              </a:lnSpc>
              <a:spcBef>
                <a:spcPts val="1301"/>
              </a:spcBef>
              <a:spcAft>
                <a:spcPts val="1301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f3277"/>
                </a:solidFill>
                <a:latin typeface="Arial"/>
              </a:rPr>
              <a:t>Lack of resources </a:t>
            </a:r>
            <a:r>
              <a:rPr b="0" lang="en-GB" sz="2600" spc="-1" strike="noStrike">
                <a:solidFill>
                  <a:srgbClr val="0f3277"/>
                </a:solidFill>
                <a:latin typeface="Arial"/>
              </a:rPr>
              <a:t>(77%)</a:t>
            </a:r>
            <a:endParaRPr b="0" lang="en-US" sz="26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1301"/>
              </a:spcBef>
              <a:spcAft>
                <a:spcPts val="1301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f3277"/>
                </a:solidFill>
                <a:latin typeface="Arial"/>
              </a:rPr>
              <a:t>Getting subject-matter statisticians support / buy-in </a:t>
            </a:r>
            <a:r>
              <a:rPr b="0" lang="en-GB" sz="2600" spc="-1" strike="noStrike">
                <a:solidFill>
                  <a:srgbClr val="0f3277"/>
                </a:solidFill>
                <a:latin typeface="Arial"/>
              </a:rPr>
              <a:t>(74%)</a:t>
            </a:r>
            <a:endParaRPr b="0" lang="en-US" sz="26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1451"/>
              </a:spcBef>
              <a:spcAft>
                <a:spcPts val="1451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f3277"/>
                </a:solidFill>
                <a:latin typeface="Arial"/>
              </a:rPr>
              <a:t>Implementing standards </a:t>
            </a:r>
            <a:r>
              <a:rPr b="0" lang="en-GB" sz="2900" spc="-1" strike="noStrike">
                <a:solidFill>
                  <a:srgbClr val="0f3277"/>
                </a:solidFill>
                <a:latin typeface="Arial"/>
              </a:rPr>
              <a:t>(69%)</a:t>
            </a:r>
            <a:endParaRPr b="0" lang="en-US" sz="29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1301"/>
              </a:spcBef>
              <a:spcAft>
                <a:spcPts val="1301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f3277"/>
                </a:solidFill>
                <a:latin typeface="Arial"/>
              </a:rPr>
              <a:t>Employing and retaining people with the right IT skills </a:t>
            </a:r>
            <a:r>
              <a:rPr b="0" lang="en-GB" sz="2600" spc="-1" strike="noStrike">
                <a:solidFill>
                  <a:srgbClr val="0f3277"/>
                </a:solidFill>
                <a:latin typeface="Arial"/>
              </a:rPr>
              <a:t>(69%)</a:t>
            </a:r>
            <a:endParaRPr b="0" lang="en-US" sz="26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B4D3-0A4C-4F39-8A20-74FCF39E9A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289080" y="115920"/>
          <a:ext cx="8604000" cy="6452640"/>
        </p:xfrm>
        <a:graphic>
          <a:graphicData uri="http://schemas.openxmlformats.org/drawingml/2006/table">
            <a:tbl>
              <a:tblPr/>
              <a:tblGrid>
                <a:gridCol w="6915960"/>
                <a:gridCol w="1688040"/>
              </a:tblGrid>
              <a:tr h="155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hallen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Change compared to 2007 surv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Getting top management support/buy-i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Metadata qualit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1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Implementing standard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Adopting or developing an end-to-end process mode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Employing and retaining people with the right IT skill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Getting subject-matter statisticians support/buy-i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8000"/>
                          </a:solidFill>
                          <a:latin typeface="Arial Unicode MS"/>
                          <a:ea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D22B6-3DE3-4A6C-8C18-1BB31C854E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669f"/>
                </a:solidFill>
                <a:latin typeface="Arial"/>
              </a:rPr>
              <a:t>Metadata categories</a:t>
            </a:r>
            <a:endParaRPr b="1" lang="en-US" sz="36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24"/>
              </a:spcBef>
              <a:spcAft>
                <a:spcPts val="624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f3277"/>
                </a:solidFill>
                <a:latin typeface="Arial"/>
              </a:rPr>
              <a:t>Structural</a:t>
            </a:r>
            <a:endParaRPr b="0" lang="en-US" sz="25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spcAft>
                <a:spcPts val="624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f3277"/>
                </a:solidFill>
                <a:latin typeface="Arial"/>
              </a:rPr>
              <a:t>Definitional</a:t>
            </a:r>
            <a:endParaRPr b="0" lang="en-US" sz="25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spcAft>
                <a:spcPts val="624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f3277"/>
                </a:solidFill>
                <a:latin typeface="Arial"/>
              </a:rPr>
              <a:t>Methodological</a:t>
            </a:r>
            <a:endParaRPr b="0" lang="en-US" sz="25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spcAft>
                <a:spcPts val="624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f3277"/>
                </a:solidFill>
                <a:latin typeface="Arial"/>
              </a:rPr>
              <a:t>Quality</a:t>
            </a:r>
            <a:endParaRPr b="0" lang="en-US" sz="25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spcAft>
                <a:spcPts val="624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f3277"/>
                </a:solidFill>
                <a:latin typeface="Arial"/>
              </a:rPr>
              <a:t>Referential….</a:t>
            </a:r>
            <a:endParaRPr b="0" lang="en-US" sz="25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spcAft>
                <a:spcPts val="550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This issue will be discussed further as part of Bo Sundgren’s presentation (WP.7)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D8EB-AFDC-414E-9C4B-9F36A37F5B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5669f"/>
                </a:solidFill>
                <a:latin typeface="Arial"/>
              </a:rPr>
              <a:t>How useful is the </a:t>
            </a:r>
            <a:br>
              <a:rPr sz="3200"/>
            </a:br>
            <a:r>
              <a:rPr b="1" lang="en-GB" sz="3200" spc="-1" strike="noStrike">
                <a:solidFill>
                  <a:srgbClr val="55669f"/>
                </a:solidFill>
                <a:latin typeface="Arial"/>
              </a:rPr>
              <a:t>Common Metadata Framework?</a:t>
            </a:r>
            <a:endParaRPr b="1" lang="en-US" sz="32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47% - extremely or very useful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35% - useful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18 % - partly or not useful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Encourage feedback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Discussions, future work and evaluation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79CFF-1DEF-49D3-A20C-FB5DB377DF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669f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f3277"/>
                </a:solidFill>
                <a:latin typeface="Arial"/>
              </a:rPr>
              <a:t>What is needed to help address the challenges?</a:t>
            </a:r>
            <a:endParaRPr b="0" lang="en-US" sz="34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850"/>
              </a:spcBef>
              <a:spcAft>
                <a:spcPts val="1063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f3277"/>
                </a:solidFill>
                <a:latin typeface="Arial"/>
              </a:rPr>
              <a:t>How can the CMF be more useful?</a:t>
            </a:r>
            <a:endParaRPr b="0" lang="en-US" sz="34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f3277"/>
                </a:solidFill>
                <a:latin typeface="Arial"/>
              </a:rPr>
              <a:t>Have we learnt something of value from this information?</a:t>
            </a:r>
            <a:endParaRPr b="0" lang="en-US" sz="34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f3277"/>
                </a:solidFill>
                <a:latin typeface="Arial"/>
              </a:rPr>
              <a:t>Should we continue to gather it in the future?</a:t>
            </a:r>
            <a:endParaRPr b="0" lang="en-US" sz="34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f3277"/>
                </a:solidFill>
                <a:latin typeface="Arial"/>
              </a:rPr>
              <a:t>Other comments or suggestions</a:t>
            </a:r>
            <a:endParaRPr b="0" lang="en-US" sz="34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38AD-1209-40B1-B559-4E613A7BB7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777240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51"/>
              </a:spcBef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0f3277"/>
                </a:solidFill>
                <a:latin typeface="Arial"/>
              </a:rPr>
              <a:t>Thank you</a:t>
            </a:r>
            <a:endParaRPr b="0" lang="en-US" sz="46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ACE7A-AB29-4957-A843-AFCC95E3EA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669f"/>
                </a:solidFill>
                <a:latin typeface="Arial"/>
              </a:rPr>
              <a:t>About the questionnaire</a:t>
            </a:r>
            <a:endParaRPr b="1" lang="en-US" sz="36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f3277"/>
                </a:solidFill>
                <a:latin typeface="Arial"/>
              </a:rPr>
              <a:t>Aim to collect information on existing practices and issues</a:t>
            </a:r>
            <a:endParaRPr b="0" lang="en-US" sz="34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spcAft>
                <a:spcPts val="774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f3277"/>
                </a:solidFill>
                <a:latin typeface="Arial"/>
              </a:rPr>
              <a:t>Developed by METIS Steering Group based on 2007 questionnaire</a:t>
            </a:r>
            <a:endParaRPr b="0" lang="en-US" sz="31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spcAft>
                <a:spcPts val="774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f3277"/>
                </a:solidFill>
                <a:latin typeface="Arial"/>
              </a:rPr>
              <a:t>Sent to METIS participants &amp; mailing list</a:t>
            </a:r>
            <a:endParaRPr b="0" lang="en-US" sz="31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spcAft>
                <a:spcPts val="774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f3277"/>
                </a:solidFill>
                <a:latin typeface="Arial"/>
              </a:rPr>
              <a:t>Responses from 35 statistical offices </a:t>
            </a:r>
            <a:br>
              <a:rPr sz="3100"/>
            </a:br>
            <a:r>
              <a:rPr b="0" lang="en-GB" sz="3100" spc="-1" strike="noStrike">
                <a:solidFill>
                  <a:srgbClr val="0f3277"/>
                </a:solidFill>
                <a:latin typeface="Arial"/>
              </a:rPr>
              <a:t>(~80% of participants at METIS 2008)</a:t>
            </a:r>
            <a:endParaRPr b="0" lang="en-US" sz="31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C3EA4-BCD7-48AF-9F81-68E05A56DA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669f"/>
                </a:solidFill>
                <a:latin typeface="Arial"/>
              </a:rPr>
              <a:t>Metadata strategy</a:t>
            </a:r>
            <a:endParaRPr b="1" lang="en-US" sz="36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395928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74"/>
              </a:spcBef>
              <a:spcAft>
                <a:spcPts val="774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f3277"/>
                </a:solidFill>
                <a:latin typeface="Arial"/>
              </a:rPr>
              <a:t>Most have either a </a:t>
            </a:r>
            <a:br>
              <a:rPr sz="3100"/>
            </a:br>
            <a:r>
              <a:rPr b="0" lang="en-GB" sz="3100" spc="-1" strike="noStrike">
                <a:solidFill>
                  <a:srgbClr val="0f3277"/>
                </a:solidFill>
                <a:latin typeface="Arial"/>
              </a:rPr>
              <a:t>corporate metadata strategy or </a:t>
            </a:r>
            <a:br>
              <a:rPr sz="3100"/>
            </a:br>
            <a:r>
              <a:rPr b="0" lang="en-GB" sz="3100" spc="-1" strike="noStrike">
                <a:solidFill>
                  <a:srgbClr val="0f3277"/>
                </a:solidFill>
                <a:latin typeface="Arial"/>
              </a:rPr>
              <a:t>independent systems</a:t>
            </a:r>
            <a:br>
              <a:rPr sz="3100"/>
            </a:br>
            <a:r>
              <a:rPr b="0" lang="en-GB" sz="3100" spc="-1" strike="noStrike">
                <a:solidFill>
                  <a:srgbClr val="0f3277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spcAft>
                <a:spcPts val="774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f3277"/>
                </a:solidFill>
                <a:latin typeface="Arial"/>
              </a:rPr>
              <a:t>20% have both</a:t>
            </a:r>
            <a:endParaRPr b="0" lang="en-US" sz="31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27640" y="2997360"/>
            <a:ext cx="4273560" cy="323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8BCC-C991-4FB0-AD91-192A6F14F8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669f"/>
                </a:solidFill>
                <a:latin typeface="Arial"/>
              </a:rPr>
              <a:t>Phase of implementation</a:t>
            </a:r>
            <a:endParaRPr b="1" lang="en-US" sz="36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850"/>
              </a:spcBef>
              <a:spcAft>
                <a:spcPts val="850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f3277"/>
                </a:solidFill>
                <a:latin typeface="Arial"/>
              </a:rPr>
              <a:t>Provide an overall picture</a:t>
            </a:r>
            <a:endParaRPr b="0" lang="en-US" sz="34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850"/>
              </a:spcBef>
              <a:spcAft>
                <a:spcPts val="850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f3277"/>
                </a:solidFill>
                <a:latin typeface="Arial"/>
              </a:rPr>
              <a:t>Enable countries/organizations to identify others at the same phase</a:t>
            </a:r>
            <a:endParaRPr b="0" lang="en-US" sz="34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6000" y="4149720"/>
            <a:ext cx="8748720" cy="139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34A00-4A46-48A8-A110-B1F20CD987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5669f"/>
                </a:solidFill>
                <a:latin typeface="Arial"/>
              </a:rPr>
              <a:t>Metadata systems are covering each phase</a:t>
            </a: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4325" t="0" r="1963" b="3675"/>
          <a:stretch/>
        </p:blipFill>
        <p:spPr>
          <a:xfrm>
            <a:off x="0" y="1389240"/>
            <a:ext cx="9144000" cy="527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CC59-8CE0-4608-99F5-C48C5EF237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5669f"/>
                </a:solidFill>
                <a:latin typeface="Arial"/>
              </a:rPr>
              <a:t>Standards:</a:t>
            </a:r>
            <a:br>
              <a:rPr sz="3200"/>
            </a:br>
            <a:r>
              <a:rPr b="1" lang="en-GB" sz="3200" spc="-1" strike="noStrike">
                <a:solidFill>
                  <a:srgbClr val="55669f"/>
                </a:solidFill>
                <a:latin typeface="Arial"/>
              </a:rPr>
              <a:t>Current use, compared to 2007</a:t>
            </a:r>
            <a:endParaRPr b="1" lang="en-US" sz="3200" spc="-1" strike="noStrike">
              <a:solidFill>
                <a:srgbClr val="55669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1700280"/>
          <a:ext cx="7772400" cy="4052880"/>
        </p:xfrm>
        <a:graphic>
          <a:graphicData uri="http://schemas.openxmlformats.org/drawingml/2006/table">
            <a:tbl>
              <a:tblPr/>
              <a:tblGrid>
                <a:gridCol w="4294080"/>
                <a:gridCol w="1739880"/>
                <a:gridCol w="1738440"/>
              </a:tblGrid>
              <a:tr h="106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tly in 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nge since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tronic Data Interchan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EDI) or UN/EDI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2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ensible Business Repor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guage (XBR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istical Data and Metadata Ex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DMX) ISO 173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1055-32F0-4239-99D8-D9284EE3D1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5669f"/>
                </a:solidFill>
                <a:latin typeface="Arial"/>
              </a:rPr>
              <a:t>Standards:</a:t>
            </a:r>
            <a:br>
              <a:rPr sz="3200"/>
            </a:br>
            <a:r>
              <a:rPr b="1" lang="en-GB" sz="3200" spc="-1" strike="noStrike">
                <a:solidFill>
                  <a:srgbClr val="55669f"/>
                </a:solidFill>
                <a:latin typeface="Arial"/>
              </a:rPr>
              <a:t>Current use, compared to 2007</a:t>
            </a:r>
            <a:endParaRPr b="1" lang="en-US" sz="3200" spc="-1" strike="noStrike">
              <a:solidFill>
                <a:srgbClr val="55669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700280"/>
          <a:ext cx="7772400" cy="4730760"/>
        </p:xfrm>
        <a:graphic>
          <a:graphicData uri="http://schemas.openxmlformats.org/drawingml/2006/table">
            <a:tbl>
              <a:tblPr/>
              <a:tblGrid>
                <a:gridCol w="4294080"/>
                <a:gridCol w="1738440"/>
                <a:gridCol w="1739880"/>
              </a:tblGrid>
              <a:tr h="90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tly in 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change since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S Metadata Standard ISO 19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on Warehouse Metamodel (CW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data Registry Standard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O/IEC 11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earch Description Framework (RDF) or Web Ontology Language (OW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blin 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Documentation Initiative (DD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B66C9-05EC-4E0D-AE88-B9CA4C95B7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5669f"/>
                </a:solidFill>
                <a:latin typeface="Arial"/>
              </a:rPr>
              <a:t>Standards being considered,</a:t>
            </a:r>
            <a:br>
              <a:rPr sz="3200"/>
            </a:br>
            <a:r>
              <a:rPr b="1" lang="en-GB" sz="3200" spc="-1" strike="noStrike">
                <a:solidFill>
                  <a:srgbClr val="55669f"/>
                </a:solidFill>
                <a:latin typeface="Arial"/>
              </a:rPr>
              <a:t>compared to 2007</a:t>
            </a:r>
            <a:endParaRPr b="1" lang="en-US" sz="3200" spc="-1" strike="noStrike">
              <a:solidFill>
                <a:srgbClr val="55669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4360" y="1773360"/>
          <a:ext cx="7772400" cy="4176720"/>
        </p:xfrm>
        <a:graphic>
          <a:graphicData uri="http://schemas.openxmlformats.org/drawingml/2006/table">
            <a:tbl>
              <a:tblPr/>
              <a:tblGrid>
                <a:gridCol w="4363920"/>
                <a:gridCol w="1639800"/>
                <a:gridCol w="1768680"/>
              </a:tblGrid>
              <a:tr h="12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id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change since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blin 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istical Data and Metadata Exchan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DMX) ISO 173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8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earch Description Framework (RD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 Web Ontology Language (OW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F63B-B067-462E-B521-AAC7154BA8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5669f"/>
                </a:solidFill>
                <a:latin typeface="Arial"/>
              </a:rPr>
              <a:t>Standards being considered,</a:t>
            </a:r>
            <a:br>
              <a:rPr sz="3200"/>
            </a:br>
            <a:r>
              <a:rPr b="1" lang="en-GB" sz="3200" spc="-1" strike="noStrike">
                <a:solidFill>
                  <a:srgbClr val="55669f"/>
                </a:solidFill>
                <a:latin typeface="Arial"/>
              </a:rPr>
              <a:t>compared to 2007</a:t>
            </a:r>
            <a:endParaRPr b="1" lang="en-US" sz="3200" spc="-1" strike="noStrike">
              <a:solidFill>
                <a:srgbClr val="55669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4360" y="1773360"/>
          <a:ext cx="7772400" cy="4700160"/>
        </p:xfrm>
        <a:graphic>
          <a:graphicData uri="http://schemas.openxmlformats.org/drawingml/2006/table">
            <a:tbl>
              <a:tblPr/>
              <a:tblGrid>
                <a:gridCol w="4364280"/>
                <a:gridCol w="1638720"/>
                <a:gridCol w="1769400"/>
              </a:tblGrid>
              <a:tr h="670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id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change since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on Warehouse Metamodel (CW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tronic Data Interchange (ED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 UN/EDI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ensible Business Reporting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XBR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9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S Metadata Standard ISO 19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data Registry Standar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O/IEC 11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Documentation Initiative (DD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2231-11E8-4F4B-8EEC-7246197530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rdner</cp:lastModifiedBy>
  <dcterms:modified xsi:type="dcterms:W3CDTF">2008-04-14T16:15:07Z</dcterms:modified>
  <cp:revision>64</cp:revision>
  <dc:subject/>
  <dc:title>Training course   Statistical metadata: concepts and systems </dc:title>
</cp:coreProperties>
</file>