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688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49568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1AEC-95C5-424A-9407-40F3B7DF1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32767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900000" y="6553080"/>
            <a:ext cx="316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Management and Information Deliver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28148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ocalhost:8090/sm/landingPage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Standards/Quality/South%20African%20Statistical%20Quality%20Assessment%20Framework_14%20September%202007.pdf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440" y="-1440"/>
            <a:ext cx="9146880" cy="686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9080" y="1557360"/>
            <a:ext cx="777564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Data Management and Information Delivery (DMID) Projec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1660680" y="4675320"/>
            <a:ext cx="64008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0 Apr 2008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hwell Jenneker &amp; Matile Malima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340000" y="1413000"/>
            <a:ext cx="4032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hase 1: </a:t>
            </a:r>
            <a:r>
              <a:rPr b="0" lang="en-US" sz="4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Tool Dem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3141720"/>
            <a:ext cx="8675640" cy="20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We will now show a short Demo of the tool DMID has Developed to Capture Statistical Meta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f3e"/>
                </a:solidFill>
                <a:latin typeface="Verdana"/>
              </a:rPr>
              <a:t>95% Captured (3 Outstand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f3e"/>
                </a:solidFill>
                <a:latin typeface="Verdana"/>
              </a:rPr>
              <a:t>65% Approved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76500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ase 2 Solution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56040"/>
            <a:ext cx="87138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2920" rIns="90000" tIns="152280" bIns="3816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Concepts and Definitions Management T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ovides a central register of all concepts and definitions used in Stats SA, recording the terms and their definitions grouped by pre-defined topics and keywords associated with the topics, making use of the registration framework implemented by the Metadata Registration Management Too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379600" indent="-3427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Variables Management T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ovides a central register of all variables on which Stats SA collects information making use of the registration framework implemented by the Metadata Registration Management Too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379600" indent="-3427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Classifications Management Too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ovide a central registry of all classifications making use of the registration framework implemented by the Metadata Registration Management Too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Metadata Registration Management T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mplements the chosen registration framework and guides users of the tool through that process of registration so that an environment is created where statistical processes occur in an organised fashion.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76500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ase 2 Solution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2440"/>
            <a:ext cx="87138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292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Quality Framework T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apture all the indicators, for each dimension, of the </a:t>
            </a:r>
            <a:r>
              <a:rPr b="0" lang="en-ZA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ASQAF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 document and will be able to disseminate the SASQAF report to relevant us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ESDMF Re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reate, execute and disseminate all ESDMF reports.  This phase will be limited to the configuring and/or integrating Pentaho with the metadata repositories and registries of products described in this document and that of phase 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Survey Metadata Capture Tool (SM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Enhanced to integrate with the some or all products described in this phas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Access Control Management T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ovides a central point for creating and managing access to all tools of the ESDM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27200" y="-27000"/>
            <a:ext cx="704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hase 2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relation to previous and future pha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734080"/>
            <a:ext cx="849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873360" y="692280"/>
            <a:ext cx="76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Phase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2392920" y="692280"/>
            <a:ext cx="76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Phase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84360" y="1557360"/>
            <a:ext cx="1223640" cy="1728720"/>
            <a:chOff x="684360" y="1557360"/>
            <a:chExt cx="1223640" cy="1728720"/>
          </a:xfrm>
        </p:grpSpPr>
        <p:sp>
          <p:nvSpPr>
            <p:cNvPr id="90" name=""/>
            <p:cNvSpPr/>
            <p:nvPr/>
          </p:nvSpPr>
          <p:spPr>
            <a:xfrm>
              <a:off x="684360" y="1557360"/>
              <a:ext cx="1223640" cy="1728720"/>
            </a:xfrm>
            <a:custGeom>
              <a:avLst/>
              <a:gdLst>
                <a:gd name="textAreaLeft" fmla="*/ 59400 w 1223640"/>
                <a:gd name="textAreaRight" fmla="*/ 1164240 w 1223640"/>
                <a:gd name="textAreaTop" fmla="*/ 59400 h 1728720"/>
                <a:gd name="textAreaBottom" fmla="*/ 1669320 h 1728720"/>
              </a:gdLst>
              <a:ahLst/>
              <a:rect l="textAreaLeft" t="textAreaTop" r="textAreaRight" b="textAreaBottom"/>
              <a:pathLst>
                <a:path w="21600" h="30513">
                  <a:moveTo>
                    <a:pt x="3600" y="0"/>
                  </a:moveTo>
                  <a:arcTo wR="3600" hR="3600" stAng="16200000" swAng="-5400000"/>
                  <a:lnTo>
                    <a:pt x="0" y="26913"/>
                  </a:lnTo>
                  <a:arcTo wR="3600" hR="3600" stAng="10800000" swAng="-5400000"/>
                  <a:lnTo>
                    <a:pt x="18000" y="305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26920" y="1701720"/>
              <a:ext cx="93672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Survey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tadata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aptur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6920" y="2278080"/>
              <a:ext cx="93672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Some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parts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of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SASQAF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55640" y="998640"/>
            <a:ext cx="9349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Metadata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Captu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Too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998640"/>
            <a:ext cx="107964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Definitional Metadat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2338560" y="5803920"/>
            <a:ext cx="1008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ff0000"/>
                </a:solidFill>
                <a:latin typeface="Verdana"/>
              </a:rPr>
              <a:t>Thesauru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ff0000"/>
                </a:solidFill>
                <a:latin typeface="Verdana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637080" y="692280"/>
            <a:ext cx="1368360" cy="1801800"/>
            <a:chOff x="3637080" y="692280"/>
            <a:chExt cx="1368360" cy="1801800"/>
          </a:xfrm>
        </p:grpSpPr>
        <p:sp>
          <p:nvSpPr>
            <p:cNvPr id="97" name=""/>
            <p:cNvSpPr/>
            <p:nvPr/>
          </p:nvSpPr>
          <p:spPr>
            <a:xfrm>
              <a:off x="3708360" y="1557360"/>
              <a:ext cx="1297080" cy="936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Process/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Methodological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Metada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Metadata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Auditing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70800" y="692280"/>
              <a:ext cx="7642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Verdana"/>
                </a:rPr>
                <a:t>Phase 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37080" y="998640"/>
              <a:ext cx="136656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Process/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Methodological Metadata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64000" y="692280"/>
            <a:ext cx="1295640" cy="2593800"/>
            <a:chOff x="5364000" y="692280"/>
            <a:chExt cx="1295640" cy="2593800"/>
          </a:xfrm>
        </p:grpSpPr>
        <p:sp>
          <p:nvSpPr>
            <p:cNvPr id="101" name=""/>
            <p:cNvSpPr/>
            <p:nvPr/>
          </p:nvSpPr>
          <p:spPr>
            <a:xfrm>
              <a:off x="5364000" y="1557360"/>
              <a:ext cx="1295640" cy="17287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728720"/>
                <a:gd name="textAreaBottom" fmla="*/ 1665720 h 1728720"/>
              </a:gdLst>
              <a:ahLst/>
              <a:rect l="textAreaLeft" t="textAreaTop" r="textAreaRight" b="textAreaBottom"/>
              <a:pathLst>
                <a:path w="21600" h="28818">
                  <a:moveTo>
                    <a:pt x="3600" y="0"/>
                  </a:moveTo>
                  <a:arcTo wR="3600" hR="3600" stAng="16200000" swAng="-5400000"/>
                  <a:lnTo>
                    <a:pt x="0" y="25218"/>
                  </a:lnTo>
                  <a:arcTo wR="3600" hR="3600" stAng="10800000" swAng="-5400000"/>
                  <a:lnTo>
                    <a:pt x="18000" y="288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Workflow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Definit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Workflow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Task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tadata Version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98080" y="692280"/>
              <a:ext cx="7642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Verdana"/>
                </a:rPr>
                <a:t>Phase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37080" y="998640"/>
              <a:ext cx="1222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Workflow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523280" y="692280"/>
            <a:ext cx="1296720" cy="2449440"/>
            <a:chOff x="7523280" y="692280"/>
            <a:chExt cx="1296720" cy="2449440"/>
          </a:xfrm>
        </p:grpSpPr>
        <p:sp>
          <p:nvSpPr>
            <p:cNvPr id="105" name=""/>
            <p:cNvSpPr/>
            <p:nvPr/>
          </p:nvSpPr>
          <p:spPr>
            <a:xfrm>
              <a:off x="7523280" y="1557360"/>
              <a:ext cx="1296720" cy="1584360"/>
            </a:xfrm>
            <a:custGeom>
              <a:avLst/>
              <a:gdLst>
                <a:gd name="textAreaLeft" fmla="*/ 63000 w 1296720"/>
                <a:gd name="textAreaRight" fmla="*/ 1233720 w 1296720"/>
                <a:gd name="textAreaTop" fmla="*/ 63000 h 1584360"/>
                <a:gd name="textAreaBottom" fmla="*/ 1521360 h 1584360"/>
              </a:gdLst>
              <a:ahLst/>
              <a:rect l="textAreaLeft" t="textAreaTop" r="textAreaRight" b="textAreaBottom"/>
              <a:pathLst>
                <a:path w="21600" h="26390">
                  <a:moveTo>
                    <a:pt x="3600" y="0"/>
                  </a:moveTo>
                  <a:arcTo wR="3600" hR="3600" stAng="16200000" swAng="-5400000"/>
                  <a:lnTo>
                    <a:pt x="0" y="22790"/>
                  </a:lnTo>
                  <a:arcTo wR="3600" hR="3600" stAng="10800000" swAng="-5400000"/>
                  <a:lnTo>
                    <a:pt x="18000" y="263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Operational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Metada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Questionnaire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Repository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Manual Data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Captur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93280" y="692280"/>
              <a:ext cx="7642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Verdana"/>
                </a:rPr>
                <a:t>Phase 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96360" y="998640"/>
              <a:ext cx="122220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Operational Metadata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195640" y="1557360"/>
            <a:ext cx="1296720" cy="2808360"/>
            <a:chOff x="2195640" y="1557360"/>
            <a:chExt cx="1296720" cy="2808360"/>
          </a:xfrm>
        </p:grpSpPr>
        <p:sp>
          <p:nvSpPr>
            <p:cNvPr id="109" name=""/>
            <p:cNvSpPr/>
            <p:nvPr/>
          </p:nvSpPr>
          <p:spPr>
            <a:xfrm>
              <a:off x="2195640" y="1557360"/>
              <a:ext cx="1296720" cy="2808360"/>
            </a:xfrm>
            <a:custGeom>
              <a:avLst/>
              <a:gdLst>
                <a:gd name="textAreaLeft" fmla="*/ 63000 w 1296720"/>
                <a:gd name="textAreaRight" fmla="*/ 1233720 w 1296720"/>
                <a:gd name="textAreaTop" fmla="*/ 63000 h 2808360"/>
                <a:gd name="textAreaBottom" fmla="*/ 2745360 h 2808360"/>
              </a:gdLst>
              <a:ahLst/>
              <a:rect l="textAreaLeft" t="textAreaTop" r="textAreaRight" b="textAreaBottom"/>
              <a:pathLst>
                <a:path w="21600" h="46773">
                  <a:moveTo>
                    <a:pt x="3600" y="0"/>
                  </a:moveTo>
                  <a:arcTo wR="3600" hR="3600" stAng="16200000" swAng="-5400000"/>
                  <a:lnTo>
                    <a:pt x="0" y="43173"/>
                  </a:lnTo>
                  <a:arcTo wR="3600" hR="3600" stAng="10800000" swAng="-5400000"/>
                  <a:lnTo>
                    <a:pt x="18000" y="46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40000" y="2206800"/>
              <a:ext cx="100800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Classifications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40000" y="2709720"/>
              <a:ext cx="100800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Variables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40000" y="1701720"/>
              <a:ext cx="100800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Concepts &amp;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Definition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40000" y="3718080"/>
              <a:ext cx="100800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SASQAF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Tool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40000" y="3214800"/>
              <a:ext cx="100800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Admin. of 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Registrat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V="1">
            <a:off x="1619280" y="184428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206064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203640" y="1989000"/>
            <a:ext cx="446400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276720" y="2349000"/>
            <a:ext cx="4390920" cy="142920"/>
          </a:xfrm>
          <a:prstGeom prst="line">
            <a:avLst/>
          </a:prstGeom>
          <a:ln w="93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4906800"/>
            <a:ext cx="1008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Busines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2338560" y="5300640"/>
            <a:ext cx="1008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Meth &amp;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Std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437000"/>
            <a:ext cx="849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2492280"/>
            <a:ext cx="1152360" cy="2665440"/>
          </a:xfrm>
          <a:custGeom>
            <a:avLst/>
            <a:gdLst/>
            <a:ahLst/>
            <a:rect l="l" t="t" r="r" b="b"/>
            <a:pathLst>
              <a:path w="688" h="1406">
                <a:moveTo>
                  <a:pt x="0" y="0"/>
                </a:moveTo>
                <a:cubicBezTo>
                  <a:pt x="336" y="223"/>
                  <a:pt x="672" y="446"/>
                  <a:pt x="680" y="680"/>
                </a:cubicBezTo>
                <a:cubicBezTo>
                  <a:pt x="688" y="914"/>
                  <a:pt x="366" y="1160"/>
                  <a:pt x="45" y="14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4508640"/>
            <a:ext cx="1008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CaRS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Spec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3203640" y="1989000"/>
            <a:ext cx="1297080" cy="3456000"/>
          </a:xfrm>
          <a:custGeom>
            <a:avLst/>
            <a:gdLst/>
            <a:ahLst/>
            <a:rect l="l" t="t" r="r" b="b"/>
            <a:pathLst>
              <a:path w="688" h="1406">
                <a:moveTo>
                  <a:pt x="0" y="0"/>
                </a:moveTo>
                <a:cubicBezTo>
                  <a:pt x="336" y="223"/>
                  <a:pt x="672" y="446"/>
                  <a:pt x="680" y="680"/>
                </a:cubicBezTo>
                <a:cubicBezTo>
                  <a:pt x="688" y="914"/>
                  <a:pt x="366" y="1160"/>
                  <a:pt x="45" y="14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2637000"/>
            <a:ext cx="1008000" cy="2087280"/>
          </a:xfrm>
          <a:custGeom>
            <a:avLst/>
            <a:gdLst/>
            <a:ahLst/>
            <a:rect l="l" t="t" r="r" b="b"/>
            <a:pathLst>
              <a:path w="688" h="1406">
                <a:moveTo>
                  <a:pt x="0" y="0"/>
                </a:moveTo>
                <a:cubicBezTo>
                  <a:pt x="336" y="223"/>
                  <a:pt x="672" y="446"/>
                  <a:pt x="680" y="680"/>
                </a:cubicBezTo>
                <a:cubicBezTo>
                  <a:pt x="688" y="914"/>
                  <a:pt x="366" y="1160"/>
                  <a:pt x="45" y="14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572400" y="5877000"/>
            <a:ext cx="124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Verdana"/>
              </a:rPr>
              <a:t>Out of Sco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49000" y="3933720"/>
            <a:ext cx="93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 Sco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94280" y="4924440"/>
            <a:ext cx="1540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ithin Stats 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76720" y="2565000"/>
            <a:ext cx="2303280" cy="862200"/>
          </a:xfrm>
          <a:prstGeom prst="line">
            <a:avLst/>
          </a:prstGeom>
          <a:ln w="93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2637000"/>
            <a:ext cx="71892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40000" y="-171360"/>
            <a:ext cx="490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692280"/>
            <a:ext cx="82090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s SA Backgr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MID Pro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nd to end Statistical Data Management Facility (ESDMF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 1 Dem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 2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DMF “Building brick by brick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44280"/>
            <a:ext cx="6680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atistics SA Backgr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07920"/>
            <a:ext cx="8704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s a national government department accountable to Minister of Finance, regulated by the Statistics Act (No. 6 of 1999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egislative mandate provides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ion of coordination among statistical producers in 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 of statistical advice to government depar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aison with the statistical agencies of other countries and other international ag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ision: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The preferred supplier of quality stat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ission: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To provide a relevant and accurate body of statistics to inform users on the dynamics in the economy and society through the application of internationally acclaimed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or more information: visit 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www.statssa.gov.z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5219640" y="5950080"/>
            <a:ext cx="29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92360" y="115920"/>
            <a:ext cx="6832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DMID Pro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04640" y="1052640"/>
            <a:ext cx="8704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usiness improvement initiativ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 the way originating units develop, structure, capture and store data and metadata according to common standards and procedu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ilitate better data sharing between the various un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 the analysis and comparability of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 access and use of data, and version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 storage of data and metadata is key in improving quality of, and access to, authoritative and reliable statistical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option of corporate standards for capturing, storage of, access to and management of data and metadata throughout the statistical value chain, from needs analysis to dissemination of da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24000" y="-27000"/>
            <a:ext cx="774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SDMF: Functional Requir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04640" y="1052640"/>
            <a:ext cx="87044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the Statistical value chain from end to en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 data capturing and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rally store data and meta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 exploratory analysis and analysis for pub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 dissemination and archi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flow must be metadata driven and metadata genera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 interface, with role-based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79600" y="1165320"/>
          <a:ext cx="8385120" cy="524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165320"/>
                    <a:ext cx="838512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rot="5400000">
            <a:off x="3328920" y="21960"/>
            <a:ext cx="1817640" cy="7392960"/>
          </a:xfrm>
          <a:prstGeom prst="can">
            <a:avLst>
              <a:gd name="adj" fmla="val 2250"/>
            </a:avLst>
          </a:prstGeom>
          <a:solidFill>
            <a:srgbClr val="0000ff">
              <a:alpha val="11000"/>
            </a:srgbClr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003560" y="1133640"/>
            <a:ext cx="1168560" cy="264960"/>
          </a:xfrm>
          <a:custGeom>
            <a:avLst/>
            <a:gdLst>
              <a:gd name="textAreaLeft" fmla="*/ 0 w 1168560"/>
              <a:gd name="textAreaRight" fmla="*/ 1168920 w 11685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3fe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ec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5103720" y="1133640"/>
            <a:ext cx="1166760" cy="264960"/>
          </a:xfrm>
          <a:custGeom>
            <a:avLst/>
            <a:gdLst>
              <a:gd name="textAreaLeft" fmla="*/ 0 w 1166760"/>
              <a:gd name="textAreaRight" fmla="*/ 1167120 w 11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3fe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6257880" y="1133640"/>
            <a:ext cx="1162080" cy="264960"/>
          </a:xfrm>
          <a:custGeom>
            <a:avLst/>
            <a:gdLst>
              <a:gd name="textAreaLeft" fmla="*/ 0 w 1162080"/>
              <a:gd name="textAreaRight" fmla="*/ 1162080 w 11620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3fe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7397640" y="1133640"/>
            <a:ext cx="1165320" cy="264960"/>
          </a:xfrm>
          <a:custGeom>
            <a:avLst/>
            <a:gdLst>
              <a:gd name="textAreaLeft" fmla="*/ 0 w 1165320"/>
              <a:gd name="textAreaRight" fmla="*/ 1165680 w 11653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3fe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seminat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1690560" y="1133640"/>
            <a:ext cx="1160640" cy="26496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3fe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522360" y="1133640"/>
            <a:ext cx="1160280" cy="264960"/>
          </a:xfrm>
          <a:custGeom>
            <a:avLst/>
            <a:gdLst>
              <a:gd name="textAreaLeft" fmla="*/ 0 w 1160280"/>
              <a:gd name="textAreaRight" fmla="*/ 1160640 w 11602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3fe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2882880" y="1133640"/>
            <a:ext cx="1160640" cy="26496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3fe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115920"/>
            <a:ext cx="6172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ESDM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856720" cy="21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8000" y="1770120"/>
            <a:ext cx="8856720" cy="1379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24000" y="3365640"/>
            <a:ext cx="5543280" cy="3492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300720" y="765000"/>
            <a:ext cx="2808360" cy="863640"/>
          </a:xfrm>
          <a:prstGeom prst="borderCallout2">
            <a:avLst>
              <a:gd name="adj1" fmla="val 18750"/>
              <a:gd name="adj2" fmla="val -8333"/>
              <a:gd name="adj3" fmla="val 13236"/>
              <a:gd name="adj4" fmla="val -41379"/>
              <a:gd name="adj5" fmla="val 117828"/>
              <a:gd name="adj6" fmla="val -4137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Dataset 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Tahoma"/>
              </a:rPr>
              <a:t>/Survey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 metadat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llect metadata according to the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etadata policy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us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andard metadata templ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2155680" y="15228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T: Development and Imple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1604880"/>
            <a:ext cx="5832360" cy="506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3840" y="1341360"/>
            <a:ext cx="5833800" cy="219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346800" y="3116160"/>
            <a:ext cx="2689200" cy="1727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55680" y="15228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T: Development and Imple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63640" y="3068640"/>
            <a:ext cx="5616720" cy="36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27360" y="3141720"/>
            <a:ext cx="5487840" cy="3457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59280" y="1341360"/>
            <a:ext cx="3025440" cy="158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mmary of the ESDMF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ase 0 to 1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7 Facil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3 Applications/T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 35 Mill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 Year Timefra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2155680" y="15228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T: Development and Imple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3:33:00Z</dcterms:created>
  <dc:creator>Stats SA</dc:creator>
  <dc:description/>
  <dc:language>en-US</dc:language>
  <cp:lastModifiedBy>AshwellJ</cp:lastModifiedBy>
  <dcterms:modified xsi:type="dcterms:W3CDTF">2008-04-10T09:02:32Z</dcterms:modified>
  <cp:revision>157</cp:revision>
  <dc:subject/>
  <dc:title>Slide 1</dc:title>
</cp:coreProperties>
</file>