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655300" cy="7524750"/>
  <p:notesSz cx="7524750" cy="1065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76E7-63D0-4799-893D-C070B892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90583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8480" y="2172960"/>
            <a:ext cx="90583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8480" y="4530600"/>
            <a:ext cx="90583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AE4D-F7E0-404B-BAAE-65CA0029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90583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98480" y="2172960"/>
            <a:ext cx="44204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40320" y="2172960"/>
            <a:ext cx="44204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8480" y="4530600"/>
            <a:ext cx="44204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40320" y="4530600"/>
            <a:ext cx="44204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57D3-A4F6-45CA-B1F4-C197AF6F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90583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98480" y="2172960"/>
            <a:ext cx="291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61000" y="2172960"/>
            <a:ext cx="291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923520" y="2172960"/>
            <a:ext cx="291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98480" y="4530600"/>
            <a:ext cx="291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61000" y="4530600"/>
            <a:ext cx="291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923520" y="4530600"/>
            <a:ext cx="29163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D6E-9788-437F-9445-3B711232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90583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98480" y="2172960"/>
            <a:ext cx="9058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812A-F26B-4992-AD05-0ACA9D78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90583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8480" y="2172960"/>
            <a:ext cx="90583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50E4-6AE1-4DC6-9B9F-F90920DA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90583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8480" y="2172960"/>
            <a:ext cx="442044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40320" y="2172960"/>
            <a:ext cx="442044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525-C229-475B-8C16-9481385A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90583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DED0-7114-48F7-ADE9-4A7D2814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98480" y="668160"/>
            <a:ext cx="905832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26D-0BA6-4053-9C63-FD2999D2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90583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8480" y="2172960"/>
            <a:ext cx="44204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0320" y="2172960"/>
            <a:ext cx="442044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8480" y="4530600"/>
            <a:ext cx="44204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D057-A595-40B4-98BB-5C74E3E1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90583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8480" y="2172960"/>
            <a:ext cx="442044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40320" y="2172960"/>
            <a:ext cx="44204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40320" y="4530600"/>
            <a:ext cx="44204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B47-F3E4-441A-9A53-9A0F3761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90583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8480" y="2172960"/>
            <a:ext cx="44204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40320" y="2172960"/>
            <a:ext cx="44204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8480" y="4530600"/>
            <a:ext cx="90583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A607-4DAA-4364-A53D-6627808E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90583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8480" y="2172960"/>
            <a:ext cx="90583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8120" y="6854760"/>
            <a:ext cx="2219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9960" y="6854760"/>
            <a:ext cx="337536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35600" y="6854760"/>
            <a:ext cx="222084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B8D4-409F-49CD-ADAF-D13A14E9E87E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57240" y="601560"/>
            <a:ext cx="88171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57240" y="2114640"/>
            <a:ext cx="88171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57240" y="6819840"/>
            <a:ext cx="216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722760" y="6819840"/>
            <a:ext cx="3286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612200" y="6819840"/>
            <a:ext cx="2162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81080" y="0"/>
            <a:ext cx="10369440" cy="74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206280" y="0"/>
            <a:ext cx="10277640" cy="74516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206280" y="0"/>
            <a:ext cx="10277640" cy="74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1080" y="0"/>
            <a:ext cx="10369440" cy="74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6280" y="0"/>
            <a:ext cx="10277640" cy="744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6280" y="0"/>
            <a:ext cx="10277640" cy="74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4400" y="1735200"/>
            <a:ext cx="8354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4400" y="1828440"/>
            <a:ext cx="835488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9800"/>
                </a:solidFill>
                <a:latin typeface="Arial"/>
              </a:rPr>
              <a:t>Australian Bureau of Statistic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97000" y="3835440"/>
            <a:ext cx="83329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7000" y="3835440"/>
            <a:ext cx="833292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A brief history of metadata at the ABS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5680" y="5589720"/>
            <a:ext cx="8211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1000" y="5584680"/>
            <a:ext cx="8221320" cy="13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on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data Team L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imon.wall@abs.gov.a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98560" y="4366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8560" y="649800"/>
            <a:ext cx="7683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1" lang="en-US" sz="4200" spc="-1" strike="noStrike">
                <a:solidFill>
                  <a:srgbClr val="400097"/>
                </a:solidFill>
                <a:latin typeface="Arial"/>
              </a:rPr>
              <a:t>meta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zoic er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4880" y="1563840"/>
            <a:ext cx="93297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4880" y="1563840"/>
            <a:ext cx="932976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5-197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the term 'metadata' exi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etadata management any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o metadata management strate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4880" y="1563840"/>
            <a:ext cx="9329760" cy="26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880" y="1563840"/>
            <a:ext cx="9329760" cy="26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3-19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data diction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mited reuse of common data elem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fully corporate in sco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n by technology, not by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98560" y="4366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98560" y="649800"/>
            <a:ext cx="7683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1" lang="en-US" sz="4200" spc="-1" strike="noStrike">
                <a:solidFill>
                  <a:srgbClr val="400097"/>
                </a:solidFill>
                <a:latin typeface="Arial"/>
              </a:rPr>
              <a:t>meta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zoic era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98560" y="4366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98560" y="649800"/>
            <a:ext cx="7683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eso</a:t>
            </a:r>
            <a:r>
              <a:rPr b="1" lang="en-US" sz="4200" spc="-1" strike="noStrike">
                <a:solidFill>
                  <a:srgbClr val="400097"/>
                </a:solidFill>
                <a:latin typeface="Arial"/>
              </a:rPr>
              <a:t>meta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zoic er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1563840"/>
            <a:ext cx="9329760" cy="50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4880" y="1563840"/>
            <a:ext cx="932976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-2000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data warehousing for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 of a strategic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10332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wards a Unified Data and Metadata System at the ABS (199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core metadata repos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103320">
              <a:lnSpc>
                <a:spcPct val="100000"/>
              </a:lnSpc>
              <a:spcAft>
                <a:spcPts val="45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activities (ABS: collections), datasets, data items (data elements/variables), classifications,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n as overhead by subject matter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103320">
              <a:lnSpc>
                <a:spcPct val="100000"/>
              </a:lnSpc>
              <a:spcAft>
                <a:spcPts val="45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return for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103320">
              <a:lnSpc>
                <a:spcPct val="100000"/>
              </a:lnSpc>
              <a:spcAft>
                <a:spcPts val="45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questionable, not actively maintai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04880" y="1563840"/>
            <a:ext cx="9329760" cy="55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4880" y="1563840"/>
            <a:ext cx="9329760" cy="51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-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5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organised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porate Metadata Repos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ing services interfac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egacy repositories both asset and liabilit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ision greater than implement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strategy adop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45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ategy for end-to-end management of ABS 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new developmen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1179-based Data Element Registr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Quality Declara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98560" y="4366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98560" y="649800"/>
            <a:ext cx="7683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o</a:t>
            </a:r>
            <a:r>
              <a:rPr b="1" lang="en-US" sz="4200" spc="-1" strike="noStrike">
                <a:solidFill>
                  <a:srgbClr val="400097"/>
                </a:solidFill>
                <a:latin typeface="Arial"/>
              </a:rPr>
              <a:t>meta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zoic Er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98560" y="4366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8560" y="649800"/>
            <a:ext cx="7683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Holocentric epoch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4880" y="1563840"/>
            <a:ext cx="932976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4880" y="1563840"/>
            <a:ext cx="9329760" cy="48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 executive seek clear and compelling picture of long term metadata aspi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provided by existing strateg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41320" indent="-109440">
              <a:lnSpc>
                <a:spcPct val="100000"/>
              </a:lnSpc>
              <a:spcAft>
                <a:spcPts val="38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w would it improve the way the organisation operat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41320" indent="-109440">
              <a:lnSpc>
                <a:spcPct val="100000"/>
              </a:lnSpc>
              <a:spcAft>
                <a:spcPts val="38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at new capabilities would it deliver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41320" indent="-109440">
              <a:lnSpc>
                <a:spcPct val="100000"/>
              </a:lnSpc>
              <a:spcAft>
                <a:spcPts val="38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re they the capabilities we need most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41320" indent="-109440">
              <a:lnSpc>
                <a:spcPct val="100000"/>
              </a:lnSpc>
              <a:spcAft>
                <a:spcPts val="38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strategy actually achievabl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41320" indent="-109440">
              <a:lnSpc>
                <a:spcPct val="100000"/>
              </a:lnSpc>
              <a:spcAft>
                <a:spcPts val="38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it the most appropriate future for us to be investing in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Aft>
                <a:spcPts val="5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developing "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20 V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45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ng longer term ABS aspirations for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98560" y="4366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98560" y="649800"/>
            <a:ext cx="7683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rivers for 2020 vis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4880" y="1563840"/>
            <a:ext cx="9329760" cy="59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4880" y="1563840"/>
            <a:ext cx="9329760" cy="54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take of Corporate Metadata Respository services very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isting processing systems "monolithic"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87400" indent="-15552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easy to modif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isting processing systems have "special needs"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87400" indent="-15552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ustomisations require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ack of funds and business driver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isconnect between user view and description for systematic manipul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ocessing systems unable to provide metadata to describe transforma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98560" y="4366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98560" y="649800"/>
            <a:ext cx="7683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rivers for 2020 vis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4880" y="1563840"/>
            <a:ext cx="9329760" cy="59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4880" y="1563840"/>
            <a:ext cx="932976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4520" indent="-34452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 of reference for ABS metadata management requirements is no longer defined by the boundaries of the organ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veloping infrastructure that can be shared with </a:t>
            </a:r>
            <a:r>
              <a:rPr b="0" lang="en-US" sz="2900" spc="-1" strike="noStrike">
                <a:solidFill>
                  <a:srgbClr val="400097"/>
                </a:solidFill>
                <a:latin typeface="Arial"/>
              </a:rPr>
              <a:t>other producer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f statistical data within Australi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ther government agencies now have their own focus on </a:t>
            </a:r>
            <a:r>
              <a:rPr b="0" lang="en-US" sz="2900" spc="-1" strike="noStrike">
                <a:solidFill>
                  <a:srgbClr val="400097"/>
                </a:solidFill>
                <a:latin typeface="Arial"/>
              </a:rPr>
              <a:t>interoperability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including metadat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2900" spc="-1" strike="noStrike">
                <a:solidFill>
                  <a:srgbClr val="400097"/>
                </a:solidFill>
                <a:latin typeface="Arial"/>
              </a:rPr>
              <a:t>collabora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/ open source softwar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4520" indent="-15588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teroperate with agencies with a focus on </a:t>
            </a:r>
            <a:r>
              <a:rPr b="0" lang="en-US" sz="2900" spc="-1" strike="noStrike">
                <a:solidFill>
                  <a:srgbClr val="400097"/>
                </a:solidFill>
                <a:latin typeface="Arial"/>
              </a:rPr>
              <a:t>administrative, geospatial, or research-oriented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data conten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98560" y="4366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98560" y="649800"/>
            <a:ext cx="7683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ere are we going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4880" y="1563840"/>
            <a:ext cx="9329760" cy="59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4880" y="1563840"/>
            <a:ext cx="9329760" cy="41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2840" indent="-31284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00097"/>
                </a:solidFill>
                <a:latin typeface="Arial"/>
              </a:rPr>
              <a:t>One</a:t>
            </a:r>
            <a:r>
              <a:rPr b="0" lang="en-US" sz="2900" spc="-1" strike="noStrike">
                <a:solidFill>
                  <a:srgbClr val="400097"/>
                </a:solidFill>
                <a:latin typeface="Arial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practical complexities and difficulties of using metadata in an "end to end" context to actually drive actual ABS processes is becoming clearer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00097"/>
                </a:solidFill>
                <a:latin typeface="Arial"/>
              </a:rPr>
              <a:t>Two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re is pressure to make our metadata capabilities less ABS specific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5552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ore flexible, interoperable and generic - 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100000"/>
              </a:lnSpc>
              <a:spcAft>
                <a:spcPts val="53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se factors suggest that charting a successful way forward in regard to metadata management for the ABS will require a "paradigm shift", a new er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rdner</cp:lastModifiedBy>
  <dcterms:modified xsi:type="dcterms:W3CDTF">2008-04-14T07:01:52Z</dcterms:modified>
  <cp:revision>1</cp:revision>
  <dc:subject/>
  <dc:title>Slide 1</dc:title>
</cp:coreProperties>
</file>