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55300" cy="7524750"/>
  <p:notesSz cx="7524750" cy="1065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60D-F5E2-4390-B095-55494BED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90583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8480" y="4530600"/>
            <a:ext cx="90583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6BC-ABFF-4530-80B5-8524446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848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4032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B8D-72B8-420D-A3D5-03496396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61000" y="217296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923520" y="217296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98480" y="453060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61000" y="453060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923520" y="453060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91F-BF56-45CB-A21C-D7AEFB59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98480" y="2172960"/>
            <a:ext cx="9058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530-97C3-478A-895E-C91EA81B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90583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476-120F-4FC5-9686-95B4DB58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292-7236-4110-8699-04622BB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9D3-B883-4643-AFBF-99119A61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98480" y="668160"/>
            <a:ext cx="90583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A3D-13C2-428E-80F5-5CFFEAAC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48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1A1-4418-489A-95B1-244D5CB6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4032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2F2-B3F3-40C0-93CF-35BB825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8480" y="4530600"/>
            <a:ext cx="90583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485-5815-4DE0-816B-B05F8FF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480" y="2172960"/>
            <a:ext cx="90583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8120" y="6854760"/>
            <a:ext cx="2219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9960" y="6854760"/>
            <a:ext cx="33753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35600" y="6854760"/>
            <a:ext cx="22208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E3D-6D36-4CF4-9C58-58C9A2B5DF2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57240" y="601560"/>
            <a:ext cx="88171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57240" y="2114640"/>
            <a:ext cx="8817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57240" y="6819840"/>
            <a:ext cx="21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722760" y="6819840"/>
            <a:ext cx="3286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12200" y="6819840"/>
            <a:ext cx="216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1080" y="0"/>
            <a:ext cx="10369440" cy="74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206280" y="0"/>
            <a:ext cx="10277640" cy="7451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06280" y="0"/>
            <a:ext cx="10277640" cy="74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1080" y="0"/>
            <a:ext cx="10369440" cy="74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0277640" cy="744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6280" y="0"/>
            <a:ext cx="10277640" cy="74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4400" y="1735200"/>
            <a:ext cx="8354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4400" y="1828440"/>
            <a:ext cx="83548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800"/>
                </a:solidFill>
                <a:latin typeface="Arial"/>
              </a:rPr>
              <a:t>Australian Bureau of Statistic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7000" y="3835440"/>
            <a:ext cx="83329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7000" y="3835440"/>
            <a:ext cx="8332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A brief history of metadata at the AB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5680" y="5589720"/>
            <a:ext cx="8211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1000" y="5584680"/>
            <a:ext cx="822132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on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Team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mon.wall@abs.gov.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4880" y="1563840"/>
            <a:ext cx="93297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4880" y="1563840"/>
            <a:ext cx="93297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 term 'metadata' ex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tadata management any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 metadata management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4880" y="1563840"/>
            <a:ext cx="932976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80" y="1563840"/>
            <a:ext cx="9329760" cy="26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3-19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ata dictio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ed reuse of common data ele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fully corporate in sco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n by technology, not by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eso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563840"/>
            <a:ext cx="932976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4880" y="1563840"/>
            <a:ext cx="93297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200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data warehousing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of a strategic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wards a Unified Data and Metadata System at the ABS (19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core metadata 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activities (ABS: collections), datasets, data items (data elements/variables), classifications,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n as overhead by subject matter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turn for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questionable, not actively mainta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4880" y="1563840"/>
            <a:ext cx="9329760" cy="55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1563840"/>
            <a:ext cx="932976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-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5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organis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orate Metadata 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ing services interfa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egacy repositories both asset and liabi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sion greater than implemen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strategy ado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tegy for end-to-end management of ABS 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new developmen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1179-based Data Element Regist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Quality Declar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Holocentric epoc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880" y="1563840"/>
            <a:ext cx="932976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4880" y="1563840"/>
            <a:ext cx="9329760" cy="48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 executive seek clear and compelling picture of long term metadata aspi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provided by existing strateg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would it improve the way the organisation operat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new capabilities would it deliver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e they the capabilities we need most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strategy actually achievabl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it the most appropriate future for us to be investing in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5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developing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20 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ng longer term ABS aspirations for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rivers for 2020 vi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4880" y="1563840"/>
            <a:ext cx="932976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880" y="1563840"/>
            <a:ext cx="93297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take of Corporate Metadata Respository services very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isting processing systems "monolithic"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7400" indent="-15552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easy to modif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isting processing systems have "special needs"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7400" indent="-15552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ustomisations requir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ack of funds and business driv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onnect between user view and description for systematic manipul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cessing systems unable to provide metadata to describe transform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rivers for 2020 vi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1563840"/>
            <a:ext cx="932976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880" y="1563840"/>
            <a:ext cx="932976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 of reference for ABS metadata management requirements is no longer defined by the boundaries of the 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ing infrastructure that can be shared with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other produc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f statistical data within Austral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ther government agencies now have their own focus on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interoperability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ncluding metadat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collabora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/ open source softwa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operate with agencies with a focus on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administrative, geospatial, or research-orient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data conten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ere are we going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880" y="1563840"/>
            <a:ext cx="932976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880" y="1563840"/>
            <a:ext cx="932976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2840" indent="-31284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00097"/>
                </a:solidFill>
                <a:latin typeface="Arial"/>
              </a:rPr>
              <a:t>One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actical complexities and difficulties of using metadata in an "end to end" context to actually drive actual ABS processes is becoming cleare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00097"/>
                </a:solidFill>
                <a:latin typeface="Arial"/>
              </a:rPr>
              <a:t>Two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re is pressure to make our metadata capabilities less ABS specif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5552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flexible, interoperable and generic - 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se factors suggest that charting a successful way forward in regard to metadata management for the ABS will require a "paradigm shift", a new er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dner</cp:lastModifiedBy>
  <dcterms:modified xsi:type="dcterms:W3CDTF">2008-04-14T07:01:52Z</dcterms:modified>
  <cp:revision>1</cp:revision>
  <dc:subject/>
  <dc:title>Slide 1</dc:title>
</cp:coreProperties>
</file>