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16FAF-7D7D-43B6-B085-8B7FDBCF1B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669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724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3868200"/>
            <a:ext cx="77724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3754A-C657-43F6-ABBA-FCBCBE1D40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66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926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040" y="1412640"/>
            <a:ext cx="37926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3868200"/>
            <a:ext cx="37926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040" y="3868200"/>
            <a:ext cx="37926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AEC4A-A223-464D-A4A0-94076FFCC3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669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250236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360" y="1412640"/>
            <a:ext cx="250236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0000" y="1412640"/>
            <a:ext cx="250236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3868200"/>
            <a:ext cx="250236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360" y="3868200"/>
            <a:ext cx="250236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0000" y="3868200"/>
            <a:ext cx="250236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DBBA6-5453-49E5-9039-B712DEA977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669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412640"/>
            <a:ext cx="7772400" cy="47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669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7240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669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9260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040" y="1412640"/>
            <a:ext cx="379260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669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4360" y="691920"/>
            <a:ext cx="77724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669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926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040" y="1412640"/>
            <a:ext cx="379260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3868200"/>
            <a:ext cx="37926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669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412640"/>
            <a:ext cx="7772400" cy="47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481C3-6C36-45F6-AE11-4457E050EC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669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9260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040" y="1412640"/>
            <a:ext cx="37926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7040" y="3868200"/>
            <a:ext cx="37926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669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926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7040" y="1412640"/>
            <a:ext cx="37926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3868200"/>
            <a:ext cx="77724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669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724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3868200"/>
            <a:ext cx="77724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669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926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7040" y="1412640"/>
            <a:ext cx="37926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3868200"/>
            <a:ext cx="37926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7040" y="3868200"/>
            <a:ext cx="37926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669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250236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2360" y="1412640"/>
            <a:ext cx="250236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0000" y="1412640"/>
            <a:ext cx="250236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3868200"/>
            <a:ext cx="250236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2360" y="3868200"/>
            <a:ext cx="250236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0000" y="3868200"/>
            <a:ext cx="250236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669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7240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12AEF-7E77-4C38-9D6F-EBF88C0E15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66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9260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040" y="1412640"/>
            <a:ext cx="379260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D450A-FCD4-40C4-BF37-A8CA2C2D6B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669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04EFC-9AE4-47E8-A6F4-BA4FE3883A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360" y="691920"/>
            <a:ext cx="77724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BBADC-92EB-42CF-B38A-DB57E75C11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669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926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040" y="1412640"/>
            <a:ext cx="379260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3868200"/>
            <a:ext cx="37926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1DACB-F88F-4751-A54B-6B1CB243ED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669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9260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040" y="1412640"/>
            <a:ext cx="37926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040" y="3868200"/>
            <a:ext cx="37926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98C9F-369D-4B4C-830C-91C8134616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669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926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040" y="1412640"/>
            <a:ext cx="37926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3868200"/>
            <a:ext cx="77724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CDE9C-F51C-4DE0-93E7-46B64B9608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7920" y="0"/>
            <a:ext cx="9171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5669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5669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360" y="1412640"/>
            <a:ext cx="777240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spcAft>
                <a:spcPts val="550"/>
              </a:spcAft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550"/>
              </a:spcAft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spcAft>
                <a:spcPts val="550"/>
              </a:spcAft>
              <a:buClr>
                <a:srgbClr val="0f32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3" marL="1562040" indent="-228600">
              <a:spcBef>
                <a:spcPts val="550"/>
              </a:spcBef>
              <a:spcAft>
                <a:spcPts val="550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4" marL="1981080" indent="-228600">
              <a:spcBef>
                <a:spcPts val="550"/>
              </a:spcBef>
              <a:spcAft>
                <a:spcPts val="550"/>
              </a:spcAft>
              <a:buClr>
                <a:srgbClr val="4648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5" marL="1981080" indent="-228600"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6" marL="1981080" indent="-228600"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305920" y="640080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965E3-BF3D-4223-ABF4-D2DD0B66AE81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050920" y="6308280"/>
            <a:ext cx="4897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oint UNECE/Eurostat/OECD METIS work session on statistical metadata, Luxembourg, 9 to 11 April 200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9280" y="5556960"/>
            <a:ext cx="1828800" cy="1302120"/>
            <a:chOff x="179280" y="5556960"/>
            <a:chExt cx="1828800" cy="1302120"/>
          </a:xfrm>
        </p:grpSpPr>
        <p:sp>
          <p:nvSpPr>
            <p:cNvPr id="6" name=""/>
            <p:cNvSpPr/>
            <p:nvPr/>
          </p:nvSpPr>
          <p:spPr>
            <a:xfrm>
              <a:off x="179280" y="633852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UNEC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" name="" descr=""/>
            <p:cNvPicPr/>
            <p:nvPr/>
          </p:nvPicPr>
          <p:blipFill>
            <a:blip r:embed="rId3">
              <a:lum bright="66000"/>
            </a:blip>
            <a:stretch/>
          </p:blipFill>
          <p:spPr>
            <a:xfrm flipH="1">
              <a:off x="636120" y="5556960"/>
              <a:ext cx="990360" cy="8506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2209680"/>
            <a:ext cx="9145440" cy="4152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-19080"/>
            <a:ext cx="9164520" cy="68770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5669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55669f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50920" y="5373000"/>
            <a:ext cx="1828800" cy="1302120"/>
            <a:chOff x="250920" y="5373000"/>
            <a:chExt cx="1828800" cy="1302120"/>
          </a:xfrm>
        </p:grpSpPr>
        <p:sp>
          <p:nvSpPr>
            <p:cNvPr id="48" name=""/>
            <p:cNvSpPr/>
            <p:nvPr/>
          </p:nvSpPr>
          <p:spPr>
            <a:xfrm>
              <a:off x="250920" y="615456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UNEC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" name="" descr=""/>
            <p:cNvPicPr/>
            <p:nvPr/>
          </p:nvPicPr>
          <p:blipFill>
            <a:blip r:embed="rId4">
              <a:lum bright="66000"/>
            </a:blip>
            <a:stretch/>
          </p:blipFill>
          <p:spPr>
            <a:xfrm flipH="1">
              <a:off x="707760" y="5373000"/>
              <a:ext cx="990360" cy="850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3492360" y="6021360"/>
            <a:ext cx="165924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f3277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3" marL="1333440" algn="ctr">
              <a:spcBef>
                <a:spcPts val="451"/>
              </a:spcBef>
              <a:spcAft>
                <a:spcPts val="451"/>
              </a:spcAft>
              <a:buClr>
                <a:srgbClr val="464847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4" marL="1752480" algn="ctr">
              <a:spcBef>
                <a:spcPts val="451"/>
              </a:spcBef>
              <a:spcAft>
                <a:spcPts val="451"/>
              </a:spcAft>
              <a:buClr>
                <a:srgbClr val="464847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5" marL="17524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6" marL="17524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unece.org/stats/metis/wiki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79280" y="1125360"/>
            <a:ext cx="86868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5669f"/>
                </a:solidFill>
                <a:latin typeface="Arial"/>
              </a:rPr>
              <a:t>METIS 2008: Status Re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5669f"/>
                </a:solidFill>
                <a:latin typeface="Arial"/>
              </a:rPr>
              <a:t>Outcomes of recent meetings and summary of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84720" y="0"/>
            <a:ext cx="266400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55669f"/>
                </a:solidFill>
                <a:latin typeface="Arial"/>
              </a:rPr>
              <a:t>Recent meetings</a:t>
            </a:r>
            <a:endParaRPr b="1" lang="en-US" sz="2800" spc="-1" strike="noStrike">
              <a:solidFill>
                <a:srgbClr val="55669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7240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CES Bureau; February 2007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Review of the mandate and progress on CMF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Creating Steering Group on METIS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CES Bureau; October 2007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ToR for the Steering Group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Idea of including metadata on CES plenary session in 2008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METIS workshop; July 2007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Part C; Statistical Business Process Cycle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Recommendation for the future work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CES Bureau; February 2008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Final arrangements for the CES plenary session in 2008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BF70D-C78C-416E-82E8-74B99AEEDE8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55669f"/>
                </a:solidFill>
                <a:latin typeface="Arial"/>
              </a:rPr>
              <a:t>Ongoing work</a:t>
            </a:r>
            <a:endParaRPr b="1" lang="en-US" sz="2800" spc="-1" strike="noStrike">
              <a:solidFill>
                <a:srgbClr val="55669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7240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spcAft>
                <a:spcPts val="550"/>
              </a:spcAft>
              <a:buClr>
                <a:srgbClr val="33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333399"/>
                </a:solidFill>
                <a:latin typeface="Arial"/>
              </a:rPr>
              <a:t>Paper for the CES plenary session in 2008: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333399"/>
                </a:solidFill>
                <a:latin typeface="Arial"/>
              </a:rPr>
              <a:t>ECE/CES/2008/3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essage to senior management: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3" marL="1562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a) Metadata are important;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3" marL="1562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b) Metadata must be maintained;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3" marL="1562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c) Metadata systems provide infrastructure for statistical information system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550"/>
              </a:spcAft>
              <a:buClr>
                <a:srgbClr val="33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333399"/>
                </a:solidFill>
                <a:latin typeface="Arial"/>
              </a:rPr>
              <a:t>METIS wiki – case studies: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  <a:hlinkClick r:id="rId1"/>
              </a:rPr>
              <a:t>http://www.unece.org/stats/metis/wiki</a:t>
            </a:r>
            <a:r>
              <a:rPr b="0" lang="en-US" sz="2000" spc="-1" strike="noStrike">
                <a:solidFill>
                  <a:srgbClr val="3b4a6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C2F49-77FF-41D4-A80F-11410A5C12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55669f"/>
                </a:solidFill>
                <a:latin typeface="Arial"/>
              </a:rPr>
              <a:t>Future work</a:t>
            </a:r>
            <a:endParaRPr b="1" lang="en-US" sz="2800" spc="-1" strike="noStrike">
              <a:solidFill>
                <a:srgbClr val="55669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7240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spcAft>
                <a:spcPts val="550"/>
              </a:spcAft>
              <a:buClr>
                <a:srgbClr val="33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Arial"/>
              </a:rPr>
              <a:t>Include metadata advocacy in the METIS Work Programme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550"/>
              </a:spcAft>
              <a:buClr>
                <a:srgbClr val="33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Arial"/>
              </a:rPr>
              <a:t>Continue the exchange of experiences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550"/>
              </a:spcAft>
              <a:buClr>
                <a:srgbClr val="33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Arial"/>
              </a:rPr>
              <a:t>Common Metadata Framework (CMF):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Make Part B a comprehensive reference – which standard for what purpose;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Populate Part D with more examples of good practices in metadata systems implementation.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Solicit more case studies for Part C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Publish Part A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6E1D0-02A6-4D81-ABBE-02BAA56A52C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55669f"/>
                </a:solidFill>
                <a:latin typeface="Arial"/>
              </a:rPr>
              <a:t>Issues from METIS 2007 workshop</a:t>
            </a:r>
            <a:endParaRPr b="1" lang="en-US" sz="2800" spc="-1" strike="noStrike">
              <a:solidFill>
                <a:srgbClr val="55669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13600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spcAft>
                <a:spcPts val="550"/>
              </a:spcAft>
              <a:buClr>
                <a:srgbClr val="33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Common terminology: standardised definition of terms such as “survey”, “data collection”, “statistical activities”, …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333399"/>
                </a:solidFill>
                <a:latin typeface="Arial"/>
              </a:rPr>
              <a:t>Discussion on the SDMX MCV (topic 2 (ii))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550"/>
              </a:spcAft>
              <a:buClr>
                <a:srgbClr val="33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Classification/typology of statistical metadata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333399"/>
                </a:solidFill>
                <a:latin typeface="Arial"/>
              </a:rPr>
              <a:t>Discussion of the WP.7 (topic 2 (ii))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550"/>
              </a:spcAft>
              <a:buClr>
                <a:srgbClr val="33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Generic Statistical Business Process Mod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333399"/>
                </a:solidFill>
                <a:latin typeface="Arial"/>
              </a:rPr>
              <a:t>Discussion of the WP.17 (topic 2 (iii))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2CA0E-3192-4F0B-A569-C4B01DE7F8B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ardner</cp:lastModifiedBy>
  <dcterms:modified xsi:type="dcterms:W3CDTF">2008-04-14T16:14:46Z</dcterms:modified>
  <cp:revision>64</cp:revision>
  <dc:subject/>
  <dc:title>Training course   Statistical metadata: concepts and systems </dc:title>
</cp:coreProperties>
</file>