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A1CA-AA60-4E03-A731-3B838D898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86820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E4A8-258F-4B3A-B6EC-4784C66CC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60FF-70A0-47FA-82E4-1923DD538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1E90-698E-4739-8007-C1900E9A8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0768-1EFA-447D-9110-09D7BABD8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86820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41264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3868200"/>
            <a:ext cx="250236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7481-20F4-42F4-9CA6-554168DB2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EB1B-4BCF-42BB-8D82-269CC1E48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BCF7-6D21-4B12-ABAB-8F8CD6768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42B3-0717-42A7-8AD1-EE4A452FC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ABB3-7C54-43A1-A6BB-A0FF0DDBD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386820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5987-4499-4647-8F63-947296B17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868200"/>
            <a:ext cx="7772400" cy="22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36F9-7C86-4BCA-B37C-BAD8FADC7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0"/>
            <a:ext cx="9171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669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spcAft>
                <a:spcPts val="550"/>
              </a:spcAft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spcAft>
                <a:spcPts val="55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spcAft>
                <a:spcPts val="550"/>
              </a:spcAft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215F-3076-4253-90EE-CD89E9A5F06B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0920" y="6308280"/>
            <a:ext cx="4897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int UNECE/Eurostat/OECD METIS work session on statistical metadata, Luxembourg, 9 to 11 April 200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9280" y="5556960"/>
            <a:ext cx="1828800" cy="1302120"/>
            <a:chOff x="179280" y="5556960"/>
            <a:chExt cx="1828800" cy="1302120"/>
          </a:xfrm>
        </p:grpSpPr>
        <p:sp>
          <p:nvSpPr>
            <p:cNvPr id="6" name=""/>
            <p:cNvSpPr/>
            <p:nvPr/>
          </p:nvSpPr>
          <p:spPr>
            <a:xfrm>
              <a:off x="179280" y="63385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UNE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3">
              <a:lum bright="66000"/>
            </a:blip>
            <a:stretch/>
          </p:blipFill>
          <p:spPr>
            <a:xfrm flipH="1">
              <a:off x="636120" y="5556960"/>
              <a:ext cx="990360" cy="8506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5440" cy="415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-19080"/>
            <a:ext cx="916452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66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5669f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50920" y="5373000"/>
            <a:ext cx="1828800" cy="1302120"/>
            <a:chOff x="250920" y="5373000"/>
            <a:chExt cx="1828800" cy="1302120"/>
          </a:xfrm>
        </p:grpSpPr>
        <p:sp>
          <p:nvSpPr>
            <p:cNvPr id="48" name=""/>
            <p:cNvSpPr/>
            <p:nvPr/>
          </p:nvSpPr>
          <p:spPr>
            <a:xfrm>
              <a:off x="250920" y="61545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UNE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4">
              <a:lum bright="66000"/>
            </a:blip>
            <a:stretch/>
          </p:blipFill>
          <p:spPr>
            <a:xfrm flipH="1">
              <a:off x="707760" y="5373000"/>
              <a:ext cx="990360" cy="85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492360" y="6021360"/>
            <a:ext cx="165924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f32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spcAft>
                <a:spcPts val="451"/>
              </a:spcAft>
              <a:buClr>
                <a:srgbClr val="46484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spcAft>
                <a:spcPts val="451"/>
              </a:spcAft>
              <a:buClr>
                <a:srgbClr val="464847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nece.org/stats/metis/wiki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9280" y="1125360"/>
            <a:ext cx="86868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669f"/>
                </a:solidFill>
                <a:latin typeface="Arial"/>
              </a:rPr>
              <a:t>METIS 2008: Status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5669f"/>
                </a:solidFill>
                <a:latin typeface="Arial"/>
              </a:rPr>
              <a:t>Outcomes of recent meetings and summary of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0"/>
            <a:ext cx="2664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55669f"/>
                </a:solidFill>
                <a:latin typeface="Arial"/>
              </a:rPr>
              <a:t>Recent meetings</a:t>
            </a: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ES Bureau; February 2007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Review of the mandate and progress on CMF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reating Steering Group on METI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ES Bureau; October 2007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ToR for the Steering Group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Idea of including metadata on CES plenary session in 2008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ETIS workshop; July 2007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art C; Statistical Business Process Cycle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Recommendation for the future work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ES Bureau; February 2008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Final arrangements for the CES plenary session in 2008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9A72-3925-497D-838F-5F8AC1BEBE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55669f"/>
                </a:solidFill>
                <a:latin typeface="Arial"/>
              </a:rPr>
              <a:t>Ongoing work</a:t>
            </a: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333399"/>
                </a:solidFill>
                <a:latin typeface="Arial"/>
              </a:rPr>
              <a:t>Paper for the CES plenary session in 2008: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ECE/CES/2008/3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ssage to senior management: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a) Metadata are important;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3" marL="1562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b) Metadata must be maintained;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3" marL="1562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c) Metadata systems provide infrastructure for statistical information system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333399"/>
                </a:solidFill>
                <a:latin typeface="Arial"/>
              </a:rPr>
              <a:t>METIS wiki – case studies: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www.unece.org/stats/metis/wiki</a:t>
            </a:r>
            <a:r>
              <a:rPr b="0" lang="en-US" sz="2000" spc="-1" strike="noStrike">
                <a:solidFill>
                  <a:srgbClr val="3b4a6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1268-011D-4792-8892-67EF795871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55669f"/>
                </a:solidFill>
                <a:latin typeface="Arial"/>
              </a:rPr>
              <a:t>Future work</a:t>
            </a: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Include metadata advocacy in the METIS Work Programme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Continue the exchange of experience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Common Metadata Framework (CMF):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ake Part B a comprehensive reference – which standard for what purpose;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opulate Part D with more examples of good practices in metadata systems implementation.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olicit more case studies for Part C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ublish Part A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2151-91A8-447C-B1BA-2A013374EF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55669f"/>
                </a:solidFill>
                <a:latin typeface="Arial"/>
              </a:rPr>
              <a:t>Issues from METIS 2007 workshop</a:t>
            </a:r>
            <a:endParaRPr b="1" lang="en-US" sz="2800" spc="-1" strike="noStrike">
              <a:solidFill>
                <a:srgbClr val="55669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ommon terminology: standardised definition of terms such as “survey”, “data collection”, “statistical activities”, …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Discussion on the SDMX MCV (topic 2 (ii))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lassification/typology of statistical metadata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Discussion of the WP.7 (topic 2 (ii))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Generic Statistical Business Process Mod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Discussion of the WP.17 (topic 2 (iii))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616A-DA12-445D-871F-A8B29ADAA2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rdner</cp:lastModifiedBy>
  <dcterms:modified xsi:type="dcterms:W3CDTF">2008-04-14T16:14:46Z</dcterms:modified>
  <cp:revision>64</cp:revision>
  <dc:subject/>
  <dc:title>Training course   Statistical metadata: concepts and systems </dc:title>
</cp:coreProperties>
</file>