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5CDC-C69A-496F-AC72-1ED8B440B530}" type="slidenum">
              <a:rPr b="0" lang="nb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CBD-FEA0-455B-8B70-50BE25B4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5BF-7700-4651-810E-C9241C61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642F-CF91-43D8-B615-EFAF2198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F7C-3887-4690-84D3-2F36CC28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320-7E62-472C-B931-61FE835F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F20-C318-405B-B7F8-A6B064C7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450-5C6F-4158-8AF4-72624EDF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C2BD-83EA-446A-B96A-C221D124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068D-8644-496F-985B-99E4DF6F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BAC-6C9F-413F-AB2A-463841BD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55BF-3CDB-4F45-996C-86218B2F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AD7C-833C-40D9-97D7-4677C13F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66DD-4740-433D-8B0C-072FBAA6B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TISTICS NORWAY (SS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Jenny Linnerud and Anne Gro Hust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Joint UNECE/Eurostat/OECD work se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on statistical metadata (MET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Luxembourg 9-11 Ap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atistics Norway’s strategy documents emphasi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etadata systems contribute to simplifying, improving and re-use of work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ata that are disseminated and exchanged must in addition to an agreed structure have sufficient metadata to give them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 of metadata systems are a pre-condition for the development of efficient data capture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1. Variables documentation system Vard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otal of 12690 man-hours have been used in development with ca. 70% of resources from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6 was the last year in the development phase for the Vardok-project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otal of 476 man-hours from standards were used in 2007 for continued harmonisation of names and definitions, and training of personnel in the subject matter divis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94 IT man-hours were used in 2007 for maintenance and minor changes to the system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2. Metadata portal (man-hou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698508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Service library for metadata systems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under development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urpose of this project i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a library of services for the master systems Vardok, Datadok, Metadb and Stab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 a framework for the description and formulation of SSB's metadata based on international metadata models (e.g. Neuchâtel) and standards (e.g. ISO/IEC 1117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igate how RDF (Resource Description Framework) can be integrated into SSB's data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ject began in 2005 and will end in 2008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IT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 strategy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atistics Norway's technical solutions sha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uilt mainly upon the principles of service-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rchite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ll solutions for external users and most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internal users sh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ave support for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n standards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component based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ave support for the packing in of data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unctions in the form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(web servic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Arial"/>
              </a:rPr>
              <a:t>System archit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 architects are introduced for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the following areas in the top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architecture: data collec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adata and dissemin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 architects have a responsibility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sure that IT development projects ar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e with the IT strategy.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ndards and for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ur classifications system is an implementation of Neuchâtel Terminology Model Part 1 Classifications v2.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ur variables system is a partial implementation of Neuchâtel Terminology Model Part 2 Variab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e are considering using DDI in connection with micro-data for researc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have used definitions of key metadata concepts from SDMX MCV where possible.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295280" y="1066680"/>
            <a:ext cx="6413760" cy="5585040"/>
            <a:chOff x="1295280" y="1066680"/>
            <a:chExt cx="6413760" cy="5585040"/>
          </a:xfrm>
        </p:grpSpPr>
        <p:sp>
          <p:nvSpPr>
            <p:cNvPr id="96" name=""/>
            <p:cNvSpPr/>
            <p:nvPr/>
          </p:nvSpPr>
          <p:spPr>
            <a:xfrm>
              <a:off x="1295280" y="1066680"/>
              <a:ext cx="6413760" cy="558504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01400" y="1074240"/>
              <a:ext cx="2241000" cy="149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01400" y="1725120"/>
              <a:ext cx="224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01400" y="4985280"/>
              <a:ext cx="2241000" cy="1631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23720" y="5667480"/>
              <a:ext cx="2258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01400" y="5123520"/>
              <a:ext cx="216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Data El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48680" y="1074240"/>
              <a:ext cx="2056680" cy="149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48680" y="1725120"/>
              <a:ext cx="2064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66400" y="5015520"/>
              <a:ext cx="2034360" cy="162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9080" y="5151960"/>
              <a:ext cx="210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Value 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42760" y="2215800"/>
              <a:ext cx="2005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9800" y="2567880"/>
              <a:ext cx="1440" cy="24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01720" y="2540880"/>
              <a:ext cx="1080" cy="244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42760" y="6131160"/>
              <a:ext cx="212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61560" y="1725120"/>
              <a:ext cx="70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0..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40920" y="2215800"/>
              <a:ext cx="72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1.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91800" y="281556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1.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01720" y="4443840"/>
              <a:ext cx="58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0..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72680" y="2704320"/>
              <a:ext cx="57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1.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89800" y="4334400"/>
              <a:ext cx="61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0..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61560" y="5667480"/>
              <a:ext cx="70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0..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88520" y="6131160"/>
              <a:ext cx="58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1.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61560" y="2215800"/>
              <a:ext cx="119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+Hav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45360" y="1725120"/>
              <a:ext cx="139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+Specify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20280" y="3114000"/>
              <a:ext cx="167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+Represented  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13880" y="4201200"/>
              <a:ext cx="154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+Represen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28720" y="2950560"/>
              <a:ext cx="162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+Expressed 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22000" y="4308840"/>
              <a:ext cx="135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+Express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98120" y="5559480"/>
              <a:ext cx="149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+Represen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42760" y="6131160"/>
              <a:ext cx="161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+Represented 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22000" y="1182240"/>
              <a:ext cx="216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Data Element Conce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48680" y="1182240"/>
              <a:ext cx="210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Conceptual 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752480" y="1905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Vard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5160" y="1828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Sta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733920"/>
            <a:ext cx="9144000" cy="144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21920" y="365760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Datadok &amp; Meta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SO/IEC 1117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etadata registries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SBs mast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Ro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ubject matter statistic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urve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enior advisor in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IT-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Web desig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Metadata management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Development of new metadata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1 senior advisor in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1 system architect for metadata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2 IT-develo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Management of metadata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IT-services and IT-infrast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874800"/>
            <a:ext cx="8532720" cy="5983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03600" y="0"/>
            <a:ext cx="568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Organisatio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0" y="3716280"/>
            <a:ext cx="863640" cy="5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3211560"/>
            <a:ext cx="863640" cy="5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candanav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disseminatio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Neuchât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tatistical Open 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Metadata p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contact 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2 hours of an eight day course for all new employees 3-6 months after 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etadata forum ca. twice a year – open for all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pproval process for system development documents – IT-developers and project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vited presentations to all three levels of the 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gular meetings with middl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p management support is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etadata strategy, IT strategy, 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tep-wise development of metadata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ser involvement, regular deliv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ntinous follow-up of progress an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ecessary and unnecessary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net as motivational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clude metadata systems in the production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pture as early as possible and re-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82080"/>
            <a:ext cx="777240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800" spc="-1" strike="noStrike">
                <a:solidFill>
                  <a:srgbClr val="333399"/>
                </a:solidFill>
                <a:latin typeface="Arial"/>
              </a:rPr>
              <a:t>The En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66884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99"/>
                </a:solidFill>
                <a:latin typeface="Arial"/>
              </a:rPr>
              <a:t>Overall aim of SSB’s metadata strateg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 create a comprehensive metadata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at will contribute to an efficient production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issemination of statistics, and at the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mprove the quality of the stat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ur metadata should be updated in on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nd accessible everyw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333399"/>
                </a:solidFill>
                <a:latin typeface="Arial"/>
              </a:rPr>
              <a:t>Metadata systems </a:t>
            </a:r>
            <a:br>
              <a:rPr sz="4000"/>
            </a:br>
            <a:r>
              <a:rPr b="0" lang="nb-NO" sz="4000" spc="-1" strike="noStrike">
                <a:solidFill>
                  <a:srgbClr val="333399"/>
                </a:solidFill>
                <a:latin typeface="Arial"/>
              </a:rPr>
              <a:t>completed befor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dok – archive file descrip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bas - standard classifications data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adb - metadatabase for event history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Bank - dissemination data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333399"/>
                </a:solidFill>
                <a:latin typeface="Arial"/>
              </a:rPr>
              <a:t>Metadata projects </a:t>
            </a:r>
            <a:br>
              <a:rPr sz="4000"/>
            </a:br>
            <a:r>
              <a:rPr b="0" lang="nb-NO" sz="4000" spc="-1" strike="noStrike">
                <a:solidFill>
                  <a:srgbClr val="333399"/>
                </a:solidFill>
                <a:latin typeface="Arial"/>
              </a:rPr>
              <a:t>completed after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ation of key metadata concept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rdok - variables documentation system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out the statistics as a content management system instead of just a docu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adata portal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Current metadata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editing tool for our classification databas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alysis of the end-to-end creation and re-use of metadata in one production cycle for one statistic.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ter metadatabase for questionnaires.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rvice library for master metadata systems.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tadata intranet portal.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plan system for projects, products and processes.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access to micro-data for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03280" y="3068640"/>
            <a:ext cx="1441440" cy="79200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nb-NO" sz="1600" spc="-1" strike="noStrike">
                <a:solidFill>
                  <a:srgbClr val="000000"/>
                </a:solidFill>
                <a:latin typeface="Comic Sans MS"/>
              </a:rPr>
              <a:t>Plan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Comic Sans MS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nb-NO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3068640"/>
            <a:ext cx="1441440" cy="79200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nb-NO" sz="1600" spc="-1" strike="noStrike">
                <a:solidFill>
                  <a:srgbClr val="000000"/>
                </a:solidFill>
                <a:latin typeface="Comic Sans MS"/>
              </a:rPr>
              <a:t>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51280" y="3068640"/>
            <a:ext cx="1441440" cy="79200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nb-NO" sz="1600" spc="-1" strike="noStrike">
                <a:solidFill>
                  <a:srgbClr val="000000"/>
                </a:solidFill>
                <a:latin typeface="Comic Sans MS"/>
              </a:rPr>
              <a:t>Coll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76720" y="3068640"/>
            <a:ext cx="1441440" cy="79200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nb-NO" sz="16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3068640"/>
            <a:ext cx="1441440" cy="79200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nb-NO" sz="1600" spc="-1" strike="noStrike">
                <a:solidFill>
                  <a:srgbClr val="000000"/>
                </a:solidFill>
                <a:latin typeface="Comic Sans MS"/>
              </a:rPr>
              <a:t>Analy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24720" y="3068640"/>
            <a:ext cx="1441440" cy="79200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sse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4221000"/>
            <a:ext cx="856944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Comic Sans MS"/>
              </a:rPr>
              <a:t>Methodology and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2421000"/>
            <a:ext cx="4754520" cy="576360"/>
          </a:xfrm>
          <a:custGeom>
            <a:avLst/>
            <a:gdLst>
              <a:gd name="textAreaLeft" fmla="*/ 0 w 4754520"/>
              <a:gd name="textAreaRight" fmla="*/ 4754880 w 47545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178920" y="2420280"/>
            <a:ext cx="6193080" cy="576360"/>
          </a:xfrm>
          <a:custGeom>
            <a:avLst/>
            <a:gdLst>
              <a:gd name="textAreaLeft" fmla="*/ 0 w 6193080"/>
              <a:gd name="textAreaRight" fmla="*/ 6193440 w 61930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2421000"/>
            <a:ext cx="44640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Comic Sans MS"/>
              </a:rPr>
              <a:t>Quality measurement and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068640"/>
            <a:ext cx="1441440" cy="79200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nb-NO" sz="1600" spc="-1" strike="noStrike">
                <a:solidFill>
                  <a:srgbClr val="000000"/>
                </a:solidFill>
                <a:latin typeface="Comic Sans MS"/>
              </a:rPr>
              <a:t>N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1840" y="3063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7640" y="2852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95640" y="2421000"/>
            <a:ext cx="280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0400" y="189000"/>
            <a:ext cx="785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333399"/>
                </a:solidFill>
                <a:latin typeface="Arial"/>
              </a:rPr>
              <a:t>Statistical business proce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333399"/>
                </a:solidFill>
                <a:latin typeface="Arial"/>
              </a:rPr>
              <a:t>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Metadata used/created </a:t>
            </a: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at each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Pla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lan and Design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Check what is already available in all metadatasystems. Ideally update all these but in practise this happens as the final step in the process if time perm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Develop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Update the metadatabase for questionnaires and rules. Service library for metadata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ollect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Metadatabase for questionnaires and rules. Metad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Service library for metadata systems. Metadatabase for rules. Stab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nalyse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We use commercial software such as SAS. Metadata support could be b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semin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Metadata portal, About the statistics, About the data collections, StatBank. Service library for metadata systems (Stabas, Vardok, Datadok, Metadb). Archival of flat files in Datad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3:38:21Z</dcterms:created>
  <dc:creator>Jenny Linnerud</dc:creator>
  <dc:description/>
  <dc:language>en-US</dc:language>
  <cp:lastModifiedBy>Jenny Linnerud</cp:lastModifiedBy>
  <dcterms:modified xsi:type="dcterms:W3CDTF">2008-04-07T10:43:07Z</dcterms:modified>
  <cp:revision>16</cp:revision>
  <dc:subject/>
  <dc:title>CASE STUDY: STATISTICS NORW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37333489</vt:r8>
  </property>
  <property fmtid="{D5CDD505-2E9C-101B-9397-08002B2CF9AE}" pid="3" name="_AuthorEmail">
    <vt:lpwstr>Jenny.Linnerud@ssb.no</vt:lpwstr>
  </property>
  <property fmtid="{D5CDD505-2E9C-101B-9397-08002B2CF9AE}" pid="4" name="_AuthorEmailDisplayName">
    <vt:lpwstr>Linnerud, Jenny</vt:lpwstr>
  </property>
  <property fmtid="{D5CDD505-2E9C-101B-9397-08002B2CF9AE}" pid="5" name="_EmailSubject">
    <vt:lpwstr> METIS-presentation/Statistics Norway/Case Study WP18</vt:lpwstr>
  </property>
  <property fmtid="{D5CDD505-2E9C-101B-9397-08002B2CF9AE}" pid="6" name="_NewReviewCycle">
    <vt:lpwstr/>
  </property>
</Properties>
</file>