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30BF-EABA-40B0-B9D2-F9586562B1FD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ACD104-B081-4A7A-AEE0-B7B159FFC6C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eneric Statistical Business Process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520" y="57150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IS Work Session, Luxembourg, 9-11 April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need a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istics New Zealand model as a starting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7C888-27BA-4047-B0B5-DD9B704BE5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 we need a mode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different terminology for the steps in the statistical prod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caus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rminology for the statistical production process will help standardization of metadata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foreseen in work on Part C of the Common Metadata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DB397-6E6B-4598-833F-E0A2ECC863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atistics New Zealand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7208640" cy="50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58C1C-662E-4E1C-B61B-1FCE8653A3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ey fe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s different steps of the statistical prod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s to statistical production regardless of the dat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ven steps (two more prop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levels of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untries are adopting similar (or same)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36AB6-9E7D-4BAA-A845-7318EAFE7C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 – if approv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comments from METIS participants by the end of Ma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CE to prepare a new draft in consultation with the Steer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aft circulated for comments in autum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02EBF-7B31-465A-8DCF-00D1B694FD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uch a model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ll three levels of de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top level terminology be proposed as a SDMX cross-domain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D07F-B2A3-4FDB-AD9C-D32B46A993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3-25T10:13:25Z</dcterms:modified>
  <cp:revision>27</cp:revision>
  <dc:subject/>
  <dc:title>Quality Framework</dc:title>
</cp:coreProperties>
</file>