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FF01-40E5-475D-88CA-62A22AE9FA3E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90920" y="63244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- UNECE Statistica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8EA5E88-D2D8-4FDE-A6C5-B95CB496E0A5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Generic Statistical Business Process Mode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80520" y="5715000"/>
            <a:ext cx="8153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IS Work Session, Luxembourg, 9-11 April 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we need a mod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tistics New Zealand model as a starting poi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19AB6E-BD7D-44DD-85D6-D981FA0512A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 do we need a model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use different terminology for the steps in the statistical produc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cause con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terminology for the statistical production process will help standardization of metadata termi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foreseen in work on Part C of the Common Metadata Frame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B9CBA-1834-45E5-BD0F-27250A6FBF9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Statistics New Zealand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1257480"/>
            <a:ext cx="7208640" cy="504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B34CDA-BAC1-4AA1-B07E-579BA1A5058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Key featu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es different steps of the statistical produc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pplies to statistical production regardless of the data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ven steps (two more propo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levels of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ther countries are adopting similar (or same)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99A78-A815-481C-BCA7-3B0F0F59C0D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xt Steps – if approv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comments from METIS participants by the end of May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ECE to prepare a new draft in consultation with the Steer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draft circulated for comments in autumn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52AA9-2030-40AF-B413-31AC2C002AC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en iss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such a model usefu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need all three levels of detai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the top level terminology be proposed as a SDMX cross-domain concep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CD54C9-84E8-4D50-9979-CADE09328AC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09:52:23Z</dcterms:created>
  <dc:creator>vale</dc:creator>
  <dc:description/>
  <dc:language>en-US</dc:language>
  <cp:lastModifiedBy>Vale</cp:lastModifiedBy>
  <dcterms:modified xsi:type="dcterms:W3CDTF">2008-03-25T10:13:25Z</dcterms:modified>
  <cp:revision>27</cp:revision>
  <dc:subject/>
  <dc:title>Quality Framework</dc:title>
</cp:coreProperties>
</file>