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adata requirements for archiving structured dat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ice Born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istic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oint UNECE/Eurostat/OECD Work Session on Statistical Metadata (9-11 April 200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2200" y="4797360"/>
            <a:ext cx="2448000" cy="1727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2200" y="1268280"/>
            <a:ext cx="2449440" cy="345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istration statu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8720" y="3357720"/>
            <a:ext cx="0" cy="21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6560" y="5734080"/>
            <a:ext cx="2159280" cy="647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6560" y="3860640"/>
            <a:ext cx="2159280" cy="64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068640"/>
            <a:ext cx="215892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1484280"/>
            <a:ext cx="358560" cy="3024360"/>
          </a:xfrm>
          <a:custGeom>
            <a:avLst/>
            <a:gdLst>
              <a:gd name="textAreaLeft" fmla="*/ 0 w 358560"/>
              <a:gd name="textAreaRight" fmla="*/ 129600 w 35856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5734080"/>
            <a:ext cx="21589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4869000"/>
            <a:ext cx="21589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6560" y="4005360"/>
            <a:ext cx="21589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3141720"/>
            <a:ext cx="21589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2276640"/>
            <a:ext cx="2158920" cy="50292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1413000"/>
            <a:ext cx="2160720" cy="50472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27640" y="198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27640" y="285264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27640" y="371628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427640" y="5445000"/>
            <a:ext cx="0" cy="21600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4869000"/>
            <a:ext cx="217440" cy="136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4005360"/>
            <a:ext cx="144360" cy="50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148428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128"/>
                </a:lnTo>
                <a:cubicBezTo>
                  <a:pt x="10800" y="17028"/>
                  <a:pt x="5400" y="17928"/>
                  <a:pt x="0" y="17928"/>
                </a:cubicBezTo>
                <a:cubicBezTo>
                  <a:pt x="5400" y="17928"/>
                  <a:pt x="10800" y="18828"/>
                  <a:pt x="10800" y="197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1268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gistr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4200" y="4724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2560" y="4797360"/>
            <a:ext cx="1728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sponsible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1989000"/>
            <a:ext cx="235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mpleteness, accu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herence to quality and terminological description standar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3640" y="2924280"/>
            <a:ext cx="21589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3280" y="299736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5280" y="4869000"/>
            <a:ext cx="2158920" cy="5032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2920" y="515772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0560" y="544500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5373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ubm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43640" y="1989000"/>
            <a:ext cx="21589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052640"/>
            <a:ext cx="21589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451640" y="256536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51640" y="162864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rporate Memory: Data and metadata for archive and disposal pha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203640" y="4005360"/>
            <a:ext cx="2517480" cy="2501280"/>
            <a:chOff x="3203640" y="4005360"/>
            <a:chExt cx="2517480" cy="2501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3203640" y="4005360"/>
              <a:ext cx="2517480" cy="250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875040" y="4005360"/>
              <a:ext cx="117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39640" y="1989000"/>
            <a:ext cx="1447920" cy="80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24000" y="1989000"/>
            <a:ext cx="1447920" cy="80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0" y="1989000"/>
            <a:ext cx="1447560" cy="80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35640" y="1989000"/>
            <a:ext cx="1447920" cy="80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Administ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4941720"/>
            <a:ext cx="1800000" cy="8017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ean Ma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4005360"/>
            <a:ext cx="1800000" cy="8017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data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5940360" y="4220640"/>
            <a:ext cx="935280" cy="576360"/>
          </a:xfrm>
          <a:prstGeom prst="leftArrow">
            <a:avLst>
              <a:gd name="adj1" fmla="val 50000"/>
              <a:gd name="adj2" fmla="val 40568"/>
            </a:avLst>
          </a:prstGeom>
          <a:solidFill>
            <a:srgbClr val="99cc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3284640"/>
            <a:ext cx="2303640" cy="58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for archive and dis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93080" y="4149720"/>
            <a:ext cx="1447560" cy="801720"/>
          </a:xfrm>
          <a:prstGeom prst="rect">
            <a:avLst/>
          </a:prstGeom>
          <a:solidFill>
            <a:srgbClr val="cc99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9840" y="47451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7435080" y="5102640"/>
            <a:ext cx="755640" cy="576360"/>
          </a:xfrm>
          <a:prstGeom prst="leftArrow">
            <a:avLst>
              <a:gd name="adj1" fmla="val 50000"/>
              <a:gd name="adj2" fmla="val 32776"/>
            </a:avLst>
          </a:prstGeom>
          <a:solidFill>
            <a:srgbClr val="99cc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4360" y="5877000"/>
            <a:ext cx="1447920" cy="801720"/>
          </a:xfrm>
          <a:prstGeom prst="rect">
            <a:avLst/>
          </a:prstGeom>
          <a:solidFill>
            <a:srgbClr val="cc99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520000" y="3248640"/>
            <a:ext cx="790560" cy="576360"/>
          </a:xfrm>
          <a:prstGeom prst="leftArrow">
            <a:avLst>
              <a:gd name="adj1" fmla="val 50000"/>
              <a:gd name="adj2" fmla="val 34291"/>
            </a:avLst>
          </a:prstGeom>
          <a:solidFill>
            <a:srgbClr val="99cc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DB business model – archive focu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1125360"/>
            <a:ext cx="1944720" cy="719280"/>
          </a:xfrm>
          <a:prstGeom prst="roundRect">
            <a:avLst>
              <a:gd name="adj" fmla="val 16667"/>
            </a:avLst>
          </a:prstGeom>
          <a:solidFill>
            <a:srgbClr val="bbe0e3">
              <a:alpha val="48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2421000"/>
            <a:ext cx="1944720" cy="790560"/>
          </a:xfrm>
          <a:prstGeom prst="roundRect">
            <a:avLst>
              <a:gd name="adj" fmla="val 16667"/>
            </a:avLst>
          </a:prstGeom>
          <a:solidFill>
            <a:srgbClr val="bbe0e3">
              <a:alpha val="48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3860640"/>
            <a:ext cx="1944720" cy="792360"/>
          </a:xfrm>
          <a:prstGeom prst="roundRect">
            <a:avLst>
              <a:gd name="adj" fmla="val 16667"/>
            </a:avLst>
          </a:prstGeom>
          <a:solidFill>
            <a:srgbClr val="beb9e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5229360"/>
            <a:ext cx="1944720" cy="790560"/>
          </a:xfrm>
          <a:prstGeom prst="roundRect">
            <a:avLst>
              <a:gd name="adj" fmla="val 16667"/>
            </a:avLst>
          </a:prstGeom>
          <a:solidFill>
            <a:srgbClr val="bbe0e3">
              <a:alpha val="49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860640"/>
            <a:ext cx="1944720" cy="79056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42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5229360"/>
            <a:ext cx="1944720" cy="790560"/>
          </a:xfrm>
          <a:prstGeom prst="roundRect">
            <a:avLst>
              <a:gd name="adj" fmla="val 16667"/>
            </a:avLst>
          </a:prstGeom>
          <a:solidFill>
            <a:srgbClr val="bbe0e3">
              <a:alpha val="49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197000"/>
            <a:ext cx="1944720" cy="790560"/>
          </a:xfrm>
          <a:prstGeom prst="roundRect">
            <a:avLst>
              <a:gd name="adj" fmla="val 16667"/>
            </a:avLst>
          </a:prstGeom>
          <a:solidFill>
            <a:srgbClr val="ffccff">
              <a:alpha val="47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14842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3860640"/>
            <a:ext cx="2087640" cy="790560"/>
          </a:xfrm>
          <a:prstGeom prst="roundRect">
            <a:avLst>
              <a:gd name="adj" fmla="val 16667"/>
            </a:avLst>
          </a:prstGeom>
          <a:solidFill>
            <a:srgbClr val="ffccff">
              <a:alpha val="6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435280" y="4221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5229360"/>
            <a:ext cx="1944720" cy="792000"/>
          </a:xfrm>
          <a:prstGeom prst="roundRect">
            <a:avLst>
              <a:gd name="adj" fmla="val 16667"/>
            </a:avLst>
          </a:prstGeom>
          <a:solidFill>
            <a:srgbClr val="bbe0e3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435280" y="558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364000" y="465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421000"/>
            <a:ext cx="1944720" cy="861840"/>
          </a:xfrm>
          <a:prstGeom prst="roundRect">
            <a:avLst>
              <a:gd name="adj" fmla="val 16667"/>
            </a:avLst>
          </a:prstGeom>
          <a:solidFill>
            <a:srgbClr val="bbe0e3">
              <a:alpha val="49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5589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763280" y="3500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2276640"/>
            <a:ext cx="2232000" cy="1006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fil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arch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292720" y="321264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view of the integrated metadatabase (IMDB) in the survey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chive and dispos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data requirements for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flipV="1">
            <a:off x="900000" y="3644640"/>
            <a:ext cx="50328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34960" y="2276640"/>
            <a:ext cx="1447920" cy="609480"/>
          </a:xfrm>
          <a:prstGeom prst="rect">
            <a:avLst/>
          </a:prstGeom>
          <a:solidFill>
            <a:srgbClr val="ff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4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4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11480" y="2276640"/>
            <a:ext cx="1447920" cy="609480"/>
          </a:xfrm>
          <a:prstGeom prst="rect">
            <a:avLst/>
          </a:prstGeom>
          <a:solidFill>
            <a:srgbClr val="ff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4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40"/>
                </a:solidFill>
                <a:latin typeface="Arial"/>
              </a:rPr>
              <a:t>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2276640"/>
            <a:ext cx="1447560" cy="609480"/>
          </a:xfrm>
          <a:prstGeom prst="rect">
            <a:avLst/>
          </a:prstGeom>
          <a:solidFill>
            <a:srgbClr val="ff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4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64160" y="2276640"/>
            <a:ext cx="1447920" cy="609480"/>
          </a:xfrm>
          <a:prstGeom prst="rect">
            <a:avLst/>
          </a:prstGeom>
          <a:solidFill>
            <a:srgbClr val="ff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40"/>
                </a:solidFill>
                <a:latin typeface="Arial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4221000"/>
            <a:ext cx="676944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7600" y="4076640"/>
            <a:ext cx="91440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l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01960" y="4076640"/>
            <a:ext cx="91440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6320" y="4076640"/>
            <a:ext cx="91440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30680" y="4076640"/>
            <a:ext cx="91440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ab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5400" y="4076640"/>
            <a:ext cx="91440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ubl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34960" y="4670280"/>
            <a:ext cx="1447920" cy="80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11480" y="4670280"/>
            <a:ext cx="1447920" cy="80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4670280"/>
            <a:ext cx="1447560" cy="80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64160" y="4670280"/>
            <a:ext cx="1447920" cy="80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Administ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3" idx="2"/>
            <a:endCxn id="77" idx="0"/>
          </p:cNvCxnSpPr>
          <p:nvPr/>
        </p:nvCxnSpPr>
        <p:spPr>
          <a:xfrm flipH="1">
            <a:off x="3358800" y="2898360"/>
            <a:ext cx="215352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8" idx="0"/>
            <a:endCxn id="73" idx="2"/>
          </p:cNvCxnSpPr>
          <p:nvPr/>
        </p:nvCxnSpPr>
        <p:spPr>
          <a:xfrm flipV="1">
            <a:off x="4673160" y="2898000"/>
            <a:ext cx="83916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9" idx="0"/>
            <a:endCxn id="73" idx="2"/>
          </p:cNvCxnSpPr>
          <p:nvPr/>
        </p:nvCxnSpPr>
        <p:spPr>
          <a:xfrm flipH="1" flipV="1">
            <a:off x="5511600" y="2898000"/>
            <a:ext cx="47664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6" idx="0"/>
            <a:endCxn id="71" idx="2"/>
          </p:cNvCxnSpPr>
          <p:nvPr/>
        </p:nvCxnSpPr>
        <p:spPr>
          <a:xfrm flipV="1">
            <a:off x="2044440" y="2898000"/>
            <a:ext cx="11484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7" idx="0"/>
            <a:endCxn id="71" idx="2"/>
          </p:cNvCxnSpPr>
          <p:nvPr/>
        </p:nvCxnSpPr>
        <p:spPr>
          <a:xfrm flipH="1" flipV="1">
            <a:off x="2158560" y="2898000"/>
            <a:ext cx="120096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6" idx="0"/>
            <a:endCxn id="72" idx="2"/>
          </p:cNvCxnSpPr>
          <p:nvPr/>
        </p:nvCxnSpPr>
        <p:spPr>
          <a:xfrm flipV="1">
            <a:off x="2044800" y="2898000"/>
            <a:ext cx="179136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7" idx="0"/>
            <a:endCxn id="72" idx="2"/>
          </p:cNvCxnSpPr>
          <p:nvPr/>
        </p:nvCxnSpPr>
        <p:spPr>
          <a:xfrm flipV="1">
            <a:off x="3358800" y="2898000"/>
            <a:ext cx="47700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72" idx="2"/>
          </p:cNvCxnSpPr>
          <p:nvPr/>
        </p:nvCxnSpPr>
        <p:spPr>
          <a:xfrm flipH="1" flipV="1">
            <a:off x="3835080" y="2898000"/>
            <a:ext cx="83880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79" idx="0"/>
            <a:endCxn id="74" idx="2"/>
          </p:cNvCxnSpPr>
          <p:nvPr/>
        </p:nvCxnSpPr>
        <p:spPr>
          <a:xfrm flipV="1">
            <a:off x="5987880" y="2898000"/>
            <a:ext cx="120096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0" idx="0"/>
            <a:endCxn id="74" idx="2"/>
          </p:cNvCxnSpPr>
          <p:nvPr/>
        </p:nvCxnSpPr>
        <p:spPr>
          <a:xfrm flipH="1" flipV="1">
            <a:off x="7187760" y="2898000"/>
            <a:ext cx="11520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3203640" y="1844640"/>
            <a:ext cx="29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40"/>
                </a:solidFill>
                <a:latin typeface="Arial"/>
              </a:rPr>
              <a:t>Data Warehou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71840" y="5508720"/>
            <a:ext cx="23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Operational Data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79" idx="0"/>
            <a:endCxn id="72" idx="2"/>
          </p:cNvCxnSpPr>
          <p:nvPr/>
        </p:nvCxnSpPr>
        <p:spPr>
          <a:xfrm flipH="1" flipV="1">
            <a:off x="3834720" y="2898000"/>
            <a:ext cx="2153160" cy="1166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1116000" y="476280"/>
            <a:ext cx="712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MDB in the survey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076640"/>
            <a:ext cx="91440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284640"/>
            <a:ext cx="8569080" cy="360360"/>
          </a:xfrm>
          <a:prstGeom prst="rect">
            <a:avLst/>
          </a:prstGeom>
          <a:solidFill>
            <a:srgbClr val="ccffcc"/>
          </a:solidFill>
          <a:ln w="25560">
            <a:solidFill>
              <a:srgbClr val="4da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235320"/>
            <a:ext cx="33847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720" y="4076640"/>
            <a:ext cx="1187280" cy="504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rchiv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is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213000"/>
            <a:ext cx="143964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sses for archiving and dispos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8. Archiving and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.1 Manage archiv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rchival format, format data, load data, record event dates, links to metadata registry (IM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.2 Preserve data and associated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ata/metadata, record archive request, transfer data/meta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.3 Dispose data and associated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ata to dispose, remove from archive,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ypes of metadata for archiving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ructured data (1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dministrativ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ntaining and keeping track of the archived data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nk to an IMDB record – SDDS or unique datafile 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ructural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ame of the data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format – recor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orage media,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ypes of metadata for archiving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ructured data (2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urvey and definitional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in the IM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, questions, respons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data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(ISO 111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documentation – interviewer guide, cod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189000"/>
            <a:ext cx="3960720" cy="30956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260280"/>
            <a:ext cx="266364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3500280"/>
            <a:ext cx="287964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645000"/>
            <a:ext cx="2663640" cy="29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620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189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nistrativ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620640"/>
            <a:ext cx="201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052640"/>
            <a:ext cx="201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1484280"/>
            <a:ext cx="201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844640"/>
            <a:ext cx="201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2205000"/>
            <a:ext cx="201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2565360"/>
            <a:ext cx="201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2924280"/>
            <a:ext cx="201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1700280"/>
            <a:ext cx="1008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836640"/>
            <a:ext cx="194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24360" y="1197000"/>
            <a:ext cx="194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1557360"/>
            <a:ext cx="1943280" cy="27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1916280"/>
            <a:ext cx="194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2276640"/>
            <a:ext cx="194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2637000"/>
            <a:ext cx="194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068640"/>
            <a:ext cx="194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4" idx="3"/>
            <a:endCxn id="127" idx="3"/>
          </p:cNvCxnSpPr>
          <p:nvPr/>
        </p:nvCxnSpPr>
        <p:spPr>
          <a:xfrm>
            <a:off x="7667640" y="979560"/>
            <a:ext cx="2160" cy="1080000"/>
          </a:xfrm>
          <a:prstGeom prst="curvedConnector5">
            <a:avLst>
              <a:gd name="adj1" fmla="val 14400000"/>
              <a:gd name="adj2" fmla="val 49983"/>
              <a:gd name="adj3" fmla="val 14400000"/>
            </a:avLst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619280" y="3573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22100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4005360"/>
            <a:ext cx="2089440" cy="21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 desig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de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osure contro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ions and seasonal adjust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995640" y="2060640"/>
            <a:ext cx="1728720" cy="252072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lg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3789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4221000"/>
            <a:ext cx="20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926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Element 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724280"/>
            <a:ext cx="1511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5084640"/>
            <a:ext cx="1512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5516640"/>
            <a:ext cx="2016000" cy="2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5877000"/>
            <a:ext cx="201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6237360"/>
            <a:ext cx="201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0" idx="3"/>
            <a:endCxn id="113" idx="3"/>
          </p:cNvCxnSpPr>
          <p:nvPr/>
        </p:nvCxnSpPr>
        <p:spPr>
          <a:xfrm>
            <a:off x="7667640" y="3211200"/>
            <a:ext cx="451440" cy="1910520"/>
          </a:xfrm>
          <a:prstGeom prst="curvedConnector5">
            <a:avLst>
              <a:gd name="adj1" fmla="val 146448"/>
              <a:gd name="adj2" fmla="val 50000"/>
              <a:gd name="adj3" fmla="val 146448"/>
            </a:avLst>
          </a:prstGeom>
          <a:ln w="38160">
            <a:solidFill>
              <a:srgbClr val="66ff33"/>
            </a:solidFill>
            <a:miter/>
            <a:headEnd len="med" type="triangle" w="lg"/>
            <a:tailEnd len="med" type="triangle" w="lg"/>
          </a:ln>
        </p:spPr>
      </p:cxnSp>
      <p:sp>
        <p:nvSpPr>
          <p:cNvPr id="145" name=""/>
          <p:cNvSpPr/>
          <p:nvPr/>
        </p:nvSpPr>
        <p:spPr>
          <a:xfrm>
            <a:off x="4427640" y="3284640"/>
            <a:ext cx="100800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3284640"/>
            <a:ext cx="0" cy="2156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05264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052640"/>
            <a:ext cx="1223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ward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989000"/>
            <a:ext cx="1223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781360"/>
            <a:ext cx="1223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692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092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119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92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21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0920" y="306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29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476280"/>
            <a:ext cx="194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4653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763080" y="451944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niste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20:01:22Z</dcterms:created>
  <dc:creator>bornali</dc:creator>
  <dc:description/>
  <dc:language>en-US</dc:language>
  <cp:lastModifiedBy>estat-ampere</cp:lastModifiedBy>
  <dcterms:modified xsi:type="dcterms:W3CDTF">2008-04-10T14:30:12Z</dcterms:modified>
  <cp:revision>25</cp:revision>
  <dc:subject/>
  <dc:title>Slide 1</dc:title>
</cp:coreProperties>
</file>