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268280"/>
            <a:ext cx="74628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268280"/>
            <a:ext cx="74628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D95-27E4-4DB7-AEB2-6C829ED68FC0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etadata Management at the FSO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| Introducing an end-to-end approach to sustain modernisation projects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bien Perr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Home Affairs FDHA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Statistical Office F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927000" y="387360"/>
            <a:ext cx="197964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Home Affairs FDHA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Statistical Office F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27000" y="387360"/>
            <a:ext cx="1979640" cy="75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fabien.perrot@bfs.admin.ch" TargetMode="External"/><Relationship Id="rId2" Type="http://schemas.openxmlformats.org/officeDocument/2006/relationships/hyperlink" Target="mailto:codam@bfs.admin.ch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Metadata Management at the FSO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722840"/>
            <a:ext cx="742968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an end-to-end approach to sustain modernisation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IS, 9-11 April 2008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w metadata management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upport additional metadata types as required by integrated production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low an end-to-end processing of metadata in one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ccessible to all metadata stakeholders in the organisation, with emphasis on decentralised content crea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ptimisation of metadata modelling (versioning, etc.) in the same modelling paradigm (Neuchâtel Terminology, MetaNe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IT development to ease integration with other databa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r further inform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abien Perro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bien.perrot@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DAM (Corporate Data Manageme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dam@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147680" y="4797360"/>
            <a:ext cx="77169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urrent situation &amp; experiences made with CODAM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odernisation projects at F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hanges in data proces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incentive for metadata centralis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ganisational framework for metadata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entralisation vs. decentralisation, roles of stakehold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etadata valid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metadata management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 situation - COD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irst iteration of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porate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a (and metadata)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2720" y="2851200"/>
            <a:ext cx="1460520" cy="55548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iti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5000" y="2851200"/>
            <a:ext cx="1460520" cy="55548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29080" y="2851200"/>
            <a:ext cx="1458720" cy="555480"/>
          </a:xfrm>
          <a:custGeom>
            <a:avLst/>
            <a:gdLst>
              <a:gd name="textAreaLeft" fmla="*/ 0 w 1458720"/>
              <a:gd name="textAreaRight" fmla="*/ 1459080 w 14587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1360" y="2851200"/>
            <a:ext cx="1459080" cy="55548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5440" y="2851200"/>
            <a:ext cx="1458720" cy="555480"/>
          </a:xfrm>
          <a:custGeom>
            <a:avLst/>
            <a:gdLst>
              <a:gd name="textAreaLeft" fmla="*/ 0 w 1458720"/>
              <a:gd name="textAreaRight" fmla="*/ 1459080 w 14587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formation Enrich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05640" y="2851200"/>
            <a:ext cx="1462320" cy="55548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3483000"/>
            <a:ext cx="0" cy="22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89880" y="3483000"/>
            <a:ext cx="1440" cy="22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74840" y="3483000"/>
            <a:ext cx="0" cy="22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59440" y="3483000"/>
            <a:ext cx="1138320" cy="113976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Central metadata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(CO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87880" y="4243320"/>
            <a:ext cx="377640" cy="378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27200" y="4116240"/>
            <a:ext cx="379440" cy="378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73480" y="4622760"/>
            <a:ext cx="378000" cy="378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3480" y="3736800"/>
            <a:ext cx="379440" cy="3794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5" idx="4"/>
            <a:endCxn id="101" idx="2"/>
          </p:cNvCxnSpPr>
          <p:nvPr/>
        </p:nvCxnSpPr>
        <p:spPr>
          <a:xfrm>
            <a:off x="4552560" y="3927600"/>
            <a:ext cx="5068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2" idx="4"/>
            <a:endCxn id="105" idx="2"/>
          </p:cNvCxnSpPr>
          <p:nvPr/>
        </p:nvCxnSpPr>
        <p:spPr>
          <a:xfrm flipV="1">
            <a:off x="3665160" y="3927240"/>
            <a:ext cx="5086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4" idx="4"/>
            <a:endCxn id="101" idx="2"/>
          </p:cNvCxnSpPr>
          <p:nvPr/>
        </p:nvCxnSpPr>
        <p:spPr>
          <a:xfrm flipV="1">
            <a:off x="4551120" y="4052520"/>
            <a:ext cx="50868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556000" y="4653000"/>
            <a:ext cx="12826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Decentralised metadata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6960" y="3610080"/>
            <a:ext cx="1139760" cy="8856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(CO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16960" y="4748040"/>
            <a:ext cx="1139760" cy="1140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Statistics 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2160" y="3862440"/>
            <a:ext cx="506160" cy="3808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720" y="4564080"/>
            <a:ext cx="14097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Concept doc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2" idx="3"/>
            <a:endCxn id="103" idx="2"/>
          </p:cNvCxnSpPr>
          <p:nvPr/>
        </p:nvCxnSpPr>
        <p:spPr>
          <a:xfrm>
            <a:off x="1768320" y="4052520"/>
            <a:ext cx="75960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6" idx="3"/>
            <a:endCxn id="117" idx="2"/>
          </p:cNvCxnSpPr>
          <p:nvPr/>
        </p:nvCxnSpPr>
        <p:spPr>
          <a:xfrm>
            <a:off x="1768320" y="5318280"/>
            <a:ext cx="1139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262160" y="5129280"/>
            <a:ext cx="506160" cy="3794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4"/>
            <a:endCxn id="111" idx="2"/>
          </p:cNvCxnSpPr>
          <p:nvPr/>
        </p:nvCxnSpPr>
        <p:spPr>
          <a:xfrm>
            <a:off x="3286080" y="5318280"/>
            <a:ext cx="443160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2906640" y="5129280"/>
            <a:ext cx="379440" cy="377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1" idx="4"/>
            <a:endCxn id="111" idx="0"/>
          </p:cNvCxnSpPr>
          <p:nvPr/>
        </p:nvCxnSpPr>
        <p:spPr>
          <a:xfrm>
            <a:off x="6197400" y="4052520"/>
            <a:ext cx="208980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160800" y="3610080"/>
            <a:ext cx="506160" cy="3794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92600" y="5381640"/>
            <a:ext cx="506520" cy="3794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2" idx="3"/>
            <a:endCxn id="120" idx="1"/>
          </p:cNvCxnSpPr>
          <p:nvPr/>
        </p:nvCxnSpPr>
        <p:spPr>
          <a:xfrm flipV="1">
            <a:off x="1768320" y="3799800"/>
            <a:ext cx="139320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1" idx="4"/>
            <a:endCxn id="110" idx="2"/>
          </p:cNvCxnSpPr>
          <p:nvPr/>
        </p:nvCxnSpPr>
        <p:spPr>
          <a:xfrm>
            <a:off x="6197760" y="4052880"/>
            <a:ext cx="1519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184720" y="5356080"/>
            <a:ext cx="202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ect output for elements not yet integrated in central metadata system (excep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03" idx="4"/>
            <a:endCxn id="105" idx="2"/>
          </p:cNvCxnSpPr>
          <p:nvPr/>
        </p:nvCxnSpPr>
        <p:spPr>
          <a:xfrm flipV="1">
            <a:off x="2906280" y="3926880"/>
            <a:ext cx="126756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DAM - Key lea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etadata centralisation using a cross-domain metadata model is possi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entralisation does not (necessarily) mean harmonisation. Harmonisation requires centralis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tegration of central system with production processes and production systems is critical to achieve suc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the long term, only end-to-end approaches to metadata are likely to answer needs (create once, reuse many tim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ernisation projects at FS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tegrated statistical production system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ggregation of related Statistical Activities in coherent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euse existing data and metadata (variables, terms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se of administrative registers if poss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armonisation of collection methods, processing and outpu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nder the supervision of a unified system mana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entralisation of new metadata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tegrated systems require new metadat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ocess definitions and monito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ariable derivation and transformation, from source (questionnaire, register) to published out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pulations and sampling techniq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istory changes in classif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tandard quality indicators for Data Collections and Vari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sational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dentify metadata stakeholders in FSO, model interactions and define roles in metadata process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efinition of tasks to be done b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central unit in charge of metadata harmonis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eads of integrated statistical systems (intermediate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ecentralised metadata produc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oal: ensure coherence and quality of metadata created by decentralised producers in the central metadata syst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19280" y="836640"/>
          <a:ext cx="74898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836640"/>
                    <a:ext cx="7489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4000" y="692280"/>
            <a:ext cx="43196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sational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adata valid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alidation checkpoints and areas of autonomy for metadata produc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0440" y="3676680"/>
            <a:ext cx="1800" cy="13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6560" y="3927600"/>
            <a:ext cx="200844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a of autonom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nalysis and description of end statistical produ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37000" y="3927600"/>
            <a:ext cx="20080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a of autonomy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data collection and variable trans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0920" y="3927600"/>
            <a:ext cx="125424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Area of autonomy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(Conce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96000" y="3676680"/>
            <a:ext cx="1440" cy="13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31200" y="367668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33680" y="5054760"/>
            <a:ext cx="12556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8880" y="5054760"/>
            <a:ext cx="1253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02280" y="5054760"/>
            <a:ext cx="1256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31200" y="3927600"/>
            <a:ext cx="15048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is froz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 corrected after its initial publ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70360" y="4302000"/>
            <a:ext cx="250920" cy="2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05560" y="4302000"/>
            <a:ext cx="250920" cy="2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4302000"/>
            <a:ext cx="250920" cy="2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4560" y="3051000"/>
            <a:ext cx="1460520" cy="55584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iti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66840" y="3051000"/>
            <a:ext cx="1460520" cy="55584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0920" y="3051000"/>
            <a:ext cx="1459080" cy="55584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13200" y="3051000"/>
            <a:ext cx="1459080" cy="55584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37280" y="3051000"/>
            <a:ext cx="1459080" cy="55584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Information Enrich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051000"/>
            <a:ext cx="1462320" cy="55584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0" y="0"/>
                </a:lnTo>
                <a:lnTo>
                  <a:pt x="21600" y="10800"/>
                </a:lnTo>
                <a:lnTo>
                  <a:pt x="18630" y="21600"/>
                </a:lnTo>
                <a:lnTo>
                  <a:pt x="0" y="21600"/>
                </a:lnTo>
                <a:lnTo>
                  <a:pt x="2970" y="108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9:24:59Z</dcterms:created>
  <dc:creator>Fabien Perrot</dc:creator>
  <dc:description/>
  <dc:language>en-US</dc:language>
  <cp:lastModifiedBy>Fabien Perrot</cp:lastModifiedBy>
  <dcterms:modified xsi:type="dcterms:W3CDTF">2008-04-02T14:33:23Z</dcterms:modified>
  <cp:revision>50</cp:revision>
  <dc:subject/>
  <dc:title>Diapositive 1</dc:title>
</cp:coreProperties>
</file>