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866-01B0-4786-B534-D3796B273DB4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etadata Management at the FSO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| Introducing an end-to-end approach to sustain modernisation projects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bien Perr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fabien.perrot@bfs.admin.ch" TargetMode="External"/><Relationship Id="rId2" Type="http://schemas.openxmlformats.org/officeDocument/2006/relationships/hyperlink" Target="mailto:codam@bfs.admin.ch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etadata Management at the FSO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722840"/>
            <a:ext cx="742968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an end-to-end approach to sustain modernisati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IS, 9-11 April 2008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w metadata management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pport additional metadata types as required by integrated production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low an end-to-end processing of metadata in one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ccessible to all metadata stakeholders in the organisation, with emphasis on decentralised content crea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timisation of metadata modelling (versioning, etc.) in the same modelling paradigm (Neuchâtel Terminology, MetaNe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IT development to ease integration with other datab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further in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abien Perr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bien.perrot@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DAM (Corporate Data Managem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dam@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47680" y="4797360"/>
            <a:ext cx="77169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urrent situation &amp; experiences made with CODAM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dernisation projects at F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anges in data proces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incentive for metadata central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ganisational framework for metadata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entralisation vs. decentralisation, roles of stakehold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tadata 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metadata management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 situation - COD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irst iteration of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porat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a (and metadata)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2720" y="2851200"/>
            <a:ext cx="1460520" cy="55548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iti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5000" y="2851200"/>
            <a:ext cx="1460520" cy="55548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29080" y="2851200"/>
            <a:ext cx="1458720" cy="55548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1360" y="2851200"/>
            <a:ext cx="1459080" cy="55548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5440" y="2851200"/>
            <a:ext cx="1458720" cy="55548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formation Enrich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5640" y="2851200"/>
            <a:ext cx="1462320" cy="55548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4830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89880" y="3483000"/>
            <a:ext cx="144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4840" y="34830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59440" y="3483000"/>
            <a:ext cx="1138320" cy="11397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entral metadata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(CO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4243320"/>
            <a:ext cx="37764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27200" y="4116240"/>
            <a:ext cx="37944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73480" y="4622760"/>
            <a:ext cx="37800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3480" y="3736800"/>
            <a:ext cx="379440" cy="379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5" idx="4"/>
            <a:endCxn id="101" idx="2"/>
          </p:cNvCxnSpPr>
          <p:nvPr/>
        </p:nvCxnSpPr>
        <p:spPr>
          <a:xfrm>
            <a:off x="4552560" y="3927600"/>
            <a:ext cx="5068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2" idx="4"/>
            <a:endCxn id="105" idx="2"/>
          </p:cNvCxnSpPr>
          <p:nvPr/>
        </p:nvCxnSpPr>
        <p:spPr>
          <a:xfrm flipV="1">
            <a:off x="3665160" y="3927240"/>
            <a:ext cx="5086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4" idx="4"/>
            <a:endCxn id="101" idx="2"/>
          </p:cNvCxnSpPr>
          <p:nvPr/>
        </p:nvCxnSpPr>
        <p:spPr>
          <a:xfrm flipV="1">
            <a:off x="4551120" y="4052520"/>
            <a:ext cx="5086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556000" y="4653000"/>
            <a:ext cx="1282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Decentralised metadata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6960" y="3610080"/>
            <a:ext cx="1139760" cy="8856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(CO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6960" y="4748040"/>
            <a:ext cx="1139760" cy="1140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tatistics 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2160" y="3862440"/>
            <a:ext cx="506160" cy="380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720" y="4564080"/>
            <a:ext cx="1409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oncept doc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2" idx="3"/>
            <a:endCxn id="103" idx="2"/>
          </p:cNvCxnSpPr>
          <p:nvPr/>
        </p:nvCxnSpPr>
        <p:spPr>
          <a:xfrm>
            <a:off x="1768320" y="4052520"/>
            <a:ext cx="7596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6" idx="3"/>
            <a:endCxn id="117" idx="2"/>
          </p:cNvCxnSpPr>
          <p:nvPr/>
        </p:nvCxnSpPr>
        <p:spPr>
          <a:xfrm>
            <a:off x="1768320" y="5318280"/>
            <a:ext cx="1139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262160" y="5129280"/>
            <a:ext cx="50616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4"/>
            <a:endCxn id="111" idx="2"/>
          </p:cNvCxnSpPr>
          <p:nvPr/>
        </p:nvCxnSpPr>
        <p:spPr>
          <a:xfrm>
            <a:off x="3286080" y="5318280"/>
            <a:ext cx="443160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906640" y="5129280"/>
            <a:ext cx="379440" cy="377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1" idx="4"/>
            <a:endCxn id="111" idx="0"/>
          </p:cNvCxnSpPr>
          <p:nvPr/>
        </p:nvCxnSpPr>
        <p:spPr>
          <a:xfrm>
            <a:off x="6197400" y="4052520"/>
            <a:ext cx="208980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160800" y="3610080"/>
            <a:ext cx="50616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2600" y="5381640"/>
            <a:ext cx="50652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2" idx="3"/>
            <a:endCxn id="120" idx="1"/>
          </p:cNvCxnSpPr>
          <p:nvPr/>
        </p:nvCxnSpPr>
        <p:spPr>
          <a:xfrm flipV="1">
            <a:off x="1768320" y="3799800"/>
            <a:ext cx="13932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1" idx="4"/>
            <a:endCxn id="110" idx="2"/>
          </p:cNvCxnSpPr>
          <p:nvPr/>
        </p:nvCxnSpPr>
        <p:spPr>
          <a:xfrm>
            <a:off x="6197760" y="4052880"/>
            <a:ext cx="1519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184720" y="5356080"/>
            <a:ext cx="202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 output for elements not yet integrated in central metadata system (excep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03" idx="4"/>
            <a:endCxn id="105" idx="2"/>
          </p:cNvCxnSpPr>
          <p:nvPr/>
        </p:nvCxnSpPr>
        <p:spPr>
          <a:xfrm flipV="1">
            <a:off x="2906280" y="3926880"/>
            <a:ext cx="126756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DAM - Key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tadata centralisation using a cross-domain metadata model is poss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entralisation does not (necessarily) mean harmonisation. Harmonisation requires centralis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ion of central system with production processes and production systems is critical to achieve suc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the long term, only end-to-end approaches to metadata are likely to answer needs (create once, reuse many tim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ernisation projects at FS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ed statistical production system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ggregation of related Statistical Activities in coherent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use existing data and metadata (variables, term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se of administrative registers if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armonisation of collection methods, processing and outpu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nder the supervision of a unified system 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ntralisation of new metadata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ed systems require new metadat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ocess definitions and monito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ariable derivation and transformation, from source (questionnaire, register) to published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pulations and sampling techni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istory changes in classif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ndard quality indicators for Data Collections and Vari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al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dentify metadata stakeholders in FSO, model interactions and define roles in metadata process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finition of tasks to be done b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central unit in charge of metadata harmon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ads of integrated statistical systems (intermediate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centralised metadata produc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oal: ensure coherence and quality of metadata created by decentralised producers in the central metadata syst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836640"/>
          <a:ext cx="7489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7489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692280"/>
            <a:ext cx="4319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al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adata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alidation checkpoints and areas of autonomy for metadata produc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0440" y="3676680"/>
            <a:ext cx="180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6560" y="3927600"/>
            <a:ext cx="20084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 of autonom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nalysis and description of end statistical produ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7000" y="3927600"/>
            <a:ext cx="200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 of autonom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ata collection and variable trans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0920" y="3927600"/>
            <a:ext cx="12542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Area of autonomy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(Conce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96000" y="3676680"/>
            <a:ext cx="144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31200" y="367668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3680" y="5054760"/>
            <a:ext cx="1255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8880" y="5054760"/>
            <a:ext cx="125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02280" y="5054760"/>
            <a:ext cx="1256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31200" y="3927600"/>
            <a:ext cx="15048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is froz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 corrected after its initial publ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703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055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4560" y="3051000"/>
            <a:ext cx="1460520" cy="55584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iti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66840" y="3051000"/>
            <a:ext cx="1460520" cy="55584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092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1320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728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formation Enrich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051000"/>
            <a:ext cx="1462320" cy="55584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4:59Z</dcterms:created>
  <dc:creator>Fabien Perrot</dc:creator>
  <dc:description/>
  <dc:language>en-US</dc:language>
  <cp:lastModifiedBy>Fabien Perrot</cp:lastModifiedBy>
  <dcterms:modified xsi:type="dcterms:W3CDTF">2008-04-02T14:33:23Z</dcterms:modified>
  <cp:revision>50</cp:revision>
  <dc:subject/>
  <dc:title>Diapositive 1</dc:title>
</cp:coreProperties>
</file>