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E29-06B1-4F03-8DFF-8CB1B540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48D-0417-4473-8630-981D931A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420-BBFC-4D36-AAB4-8852C293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62F-74B9-430E-8039-C6A485F2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68B-D8AB-441A-91D7-31FD941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3C2-A13D-4BA3-AF5F-61B28C9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E9C-E2CC-4BAF-8B19-83ACC7C9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DDF-3950-40F3-8CB7-64389CE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225-0513-4BF8-BAAC-6C2F43D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C06-87C0-4370-87AD-A43E7F1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87C-EC41-418C-9D26-3609AD43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B75-2366-4FAD-B8F7-0B75A7A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CED8-B457-433C-99F4-7DC89E57E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rther Developments in the Terminological Theory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nk F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arance 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niel Gill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US Bureau of Labo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type is an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, Concepts hav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s, Variables,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ep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omatically create variables and associated allow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ontologies for statistical surve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types (computational model for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riables (semantical model for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to tie these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xi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Data (ag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st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x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ferenc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mperature ˚C (Celsi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mperature ˚K (Kelv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Data Hav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ct, Non-numeric, Cardi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minal +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al + 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termine Equality, Cardinality; No Arithm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termine Equality, Cardinality, Order;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ity; Addition /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ity; Multiplication /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 with Statistical Data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se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racterizing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 = Element of Val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Notion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ity Differs Across Data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Integer Vers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a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ity – i.e. compar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er built from natural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ural number built from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ignation of (points to)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ept description stored in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stical Data (aga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fore, has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populatio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erties of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erminant (P) versus Determinable (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determined (observed) about respo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fication of a Concep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o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m Gruber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ept system with an associated computatio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rance and Gillman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 space =&gt; Concep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ertions and Characterizing operations =&gt; Comput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9:40:27Z</dcterms:created>
  <dc:creator>BLS User</dc:creator>
  <dc:description/>
  <dc:language>en-US</dc:language>
  <cp:lastModifiedBy>BLS User</cp:lastModifiedBy>
  <dcterms:modified xsi:type="dcterms:W3CDTF">2008-04-08T20:37:28Z</dcterms:modified>
  <cp:revision>16</cp:revision>
  <dc:subject/>
  <dc:title>Further Developments in the Terminological Theory of Data</dc:title>
</cp:coreProperties>
</file>