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AE29-CE18-4CE5-9834-B0178017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4C1B-F996-4149-BF3F-0D8286D4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0DD6-E962-44CB-89D3-9E29ADD6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EA43-399F-4B28-9C41-4376C81B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5A73-95A7-4311-B1E4-CB24B032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490-D8AB-4E25-995D-5D7FDBA7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0D49-9C94-4F24-902D-13D8957C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56D6-7988-45FC-85EF-80B8AE23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51F6-DF79-4E26-AC38-35BFBD22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10C8-4408-41BE-A808-8C63ED35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7593-6499-4463-980D-D576E2A4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25FE-2D97-494D-8534-A5A8EF15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230D-B03D-4681-9184-B75B5E7C6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urther Developments in the Terminological Theory of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rank Fa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Farance I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aniel Gill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US Bureau of Labor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nt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tatype is an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so, Concepts have 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aracter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alues, Variables,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cep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utatio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tomatically create variables and associated allowed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nt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wo ontologies for statistical survey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atatypes (computational model for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ariables (semantical model for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to tie these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tistic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xi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ta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tistical Data (ag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nt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atistica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tegor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x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rd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eference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emperature ˚C (Celsi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emperature ˚K (Kelv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xi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l Data Have 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act, Non-numeric, Cardi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rd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minal +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ume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rval + Approx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m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termine Equality, Cardinality; No Arithm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rd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termine Equality, Cardinality, Order; Aver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quality; Addition / 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quality; Multiplication /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ata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are with Statistical Data Ty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ser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xi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aracterizing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alue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alue = Element of Valu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are Notion of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quality Differs Across Data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Integer Versus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s a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quality – i.e. compare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ger built from natural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atural number built from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signation of (points to)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cept description stored in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atistical Data (agai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refore, has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t population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perties of character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terminant (P) versus Determinable (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is determined (observed) about respo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nt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ecification of a Concep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mon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m Gruber,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cept system with an associated computation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rance and Gillman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alue space =&gt; Concep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sertions and Characterizing operations =&gt; Computatio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9:40:27Z</dcterms:created>
  <dc:creator>BLS User</dc:creator>
  <dc:description/>
  <dc:language>en-US</dc:language>
  <cp:lastModifiedBy>BLS User</cp:lastModifiedBy>
  <dcterms:modified xsi:type="dcterms:W3CDTF">2008-04-08T20:37:28Z</dcterms:modified>
  <cp:revision>16</cp:revision>
  <dc:subject/>
  <dc:title>Further Developments in the Terminological Theory of Data</dc:title>
</cp:coreProperties>
</file>