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E9B-69AD-4E07-9C8C-AB0AE476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412992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E37-0A22-4BC6-952B-2DB3E5BE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12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74D-0274-47DC-8188-C199BE9D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1984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492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1984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492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2C8-F4A7-44F3-9145-2BE15A3F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3312-7841-44EC-8DE4-97965116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F654-2038-47D3-B61E-7E59939C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24FE-45E9-423F-99D7-AA4C494A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2578-F15A-4289-84B9-FAECCCA1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B315-955F-473A-8425-0F9810F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699840"/>
            <a:ext cx="6551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46C2-A34E-4134-B798-652F3674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9D5E-5DFD-4D3C-B22B-37EFC542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06E-533E-4B6F-A492-9B9AC78E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6212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2EB1-6F24-4D1C-BC8D-5DEA5A98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2D71-FD8F-4E2B-83F9-313D6BA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04760" y="412992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A665-57FA-4763-8BCC-4384BCFC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6212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C651-BC05-43BE-AC9D-F74D3826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1984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492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0476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1984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492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86EF-03FD-4AEA-8633-D38AA9D5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8ED-3B79-4DA6-8824-FEB0B83D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DA4-1598-43A5-A86D-143C4975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B2D-A7BD-49E5-B129-046453A2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699840"/>
            <a:ext cx="6551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4F7-33D0-4652-B59A-8ED4516A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0BD-4EC8-4AA6-8C71-0817C3A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12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837-B793-4446-A922-95779A8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BE7-4AC3-4BD7-8E30-3D7A3C17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3480" indent="-185760">
              <a:lnSpc>
                <a:spcPct val="93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371600" indent="-22860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789200" indent="-22860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208240" indent="-22860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20824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20824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594882-B010-49D3-9E42-4BD274D5150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8680" y="5715000"/>
            <a:ext cx="5158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782933-4473-4AAF-9D38-9E7502920C2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8680" y="5715000"/>
            <a:ext cx="5158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63640" y="699840"/>
            <a:ext cx="655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General requirements for the soundness of metadata model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63640" y="1980720"/>
            <a:ext cx="65534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Tjalling Gelsem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Statistics Netherlan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636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hy confusion is ba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92360" y="2421000"/>
          <a:ext cx="655164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65516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34920" y="54900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he logic of</a:t>
            </a:r>
            <a:br>
              <a:rPr sz="3600"/>
            </a:b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lassification structur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1981080"/>
            <a:ext cx="65516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0760" y="2133720"/>
            <a:ext cx="65516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identify synonymous categ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maintain backward compat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916360" y="3789360"/>
          <a:ext cx="4263840" cy="17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789360"/>
                    <a:ext cx="426384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Adding two categor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0760" y="2125800"/>
            <a:ext cx="65516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Reading &amp; Biking : Econom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Biking &amp; Shopping : Rela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71640" y="3803760"/>
          <a:ext cx="4426200" cy="17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803760"/>
                    <a:ext cx="442620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But what about these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03280" y="3789360"/>
          <a:ext cx="6265800" cy="17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626580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120760" y="1773360"/>
            <a:ext cx="65516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Group : synonymous with Outdoor (no confu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Piano playing : not backward compa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2364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Avoid junk (if possibl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Avoid confusion (if possibl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Classification structures are Boolean algebr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4920" y="585720"/>
            <a:ext cx="6553080" cy="6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General requi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Completeness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No junk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No confusion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The logic of classification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Leisure activities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Concluding remar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636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General ide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95320" y="2349360"/>
          <a:ext cx="80694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2349360"/>
                    <a:ext cx="80694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lassification structur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95320" y="2349360"/>
          <a:ext cx="80694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2349360"/>
                    <a:ext cx="80694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I. Incompleten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5320" y="2349360"/>
          <a:ext cx="80694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2349360"/>
                    <a:ext cx="80694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II. Jun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00000" y="2060640"/>
          <a:ext cx="80647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80647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III. Confu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2349360"/>
          <a:ext cx="8064720" cy="27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8064720" cy="27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4920" y="43920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lassification structures: jun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03240" y="2162160"/>
          <a:ext cx="806148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2162160"/>
                    <a:ext cx="80614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hy junk is ba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63640" y="2708280"/>
          <a:ext cx="65516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708280"/>
                    <a:ext cx="65516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rteld Braaksma</dc:creator>
  <dc:description/>
  <dc:language>en-US</dc:language>
  <cp:lastModifiedBy>CBS</cp:lastModifiedBy>
  <dcterms:modified xsi:type="dcterms:W3CDTF">2008-04-03T09:35:14Z</dcterms:modified>
  <cp:revision>13</cp:revision>
  <dc:subject/>
  <dc:title>Architectuur HEcS</dc:title>
</cp:coreProperties>
</file>