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A800-0CE6-4B28-97F1-BD779951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1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4129920"/>
            <a:ext cx="6551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1C90-235E-498F-BFC9-16A332F5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62120" y="198108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412992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62120" y="412992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D626-E6AB-42FE-9AC3-BDC3AB4D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2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19840" y="1981080"/>
            <a:ext cx="21092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34920" y="1981080"/>
            <a:ext cx="21092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4129920"/>
            <a:ext cx="21092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19840" y="4129920"/>
            <a:ext cx="21092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34920" y="4129920"/>
            <a:ext cx="21092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88F-6330-46C1-A4AF-358C812E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E8F3-B1B8-477B-8B32-90E83076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1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F45D-E8DD-4CB6-9449-C9EE91B3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1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800D-DC15-4F2D-B3D1-3EA2DA19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1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62120" y="1981080"/>
            <a:ext cx="31971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5D0E-B741-4E3C-8389-0C0A1DFE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CF75-C58B-4E07-BA82-8B682C0F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699840"/>
            <a:ext cx="6551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8707-3F28-4D4A-AA37-27120941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62120" y="1981080"/>
            <a:ext cx="31971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04760" y="412992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9E3C-AF82-4190-B010-8F2020BB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1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BE4B-B11A-4F0C-B063-86A60F88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1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62120" y="198108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62120" y="412992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062B-2991-4951-AB21-B3D831BA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62120" y="198108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04760" y="4129920"/>
            <a:ext cx="6551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60BD-D856-40E6-AF9C-746F432A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1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04760" y="4129920"/>
            <a:ext cx="6551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4EED-7D08-47BE-A9AD-9DD74A7B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62120" y="198108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04760" y="412992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62120" y="412992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DD4A-D683-4E3A-AC63-14A432DC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2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19840" y="1981080"/>
            <a:ext cx="21092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34920" y="1981080"/>
            <a:ext cx="21092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04760" y="4129920"/>
            <a:ext cx="21092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19840" y="4129920"/>
            <a:ext cx="21092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34920" y="4129920"/>
            <a:ext cx="21092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523F-69BB-49F1-8B56-43109BD1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1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A8EC-26C7-4D92-9AE3-B51AF389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1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62120" y="1981080"/>
            <a:ext cx="31971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BD35-FD5E-4EB5-9131-4B6549BE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8548-42B1-4AD5-8645-C6A91CB8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699840"/>
            <a:ext cx="6551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A014-9F53-446A-8A33-ED2EAE2E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62120" y="1981080"/>
            <a:ext cx="31971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412992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446A-29CF-4816-B137-00B18FC4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1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2120" y="198108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62120" y="412992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2019-0069-4AE6-B119-B00046E0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2120" y="1981080"/>
            <a:ext cx="31971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4129920"/>
            <a:ext cx="6551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66C5-CCB2-4F8B-A254-B80141FD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6998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1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7280" indent="-2872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3480" indent="-185760">
              <a:lnSpc>
                <a:spcPct val="93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371600" indent="-22860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789200" indent="-22860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208240" indent="-22860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20824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20824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20B88D-BF37-43C6-A52F-D749D3C72F6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3716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8680" y="5715000"/>
            <a:ext cx="51588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A8D6D29-9C30-4C89-9B9E-3D3551B1755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28680" y="5715000"/>
            <a:ext cx="5158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63640" y="699840"/>
            <a:ext cx="655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60320"/>
                <a:tab algn="l" pos="1522440"/>
                <a:tab algn="l" pos="2286000"/>
                <a:tab algn="l" pos="3046320"/>
                <a:tab algn="l" pos="3808440"/>
                <a:tab algn="l" pos="4572000"/>
                <a:tab algn="l" pos="5332320"/>
                <a:tab algn="l" pos="6094440"/>
                <a:tab algn="l" pos="6858000"/>
                <a:tab algn="l" pos="7618320"/>
                <a:tab algn="l" pos="8380440"/>
                <a:tab algn="l" pos="9144000"/>
                <a:tab algn="l" pos="9904320"/>
                <a:tab algn="l" pos="1066644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General requirements for the soundness of metadata model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63640" y="1980720"/>
            <a:ext cx="65534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760320"/>
                <a:tab algn="l" pos="1522440"/>
                <a:tab algn="l" pos="2286000"/>
                <a:tab algn="l" pos="3046320"/>
                <a:tab algn="l" pos="3808440"/>
                <a:tab algn="l" pos="4572000"/>
                <a:tab algn="l" pos="5332320"/>
                <a:tab algn="l" pos="6094440"/>
                <a:tab algn="l" pos="6858000"/>
                <a:tab algn="l" pos="7618320"/>
                <a:tab algn="l" pos="8380440"/>
                <a:tab algn="l" pos="9144000"/>
                <a:tab algn="l" pos="990432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Tjalling Gelsem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760320"/>
                <a:tab algn="l" pos="1522440"/>
                <a:tab algn="l" pos="2286000"/>
                <a:tab algn="l" pos="3046320"/>
                <a:tab algn="l" pos="3808440"/>
                <a:tab algn="l" pos="4572000"/>
                <a:tab algn="l" pos="5332320"/>
                <a:tab algn="l" pos="6094440"/>
                <a:tab algn="l" pos="6858000"/>
                <a:tab algn="l" pos="7618320"/>
                <a:tab algn="l" pos="8380440"/>
                <a:tab algn="l" pos="9144000"/>
                <a:tab algn="l" pos="990432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Statistics Netherlan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6360" y="25992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Why confusion is ba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92360" y="2421000"/>
          <a:ext cx="655164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655164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34920" y="54900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The logic of</a:t>
            </a:r>
            <a:br>
              <a:rPr sz="3600"/>
            </a:b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lassification structur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1981080"/>
            <a:ext cx="655164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0760" y="2133720"/>
            <a:ext cx="655164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afd00"/>
                </a:solidFill>
                <a:latin typeface="Arial"/>
              </a:rPr>
              <a:t>identify synonymous catego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afd00"/>
                </a:solidFill>
                <a:latin typeface="Arial"/>
              </a:rPr>
              <a:t>maintain backward compat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916360" y="3789360"/>
          <a:ext cx="4263840" cy="17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3789360"/>
                    <a:ext cx="4263840" cy="17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Adding two categori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0760" y="2125800"/>
            <a:ext cx="655164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afd00"/>
                </a:solidFill>
                <a:latin typeface="Arial"/>
              </a:rPr>
              <a:t>Reading &amp; Biking : Econom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afd00"/>
                </a:solidFill>
                <a:latin typeface="Arial"/>
              </a:rPr>
              <a:t>Biking &amp; Shopping : Rela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771640" y="3803760"/>
          <a:ext cx="4426200" cy="17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803760"/>
                    <a:ext cx="442620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But what about these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403280" y="3789360"/>
          <a:ext cx="6265800" cy="17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626580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120760" y="1773360"/>
            <a:ext cx="655164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afd00"/>
                </a:solidFill>
                <a:latin typeface="Arial"/>
              </a:rPr>
              <a:t>Group : synonymous with Outdoor (no confus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afd00"/>
                </a:solidFill>
                <a:latin typeface="Arial"/>
              </a:rPr>
              <a:t>Piano playing : not backward compat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123640" y="1981080"/>
            <a:ext cx="6551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7280" indent="-2872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fafd00"/>
                </a:solidFill>
                <a:latin typeface="Arial"/>
              </a:rPr>
              <a:t>Avoid junk (if possibl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7280" indent="-2872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fafd00"/>
                </a:solidFill>
                <a:latin typeface="Arial"/>
              </a:rPr>
              <a:t>Avoid confusion (if possibl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7280" indent="-2872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fafd00"/>
                </a:solidFill>
                <a:latin typeface="Arial"/>
              </a:rPr>
              <a:t>Classification structures are Boolean algebra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4920" y="585720"/>
            <a:ext cx="6553080" cy="6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0320"/>
                <a:tab algn="l" pos="1522440"/>
                <a:tab algn="l" pos="2286000"/>
                <a:tab algn="l" pos="3046320"/>
                <a:tab algn="l" pos="3808440"/>
                <a:tab algn="l" pos="4572000"/>
                <a:tab algn="l" pos="5332320"/>
                <a:tab algn="l" pos="6094440"/>
                <a:tab algn="l" pos="6858000"/>
                <a:tab algn="l" pos="7618320"/>
                <a:tab algn="l" pos="8380440"/>
                <a:tab algn="l" pos="9144000"/>
                <a:tab algn="l" pos="9904320"/>
                <a:tab algn="l" pos="1066644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1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7280" indent="-2872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fafd00"/>
                </a:solidFill>
                <a:latin typeface="Arial"/>
              </a:rPr>
              <a:t>General requi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7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Completeness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287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No junk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287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No confusion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287280" indent="-2872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fafd00"/>
                </a:solidFill>
                <a:latin typeface="Arial"/>
              </a:rPr>
              <a:t>The logic of classification struct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7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Leisure activities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287280" indent="-287280">
              <a:lnSpc>
                <a:spcPct val="93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fafd00"/>
                </a:solidFill>
                <a:latin typeface="Arial"/>
              </a:rPr>
              <a:t>Concluding remark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6360" y="25992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General ide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95320" y="2349360"/>
          <a:ext cx="806940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2349360"/>
                    <a:ext cx="80694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lassification structur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95320" y="2349360"/>
          <a:ext cx="806940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2349360"/>
                    <a:ext cx="80694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I. Incompleten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95320" y="2349360"/>
          <a:ext cx="806940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2349360"/>
                    <a:ext cx="80694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II. Junk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00000" y="2060640"/>
          <a:ext cx="80647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060640"/>
                    <a:ext cx="80647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III. Confu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00000" y="2349360"/>
          <a:ext cx="8064720" cy="27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49360"/>
                    <a:ext cx="8064720" cy="27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4920" y="43920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lassification structures: junk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03240" y="2162160"/>
          <a:ext cx="8061480" cy="29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2162160"/>
                    <a:ext cx="806148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Why junk is ba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63640" y="2708280"/>
          <a:ext cx="655164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708280"/>
                    <a:ext cx="655164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arteld Braaksma</dc:creator>
  <dc:description/>
  <dc:language>en-US</dc:language>
  <cp:lastModifiedBy>CBS</cp:lastModifiedBy>
  <dcterms:modified xsi:type="dcterms:W3CDTF">2008-04-03T09:35:14Z</dcterms:modified>
  <cp:revision>13</cp:revision>
  <dc:subject/>
  <dc:title>Architectuur HEcS</dc:title>
</cp:coreProperties>
</file>