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26C8-F41F-48F9-AFE9-00C15D2784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FEB7-175E-4F49-B290-DDBA0FE064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5587-0D10-448B-9625-C66D7084B1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F87D-C84E-4F07-8116-97097AD8D9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586-9F50-4843-AAE5-C00B278BCC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1AB8-06CB-467A-9B65-E3F315F510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5769-CA71-4552-B2EF-517BB91BE5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3396-5903-4477-98A1-8DA4AB94F6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6C2D-0985-4CB9-9C5F-1CB87E7159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D679-D45B-4C97-A463-0B8A736DB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136B-FABF-4BB1-B10B-05895DD2E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27CD-C4CB-43CD-8EFE-FD5379C9E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1AA0-84BD-46C8-AF92-BD7419C16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8A415-887C-4F2F-9F5A-B0BF956DE4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B65B4-4519-4D8E-A105-B987173520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79CFB-A85F-4542-BA23-D8014ECCC5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CA097-AE8C-4EF7-8F80-603C32B09B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E1CCF-85B5-4CBC-B664-11CAFFD4EC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4911D-F1FB-4AD2-97F9-44A4BC782A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6E634-33BF-48AA-9A1C-990CC0D9A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C992-C853-4804-968E-D6856C153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AF7AF-1E09-4AFA-A4E6-5AE59A5541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5C8DD-6459-4027-A970-71FFD53367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C8F87-9CBB-4EC7-9AEA-3F088BA1FB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D0B79-62A7-4166-9FFA-1F4B8C7147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1A5B2-BCDC-4ED6-B915-6B1E4F135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0347-9512-470D-85C3-E1FF7B945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6780-C008-4299-B4AF-996FCC1BD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8054-BEE0-46B5-8FEC-10952CD09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AE0F-5597-4784-99E9-0DE43C6C7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56FE-9801-447A-964C-175EFDD8B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C9B4-0814-4811-87A8-B719BE836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0E0F-F103-48B0-B6BD-D78DB6847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3166920"/>
            <a:ext cx="9161280" cy="368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B0DF-3CE0-4C4B-BFB2-F3007F86C089}" type="slidenum">
              <a:rPr b="1" lang="fr-F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11280" y="6308640"/>
            <a:ext cx="5976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oint UNECE/Eurostat/OECD work session on statistical metadata (METI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88000" y="6093000"/>
            <a:ext cx="170676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-14400" y="2195640"/>
            <a:ext cx="9163080" cy="420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22320" y="189000"/>
            <a:ext cx="9166320" cy="666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2484360" y="6308640"/>
            <a:ext cx="39592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TIS work session on statistical 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4"/>
          </p:nvPr>
        </p:nvSpPr>
        <p:spPr>
          <a:xfrm>
            <a:off x="8616960" y="6461280"/>
            <a:ext cx="21600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CDC8-72F8-45C1-A22E-506E34B777EE}" type="slidenum">
              <a: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0920" y="5373000"/>
            <a:ext cx="1828800" cy="1302120"/>
            <a:chOff x="250920" y="5373000"/>
            <a:chExt cx="1828800" cy="1302120"/>
          </a:xfrm>
        </p:grpSpPr>
        <p:sp>
          <p:nvSpPr>
            <p:cNvPr id="47" name=""/>
            <p:cNvSpPr/>
            <p:nvPr/>
          </p:nvSpPr>
          <p:spPr>
            <a:xfrm>
              <a:off x="250920" y="61545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4">
              <a:lum bright="66000"/>
            </a:blip>
            <a:stretch/>
          </p:blipFill>
          <p:spPr>
            <a:xfrm flipH="1">
              <a:off x="707760" y="537300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716360" y="5589720"/>
            <a:ext cx="1658880" cy="587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732720" y="6021360"/>
            <a:ext cx="1706400" cy="60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ugust.goetzfried@ec.europa.eu" TargetMode="External"/><Relationship Id="rId2" Type="http://schemas.openxmlformats.org/officeDocument/2006/relationships/hyperlink" Target="mailto:marco.pellegrino@ec.europa.e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../MTF/Metadata-TF-20080228/Presentations/MTF2008-doc8-ESMS.xl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05264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Structural and reference metadata in the European Statistical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71640" y="3213000"/>
            <a:ext cx="590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August Götzfried,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august.goetzfried@ec.europa.eu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Marco Pellegrino,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marco.pellegrino@ec.europa.eu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3B1C5-201B-4626-8184-041468C1B5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Conclusions</a:t>
            </a:r>
            <a:r>
              <a:rPr b="1" lang="en-US" sz="2000" spc="-1" strike="noStrike">
                <a:solidFill>
                  <a:srgbClr val="eea521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67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 big steps forward made in the international standardization and harmonization of all types of metadata in the recent years 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However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re work needs to be done towards high-quality metadata systems at Eurostat and within the European Statistical System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238E-A706-450C-A66C-2D9C22588E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 rot="20700000">
            <a:off x="608040" y="1262160"/>
            <a:ext cx="7920000" cy="36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fa817"/>
                </a:solidFill>
                <a:latin typeface="Comic Sans MS"/>
              </a:rPr>
              <a:t>Thanks for your attention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August.Goetzfried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Marco.Pellegrino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ff"/>
                </a:solidFill>
                <a:latin typeface="Comic Sans MS"/>
              </a:rPr>
              <a:t>@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ff"/>
                </a:solidFill>
                <a:latin typeface="Comic Sans MS"/>
              </a:rPr>
              <a:t>ec.europa.eu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48B6-628A-4FE9-A2FF-82F8253B6B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c7019"/>
                </a:solidFill>
                <a:latin typeface="Arial"/>
              </a:rPr>
              <a:t>Working Paper 10: Metadata in the E.S.S.</a:t>
            </a:r>
            <a:r>
              <a:rPr b="1" lang="de-DE" sz="2800" spc="-1" strike="noStrike">
                <a:solidFill>
                  <a:srgbClr val="eea521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6784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ctions of statistical metadata across the statistical business cycle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DMX content-oriented guidelines (COG): a step forward towards international harmonisation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implementation of the SDMX COG within the European Statistical System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adata systems for structural and reference metadata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2F74-E2A0-4C60-BC13-5D38C4ADE3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Functions of statistical metadata</a:t>
            </a:r>
            <a:br>
              <a:rPr sz="2400"/>
            </a:b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across the statistical business cycle</a:t>
            </a:r>
            <a:r>
              <a:rPr b="1" lang="de-DE" sz="24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adata = information about data that make figures understandable to users and inform users where and how data is located and can be retrieved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metadata system provides the following functions: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4" marL="205272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rch and navigation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4" marL="205272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pretation and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4" marL="205272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t-processing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ral metadata standards or guidelines were developed in recent years which were not always fully compatible with each other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CAAA-18D3-4E15-91CA-F855BECDC5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The SDMX Content-oriented Guidelines: a step forward towards international harmonization</a:t>
            </a:r>
            <a:r>
              <a:rPr b="1" lang="de-DE" sz="24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67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re international harmonization on metadata initiated by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-474840" algn="just">
              <a:spcBef>
                <a:spcPts val="1125"/>
              </a:spcBef>
              <a:spcAft>
                <a:spcPts val="2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uropean Statistics Code of Practice, principle 15 on accessibility and clarity: “Metadata are to be documented according to a standardized metadata system”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-474840" algn="just">
              <a:spcBef>
                <a:spcPts val="1125"/>
              </a:spcBef>
              <a:spcAft>
                <a:spcPts val="2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DMX Content-oriented Guidelines (COG) released in 02/2008, in particular with regard to Cross-domain Concepts, Cross-domain code lists and Metadata Common Vocabulary.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DMX COG allow – inter alia - the creation of “Metadata Structure Definitions” for reference metadata.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474A-5C35-485A-A2D5-6D10C15A9B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The implementation of the SDMX COG within the European Statistical System</a:t>
            </a:r>
            <a:r>
              <a:rPr b="1" lang="en-US" sz="2000" spc="-1" strike="noStrike">
                <a:solidFill>
                  <a:srgbClr val="eea521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78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implementation of the SDMX COG within the ESS has started with: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-474840" algn="just"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reation and the successive implementation of the Euro SDMX metadata structure (ESMS): 21 SDMX cross-domain concepts are part of the ESMS and successively implemented within the European Statistical System (attention: a better measurement of the domain specific data quality will be possible)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-474840" algn="just"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hecking and mapping of a limited number of SDMX Cross domain-code lists (released as pivot code lists) against the code lists and descriptions used at Eurostat; further work steps are needed for completing these lists or for the adding of more code lists to the “SDMX acquis”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7167-6A51-41D4-B8A9-7110BC5366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54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The Euro-SDMX Metadata Structure (ESMS)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136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88920" algn="just"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eneric SDMX-compliant Concept Scheme: 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"/>
                <a:ea typeface="Times New Roman"/>
                <a:hlinkClick r:id="rId1"/>
              </a:rPr>
              <a:t>ESM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20800" indent="-285840">
              <a:spcBef>
                <a:spcPts val="624"/>
              </a:spcBef>
              <a:spcAft>
                <a:spcPts val="624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SDMX provides a lists of 62 statistical concepts which are used across statistical domains (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ANNEX 1: Cross-Domain Concept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0800" indent="-285840">
              <a:spcBef>
                <a:spcPts val="624"/>
              </a:spcBef>
              <a:spcAft>
                <a:spcPts val="624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new reference metadata structure of Eurostat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Euro-SDMX Metadata Structure, ESMS)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uses 21 of those concepts, with a limited breakdown of sub-concept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0800" indent="-285840">
              <a:spcBef>
                <a:spcPts val="624"/>
              </a:spcBef>
              <a:spcAft>
                <a:spcPts val="624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emplates to be derived from the structur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080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88920" algn="just"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ransmission tests of reference metadata for SODI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88920" algn="just"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ogical mapping between metadata format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9A09-01F4-4E2E-8980-1730CA7BE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The implementation of the SDMX COG within the European Statistical System</a:t>
            </a:r>
            <a:r>
              <a:rPr b="1" lang="en-US" sz="2000" spc="-1" strike="noStrike">
                <a:solidFill>
                  <a:srgbClr val="eea521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8720" indent="-474840" algn="just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urostat started to harmonize the codes to be used within the European Statistical System (first harmonized code list published in 03/2008).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-474840" algn="just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ll integration of the Metadata Common Vocabulary (MCV) into the Eurostat database for concepts and definitions; this promotes the MCV as standard vocabulary for structural and reference metadata within the European Statistical System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7CF1-D294-4897-8661-CBE4428455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</a:rPr>
              <a:t>Eurostat Metadata System</a:t>
            </a:r>
            <a:r>
              <a:rPr b="1" lang="en-US" sz="2400" spc="-1" strike="noStrike">
                <a:solidFill>
                  <a:srgbClr val="eea521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583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-540000" algn="just"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tructural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metadata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: Data structure definitions, database dictionaries and around 500 code lists which will be successively harmonized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-540000" algn="just"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Reference metadat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n SDDS format which will be replaced by the ESMS format in the near future (also recommended for national reference metadata within the European Statistical System).  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-540000" algn="just"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assifications, concepts and definitions, and domain-specific quality reports: in general, these additional metadata need to be better integrated with existing structural and reference metadata and with data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C0E4-824C-4812-A07F-442F211F35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National Metadata Systems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122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9280" indent="-540000"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in focus on the national metadata systems existing within the European Statistical System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-540000"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rst analysis of those national systems done by Eurostat with some first findings (such as more standardization needed, more freshness needed, metadata should be linked better to data)   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-540000"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more in depth assessment of the national metadata systems will be done in using a number of standard assessment criteria such as accessibility, types of metadata available, links between data and metadata, etc.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0"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0"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Regular monitoring reports should get available in the years to come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F3D5-BAED-479D-B633-4A2F48775DE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8:23:11Z</dcterms:created>
  <dc:creator>MP</dc:creator>
  <dc:description/>
  <dc:language>en-US</dc:language>
  <cp:lastModifiedBy>Gardner</cp:lastModifiedBy>
  <dcterms:modified xsi:type="dcterms:W3CDTF">2008-04-18T10:14:39Z</dcterms:modified>
  <cp:revision>105</cp:revision>
  <dc:subject/>
  <dc:title>Metadata task-force 2008/02</dc:title>
</cp:coreProperties>
</file>