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F15-9C18-454E-9D21-D4F6D64D0B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F6F-70C5-4F46-9F6F-75864ABC1C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645-0118-40D1-B6BF-60B4EE576F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5B5B-78ED-4E04-86AD-C55BA2D231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D191-EF0D-4D0A-A199-A6CE5DA2A9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5AFD-71F8-4F96-8933-E702D35DFB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A0C8-3325-4BA2-A03B-374E06B414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86F5-3D09-4100-8B52-608D2DDF38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537-3848-4B62-BF50-B7CDBAF4F0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09480" y="4344840"/>
            <a:ext cx="5639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MX Tools can help defining data structures and metadata structures, but they do not replace the statistical conceptu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5067-F9E8-4006-B905-561165A76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D94C-A660-4354-BD84-125B1C720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B75A-5B6C-489C-BE62-D69777992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020C-D6B3-478D-AE79-B334E96A3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9BD03-9735-45D6-A7A3-FAB35A000F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67247-C493-472D-9AB4-62BAFFDCEC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412CC-6C30-454B-AECD-3BA2E1DC5E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ADCB9-1486-4A79-991F-3164437CB6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00DF2-85A3-4FC8-9AD4-5C8D97F01A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ED2D-042A-4120-AA8F-29D70E3E1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801F4-2BA9-4BFA-AE05-242D7EC1C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61D3-9602-4017-9E60-8735A0F7A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80872-76AA-4856-9027-B3B122A61C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C900B-5B46-48DF-919B-42FB57258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5341-9D2A-4D07-A9F1-3B7131218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95501-524F-49E4-B5B7-B4C5717E3B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3D960-D9E7-4278-B96C-27B43471F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354F-3254-473A-9CF8-6514AC83B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16D3-4270-4151-8B4D-606B08C92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EEF8-0776-44AB-8D8B-848A392A7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6AC3-D6D9-4825-A23E-247FC454B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3E04-12B4-48D1-8237-ACF0C5098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C3CE-0989-4D14-AF37-4B331006E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ABF9-11F6-464B-ACB2-8C699B4E6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3166920"/>
            <a:ext cx="9161280" cy="36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37A5-0A5F-4E32-AD1D-A461DC6CE2E8}" type="slidenum">
              <a: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1280" y="6308640"/>
            <a:ext cx="5976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oint UNECE/Eurostat/OECD work session on statistical metadata (METI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170676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-14400" y="2195640"/>
            <a:ext cx="9163080" cy="420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22320" y="189000"/>
            <a:ext cx="9166320" cy="666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2484360" y="6308640"/>
            <a:ext cx="39592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TIS work session on statistical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8616960" y="6461280"/>
            <a:ext cx="21600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3D8B-986B-4FA8-8DE5-BE5B8E0EC3C4}" type="slidenum"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7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716360" y="5589720"/>
            <a:ext cx="1658880" cy="58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732720" y="6021360"/>
            <a:ext cx="1706400" cy="60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ugust.goetzfried@ec.europa.eu" TargetMode="External"/><Relationship Id="rId2" Type="http://schemas.openxmlformats.org/officeDocument/2006/relationships/hyperlink" Target="mailto:marco.pellegrino@ec.europa.e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../MTF/Metadata-TF-20080228/Presentations/MTF2008-doc8-ESMS.xl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05264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Structural and reference metadata in the European Statistical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640" y="3213000"/>
            <a:ext cx="590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ugust Götzfried,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august.goetzfried@ec.europa.eu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Marco Pellegrino,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marco.pellegrino@ec.europa.eu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E6ACE-FD16-442F-B5EC-008A7A02DE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Conclusions</a:t>
            </a:r>
            <a:r>
              <a:rPr b="1" lang="en-US" sz="2000" spc="-1" strike="noStrike">
                <a:solidFill>
                  <a:srgbClr val="eea521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7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big steps forward made in the international standardization and harmonization of all types of metadata in the recent years 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However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re work needs to be done towards high-quality metadata systems at Eurostat and within the European Statistical System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9995-C19F-49B1-8562-9495A5124A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 rot="20700000">
            <a:off x="608040" y="1262160"/>
            <a:ext cx="7920000" cy="3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fa817"/>
                </a:solidFill>
                <a:latin typeface="Comic Sans MS"/>
              </a:rPr>
              <a:t>Thanks for your attentio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August.Goetzfried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Marco.Pellegrino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@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ec.europa.eu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5C6F-7729-4AE7-A7E1-5CD50FD79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c7019"/>
                </a:solidFill>
                <a:latin typeface="Arial"/>
              </a:rPr>
              <a:t>Working Paper 10: Metadata in the E.S.S.</a:t>
            </a:r>
            <a:r>
              <a:rPr b="1" lang="de-DE" sz="2800" spc="-1" strike="noStrike">
                <a:solidFill>
                  <a:srgbClr val="eea52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784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ctions of statistical metadata across the statistical business cycle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DMX content-oriented guidelines (COG): a step forward towards international harmonisation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implementation of the SDMX COG within the European Statistical System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adata systems for structural and reference metadata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D284-E96A-43AB-A5F6-20B555D40C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Functions of statistical metadata</a:t>
            </a:r>
            <a:br>
              <a:rPr sz="2400"/>
            </a:b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across the statistical business cycle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adata = information about data that make figures understandable to users and inform users where and how data is located and can be retrieve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metadata system provides the following functions: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4" marL="205272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rch and navigation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4" marL="205272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pretation and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4" marL="205272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t-process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ral metadata standards or guidelines were developed in recent years which were not always fully compatible with each other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4268-BBF3-41A2-81FF-18E5105037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SDMX Content-oriented Guidelines: a step forward towards international harmonization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67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re international harmonization on metadata initiated by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125"/>
              </a:spcBef>
              <a:spcAft>
                <a:spcPts val="2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ropean Statistics Code of Practice, principle 15 on accessibility and clarity: “Metadata are to be documented according to a standardized metadata system”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125"/>
              </a:spcBef>
              <a:spcAft>
                <a:spcPts val="2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DMX Content-oriented Guidelines (COG) released in 02/2008, in particular with regard to Cross-domain Concepts, Cross-domain code lists and Metadata Common Vocabulary.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DMX COG allow – inter alia - the creation of “Metadata Structure Definitions” for reference metadata.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9CA2-8C3D-46CD-969A-5C0DD920CD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implementation of the SDMX COG within the European Statistical System</a:t>
            </a:r>
            <a:r>
              <a:rPr b="1" lang="en-US" sz="2000" spc="-1" strike="noStrike">
                <a:solidFill>
                  <a:srgbClr val="eea521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implementation of the SDMX COG within the ESS has started with: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reation and the successive implementation of the Euro SDMX metadata structure (ESMS): 21 SDMX cross-domain concepts are part of the ESMS and successively implemented within the European Statistical System (attention: a better measurement of the domain specific data quality will be possible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hecking and mapping of a limited number of SDMX Cross domain-code lists (released as pivot code lists) against the code lists and descriptions used at Eurostat; further work steps are needed for completing these lists or for the adding of more code lists to the “SDMX acquis”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0802-4390-45A8-83D2-598750FC6F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54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Euro-SDMX Metadata Structure (ESMS)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136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88920" algn="just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eneric SDMX-compliant Concept Scheme: 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ea typeface="Times New Roman"/>
                <a:hlinkClick r:id="rId1"/>
              </a:rPr>
              <a:t>ESM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-285840">
              <a:spcBef>
                <a:spcPts val="624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DMX provides a lists of 62 statistical concepts which are used across statistical domains (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ANNEX 1: Cross-Domain Concept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-285840">
              <a:spcBef>
                <a:spcPts val="624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new reference metadata structure of Eurostat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Euro-SDMX Metadata Structure, ESMS)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uses 21 of those concepts, with a limited breakdown of sub-concept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-285840">
              <a:spcBef>
                <a:spcPts val="624"/>
              </a:spcBef>
              <a:spcAft>
                <a:spcPts val="624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emplates to be derived from the structur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080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88920" algn="just"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ransmission tests of reference metadata for SODI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88920" algn="just"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gical mapping between metadata format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02A2-7749-484E-B3A3-6E84FCA57F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The implementation of the SDMX COG within the European Statistical System</a:t>
            </a:r>
            <a:r>
              <a:rPr b="1" lang="en-US" sz="2000" spc="-1" strike="noStrike">
                <a:solidFill>
                  <a:srgbClr val="eea521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8720" indent="-474840" algn="just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urostat started to harmonize the codes to be used within the European Statistical System (first harmonized code list published in 03/2008)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8720" indent="-474840" algn="just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ll integration of the Metadata Common Vocabulary (MCV) into the Eurostat database for concepts and definitions; this promotes the MCV as standard vocabulary for structural and reference metadata within the European Statistical System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6FCE-44BD-4B3A-B68A-BBBF0980C2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Eurostat Metadata System</a:t>
            </a:r>
            <a:r>
              <a:rPr b="1" lang="en-US" sz="2400" spc="-1" strike="noStrike">
                <a:solidFill>
                  <a:srgbClr val="eea521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ea521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583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tructural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metadata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 Data structure definitions, database dictionaries and around 500 code lists which will be successively harmonized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Reference metadat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n SDDS format which will be replaced by the ESMS format in the near future (also recommended for national reference metadata within the European Statistical System).  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assifications, concepts and definitions, and domain-specific quality reports: in general, these additional metadata need to be better integrated with existing structural and reference metadata and with data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A1E5-B7D4-4E52-9F12-0E7D256C93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National Metadata Systems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12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9280" indent="-54000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in focus on the national metadata systems existing within the European Statistical System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rst analysis of those national systems done by Eurostat with some first findings (such as more standardization needed, more freshness needed, metadata should be linked better to data)   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more in depth assessment of the national metadata systems will be done in using a number of standard assessment criteria such as accessibility, types of metadata available, links between data and metadata, etc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19280" indent="0"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Regular monitoring reports should get available in the years to come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7AC3-F571-400B-BAF9-73DA40DD83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8:23:11Z</dcterms:created>
  <dc:creator>MP</dc:creator>
  <dc:description/>
  <dc:language>en-US</dc:language>
  <cp:lastModifiedBy>Gardner</cp:lastModifiedBy>
  <dcterms:modified xsi:type="dcterms:W3CDTF">2008-04-18T10:14:39Z</dcterms:modified>
  <cp:revision>105</cp:revision>
  <dc:subject/>
  <dc:title>Metadata task-force 2008/02</dc:title>
</cp:coreProperties>
</file>