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17.png" ContentType="image/png"/>
  <Override PartName="/ppt/media/image8.png" ContentType="image/png"/>
  <Override PartName="/ppt/media/image16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14.wmf" ContentType="image/x-wmf"/>
  <Override PartName="/ppt/media/image6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07F6-43A6-4CE8-9B18-6494F79F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2399-A532-4D04-A6AD-37ED5B55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EF5B-3EE0-4C63-AB99-87EA378F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10B3-C74D-4D00-B9BF-FAAA33C9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1DA5-C699-49FB-B85B-0ECF7BE3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BE9A-10E1-4203-9BB1-5DB3480E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5C3D-6CDB-4AAF-B400-080E2C10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0205-8C8A-4D21-88DD-33C862F7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04CC-EBB8-475E-AEB9-48EA7674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669A-A544-4E99-B85B-D0A5FF6E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CC42-FE48-4FF6-BA4E-DC49BC57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A922-A0B6-4B46-88C6-5E335F2F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352F-6A8B-4D4B-A406-402E809538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MX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50028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ationships to ISO/IEC 11179/CM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ofan Gr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ris Nel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UNECE/Eurostat/OECD workshop on statistical metadata (METIS): Geneva 3-5 April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24720" y="5516640"/>
            <a:ext cx="138276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 - SD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MX standards comp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 implementations based on the Information model (XML schemas and UN/EDIF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-oriented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subject matter domain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 Domain metadata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 vocabulary (MCV – Metadata Common Vocabul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2197080" cy="2313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4920" y="662040"/>
            <a:ext cx="345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Meta Model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d data, metadata, structural met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340000" y="1165320"/>
            <a:ext cx="4728960" cy="1584360"/>
            <a:chOff x="2340000" y="1165320"/>
            <a:chExt cx="4728960" cy="1584360"/>
          </a:xfrm>
        </p:grpSpPr>
        <p:pic>
          <p:nvPicPr>
            <p:cNvPr id="77" name="" descr=""/>
            <p:cNvPicPr/>
            <p:nvPr/>
          </p:nvPicPr>
          <p:blipFill>
            <a:blip r:embed="rId2"/>
            <a:srcRect l="0" t="0" r="0" b="4499"/>
            <a:stretch/>
          </p:blipFill>
          <p:spPr>
            <a:xfrm>
              <a:off x="5003640" y="1165320"/>
              <a:ext cx="206532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340000" y="2028960"/>
              <a:ext cx="24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27280" y="1628640"/>
              <a:ext cx="24480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ign Meta Sch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aggregated data and meta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156360" y="2604960"/>
            <a:ext cx="3095640" cy="2330640"/>
            <a:chOff x="6156360" y="2604960"/>
            <a:chExt cx="3095640" cy="2330640"/>
          </a:xfrm>
        </p:grpSpPr>
        <p:pic>
          <p:nvPicPr>
            <p:cNvPr id="81" name="" descr=""/>
            <p:cNvPicPr/>
            <p:nvPr/>
          </p:nvPicPr>
          <p:blipFill>
            <a:blip r:embed="rId3"/>
            <a:srcRect l="3377" t="23531" r="6035" b="4637"/>
            <a:stretch/>
          </p:blipFill>
          <p:spPr>
            <a:xfrm>
              <a:off x="6156360" y="3757680"/>
              <a:ext cx="2808360" cy="11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6300720" y="28940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27640" y="2604960"/>
              <a:ext cx="302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eate data/metadata structure instance (data/metadata structure definition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724360" y="4981680"/>
            <a:ext cx="3240360" cy="1584360"/>
            <a:chOff x="5724360" y="4981680"/>
            <a:chExt cx="3240360" cy="1584360"/>
          </a:xfrm>
        </p:grpSpPr>
        <p:sp>
          <p:nvSpPr>
            <p:cNvPr id="85" name=""/>
            <p:cNvSpPr/>
            <p:nvPr/>
          </p:nvSpPr>
          <p:spPr>
            <a:xfrm>
              <a:off x="8101080" y="5773680"/>
              <a:ext cx="43164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17080" y="5989680"/>
              <a:ext cx="43164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532720" y="6205680"/>
              <a:ext cx="43200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7956720" y="498168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24360" y="5197320"/>
              <a:ext cx="223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oss domain metadata concept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and code li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195640" y="3284640"/>
            <a:ext cx="4178160" cy="2489040"/>
            <a:chOff x="2195640" y="3284640"/>
            <a:chExt cx="4178160" cy="2489040"/>
          </a:xfrm>
        </p:grpSpPr>
        <p:pic>
          <p:nvPicPr>
            <p:cNvPr id="91" name="" descr=""/>
            <p:cNvPicPr/>
            <p:nvPr/>
          </p:nvPicPr>
          <p:blipFill>
            <a:blip r:embed="rId4"/>
            <a:srcRect l="0" t="0" r="0" b="3075"/>
            <a:stretch/>
          </p:blipFill>
          <p:spPr>
            <a:xfrm>
              <a:off x="2195640" y="3470400"/>
              <a:ext cx="2195280" cy="23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 flipH="1">
              <a:off x="4356000" y="4405320"/>
              <a:ext cx="19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00720" y="3284640"/>
              <a:ext cx="1873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nerate structure specific sch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79280" y="4118040"/>
            <a:ext cx="2376720" cy="2654280"/>
            <a:chOff x="179280" y="4118040"/>
            <a:chExt cx="2376720" cy="2654280"/>
          </a:xfrm>
        </p:grpSpPr>
        <p:pic>
          <p:nvPicPr>
            <p:cNvPr id="95" name="" descr=""/>
            <p:cNvPicPr/>
            <p:nvPr/>
          </p:nvPicPr>
          <p:blipFill>
            <a:blip r:embed="rId5"/>
            <a:srcRect l="4686" t="26706" r="14309" b="4681"/>
            <a:stretch/>
          </p:blipFill>
          <p:spPr>
            <a:xfrm>
              <a:off x="250920" y="5445000"/>
              <a:ext cx="2087640" cy="13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 flipH="1">
              <a:off x="1332000" y="454968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32000" y="454968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9280" y="41180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port/publish data/meta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268360" y="5877000"/>
            <a:ext cx="3240360" cy="865080"/>
            <a:chOff x="2268360" y="5877000"/>
            <a:chExt cx="3240360" cy="865080"/>
          </a:xfrm>
        </p:grpSpPr>
        <p:grpSp>
          <p:nvGrpSpPr>
            <p:cNvPr id="100" name=""/>
            <p:cNvGrpSpPr/>
            <p:nvPr/>
          </p:nvGrpSpPr>
          <p:grpSpPr>
            <a:xfrm>
              <a:off x="4284720" y="5877000"/>
              <a:ext cx="1224000" cy="865080"/>
              <a:chOff x="4284720" y="5877000"/>
              <a:chExt cx="1224000" cy="865080"/>
            </a:xfrm>
          </p:grpSpPr>
          <p:sp>
            <p:nvSpPr>
              <p:cNvPr id="101" name=""/>
              <p:cNvSpPr/>
              <p:nvPr/>
            </p:nvSpPr>
            <p:spPr>
              <a:xfrm>
                <a:off x="4284720" y="5877000"/>
                <a:ext cx="1008000" cy="865080"/>
              </a:xfrm>
              <a:prstGeom prst="flowChartMagneticDisk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284720" y="6093000"/>
                <a:ext cx="122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DMX 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gist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2268360" y="623736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16360" y="587700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as of Commonalit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O 11179 and SDM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h standards support the defini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of concepts in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s/Value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h standards support the concept of a 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O 11179 specifies a registry meta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DMX does not specify a registry meta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O 11179  does not specify registry interfaces based on the registry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DMX specifies registry interfaces based on the SDMX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ation of a registry and mapping to a registry model is left to the implemen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use ISO 11179 registry implementation, ebXML registry implementation, or bespoke registry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s – ISO 1117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5397" t="3753" r="10736" b="51536"/>
          <a:stretch/>
        </p:blipFill>
        <p:spPr>
          <a:xfrm>
            <a:off x="3851280" y="1268280"/>
            <a:ext cx="5040360" cy="3816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V="1">
            <a:off x="1619280" y="1988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19280" y="1989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rcRect l="7503" t="16698" r="7746" b="17105"/>
          <a:stretch/>
        </p:blipFill>
        <p:spPr>
          <a:xfrm>
            <a:off x="179280" y="2492280"/>
            <a:ext cx="388800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s - SD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616800" cy="5200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932360" y="3141720"/>
            <a:ext cx="3960720" cy="3456000"/>
          </a:xfrm>
          <a:prstGeom prst="rect">
            <a:avLst/>
          </a:prstGeom>
          <a:solidFill>
            <a:srgbClr val="c0c0c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03280" y="2637000"/>
            <a:ext cx="3384720" cy="2087280"/>
          </a:xfrm>
          <a:prstGeom prst="rect">
            <a:avLst/>
          </a:prstGeom>
          <a:solidFill>
            <a:srgbClr val="c0c0c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16720" y="3166920"/>
            <a:ext cx="2305080" cy="2449800"/>
          </a:xfrm>
          <a:prstGeom prst="rect">
            <a:avLst/>
          </a:prstGeom>
          <a:solidFill>
            <a:srgbClr val="ccffcc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ual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or SDMX this defines the core/default representation: implicit here is whether it is enumerated or non enumera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not given explicit name in SDM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19280" y="2708280"/>
            <a:ext cx="2663640" cy="368280"/>
          </a:xfrm>
          <a:prstGeom prst="rect">
            <a:avLst/>
          </a:prstGeom>
          <a:solidFill>
            <a:srgbClr val="ccffcc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Element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5516640"/>
            <a:ext cx="2663640" cy="368280"/>
          </a:xfrm>
          <a:prstGeom prst="rect">
            <a:avLst/>
          </a:prstGeom>
          <a:solidFill>
            <a:srgbClr val="ccffcc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-11179 equival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55760" y="1022400"/>
            <a:ext cx="463248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Element: ISO 1117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48626"/>
          <a:stretch/>
        </p:blipFill>
        <p:spPr>
          <a:xfrm>
            <a:off x="1187280" y="1773360"/>
            <a:ext cx="669780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 Usage - SD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16000" y="1224000"/>
            <a:ext cx="6983280" cy="5419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796000" y="2857680"/>
            <a:ext cx="2736720" cy="2431440"/>
          </a:xfrm>
          <a:prstGeom prst="rect">
            <a:avLst/>
          </a:prstGeom>
          <a:solidFill>
            <a:srgbClr val="ccffcc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 Usage = Data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an be given explicit name in SDMX (e.g. ISO 11179 equivalent name), but this is not required and is not used for identification purpose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020000" y="206064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5219280" y="3645000"/>
            <a:ext cx="57636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059280" y="4581360"/>
            <a:ext cx="2808000" cy="14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9640" y="5870520"/>
            <a:ext cx="1873080" cy="368280"/>
          </a:xfrm>
          <a:prstGeom prst="rect">
            <a:avLst/>
          </a:prstGeom>
          <a:solidFill>
            <a:srgbClr val="ccffcc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5508360" y="6021000"/>
            <a:ext cx="1150920" cy="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 Usage - SD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explicit “Data Element” name for usage of a Concept (e.g. FREQUENCY Concept used for a Dimen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ept names are used within the context of the role of the Concept (Dimension, Attribute, Measure) – these are structure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unique identifier for a structure component compris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data structure definition.structure component list.concept&gt;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BOP.KEYDESCRIPTOR.FREQU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[actual identifier includes maintenance agencies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is useful if one wishes to reference the component in, say, a registry scenario, but it is not normally retained in process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instance in the data structure definition the identifier of the Concept is used, but the full identifier can be constructed from its context in th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ever the SDMX-ML specification does allow the full identifier [URN] to be specified as w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O 11179 equivalent name could b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OP_KEYDESCRIPTOR.FREQUENCY.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MX: Part of Key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13716" t="19870" r="0" b="37228"/>
          <a:stretch/>
        </p:blipFill>
        <p:spPr>
          <a:xfrm>
            <a:off x="250920" y="1515960"/>
            <a:ext cx="889308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and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s of Comm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ing ISO 11179 to SD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R and SDMX Reg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in Applications: A Cas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R and ISO 1117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R is a model that supports the survey life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and Concept semantics are provided by an association to ISO 11179 e.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3280" y="1454040"/>
            <a:ext cx="4038840" cy="24796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68360" y="4221000"/>
            <a:ext cx="7561080" cy="27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 is associated to Data Element Con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 Domain is associated to Value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Set component (element) is associated to Data 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set contains the output from a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ata elements are explicitly na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 11179 is the pivot between CMR and SDM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apply ISO 11179 to SDM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ying ISO 11179 to SD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 11179 gives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Object_Class].[Property].[Representatio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SO 11179 instance would h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Object_ID].[Property_Term].[Representation_Ter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these constructs in SDMX data and metadata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MX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data, we have a limited set of object cla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eference metadata, we have a larger set of object cla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egory Sc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nd Metadata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SDMX instance IDs are 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ata, a “ke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metadata, a “target identifi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DMX Properties and Re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DMX, properties are taken from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mes and definitions are supplied by the user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re required by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s are equivalent to those in ISO 11179 (code, text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53440" y="288972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Observation_ID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430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rom the SDMX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558720"/>
            <a:ext cx="24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er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rom the Concept that is the Data Attribute or Measure in the Data Structure Defini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7440" y="260280"/>
            <a:ext cx="259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ation Te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derived from the Representation of the Data Attribute or Measure in the Data Structure Defini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29005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denti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48360" y="2798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2071800"/>
            <a:ext cx="360360" cy="792000"/>
          </a:xfrm>
          <a:prstGeom prst="downArrow">
            <a:avLst>
              <a:gd name="adj1" fmla="val 50000"/>
              <a:gd name="adj2" fmla="val 549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071800"/>
            <a:ext cx="360360" cy="792000"/>
          </a:xfrm>
          <a:prstGeom prst="downArrow">
            <a:avLst>
              <a:gd name="adj1" fmla="val 50000"/>
              <a:gd name="adj2" fmla="val 549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51640" y="2071800"/>
            <a:ext cx="360360" cy="792000"/>
          </a:xfrm>
          <a:prstGeom prst="downArrow">
            <a:avLst>
              <a:gd name="adj1" fmla="val 50000"/>
              <a:gd name="adj2" fmla="val 549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3800" y="353736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Series_ID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3640" y="35082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48360" y="3591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2720" y="431856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Group_ID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274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77080" y="42274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2000" y="503928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Observation_ID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30560" y="49482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1280" y="4948200"/>
            <a:ext cx="18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360" y="583128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Data Set_ID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03640" y="57801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64360" y="57405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MX Object 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und object IDs in SDMX are eithe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Keys (for Group, Series, or Observation), which depend on the data structure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 Target Identifiers (for data provider, metadata flow, categorization scheme, etc.), which depend on the metadata structure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 Key: “Annual – Total Population – Kenya – 1994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Key: “Annual – Total Population – Keny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Key: “Annual – Total Population” (this is the group of all count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concept of “Availability” for a series, in ISO 11179 we would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– Total Population – Kenya. Availability.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the SDMX distinction between “dimensions” and “attributes” is not important to ISO 11179 – the semantic models use the same basic approach for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only model the semantics of discrete, value-containing constructs: attributes and observation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 Metadata Object IDs in SDM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 objects in the SDMX Information Model can be Object Classes for ISO 111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an be combined to identify new object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s for instances of objects are composite “target identifi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446880" y="658800"/>
            <a:ext cx="122400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tegorySch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46880" y="2525760"/>
            <a:ext cx="1224000" cy="3682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70880" y="2889360"/>
            <a:ext cx="622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92960" y="2889360"/>
            <a:ext cx="0" cy="52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370640" y="3402000"/>
            <a:ext cx="922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378560" y="2981160"/>
            <a:ext cx="0" cy="409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78560" y="3473280"/>
            <a:ext cx="117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have child 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37280" y="1403280"/>
            <a:ext cx="0" cy="112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85160" y="1468440"/>
            <a:ext cx="117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rises subject or reporting 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60640" y="2425680"/>
            <a:ext cx="1224000" cy="916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or Metadata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7880" y="4821120"/>
            <a:ext cx="122400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5200" y="4738680"/>
            <a:ext cx="148428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s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32400" y="3417840"/>
            <a:ext cx="0" cy="1320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16280" y="3489480"/>
            <a:ext cx="1346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get data/metadata from multiple data/metadata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31880" y="5214960"/>
            <a:ext cx="2173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00360" y="4511520"/>
            <a:ext cx="1944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provide data/metadata for many data/metadata flows using agreed data/metadata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03640" y="906480"/>
            <a:ext cx="122364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913120" y="2784600"/>
            <a:ext cx="892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63560" y="1698480"/>
            <a:ext cx="147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specific data/metadata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84640" y="2784600"/>
            <a:ext cx="1362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62400" y="1787400"/>
            <a:ext cx="160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be linked to categories in multiple category sche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840" y="2232000"/>
            <a:ext cx="1223640" cy="11912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Set or Metadata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87560" y="3517920"/>
            <a:ext cx="0" cy="1303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3320" y="3463920"/>
            <a:ext cx="1066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shes/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sets or metadata s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913120" y="1650600"/>
            <a:ext cx="0" cy="113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98480" y="2989440"/>
            <a:ext cx="2162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66960" y="3048120"/>
            <a:ext cx="1938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orms to business rules of the data/metadata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7240" y="260280"/>
            <a:ext cx="430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Some SDMX Object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Meta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ata provider is identified with an ID which references the organization scheme (and agency) the data provider ID code comes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OrgSchemeAgencyID]_[OrgSchemeID]_[Data_ProviderI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dmx_sdmxProviderScheme1_IM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s the ID for a data provider from agency scheme 1 maintained by SDMX, identifying the IMF as a data provi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ere asked to describe the relationship between ISO 11179/CMR and SD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t complete overla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cused on points of contact between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as an interesting project, which we will continue working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 Metadata Example, co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del a “Contact_Name” concept in an SDMX metadata report for a specific data provider, we have in ISO 111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dmx_sdmxProviderScheme1_IMF.Contact_Name.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re useful approach is poss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a_Provider.Contact_Name.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not possible for data objects in SDM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y Model: ISO 1117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530064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o API specification for implementing 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0" t="0" r="0" b="13535"/>
          <a:stretch/>
        </p:blipFill>
        <p:spPr>
          <a:xfrm>
            <a:off x="1260360" y="1165320"/>
            <a:ext cx="727236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gistry Metamodel: SD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DMX does not have an abstract registry meta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DMX specifies registry interfaces based on the SDMX Inform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iance with SDMX registry standards is based on implementation of the SDMX registry AP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ctual registry implementation can be whatever the registry service provider cho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JEDH pilot project is implemented using an ebXML registry (this has a model which is very similar to the ISO 11179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SDMX compliant registry could use an ISO 11179 registry (if such an implementation exi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SO 11179 registry is used to provide a semantic registry of specific data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cus is on understanding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data and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SDMX registry provides mechanistic services to facilitate the exchange of data and metadata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cus is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ata and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complementar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R is one example of a model which could be mapped against SD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MX is about aggregate data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R is about survey lifecyc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potentially related, but are not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useful in an application, we care abou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mantic equivalenc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data and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quivalencies allow us to re-use and map data between models 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 11179 acts as a p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940360" y="1058760"/>
            <a:ext cx="18716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12000" y="4241880"/>
            <a:ext cx="18716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and Meta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509760"/>
            <a:ext cx="18716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antic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16000" y="4233960"/>
            <a:ext cx="18716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and Meta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-111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 111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96000" y="-111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M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7080" y="142560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020000" y="221760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s and rules prescribed by SDMX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920" y="2217600"/>
            <a:ext cx="187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s and rules are proprietary to individual organis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142560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771280" y="1425240"/>
            <a:ext cx="3240360" cy="309708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19640" y="2324160"/>
            <a:ext cx="187308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 SDMX semantics based on SDMX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987280" y="4738680"/>
            <a:ext cx="3024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03640" y="4149720"/>
            <a:ext cx="273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ganisations map between their data and metadata structures and and SDMX data and metadata structures using ISO 11179 seman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5380200"/>
            <a:ext cx="26636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R defines a conceptual model for data and metadata structures for the survey lifecycle, using the ISO 11179 model for structuring seman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69080" y="5300640"/>
            <a:ext cx="2663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DMX defines a conceptual model for data and metadata structures for the aggregated data and reference metadata and provides a canonical syntax re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use case – CMR – is not enough to validate 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ISO TC-154 meeting in Vancouver we met with the designers of ISO-15000 part 5, the “Core Components Technical Specification” (C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TS is a modelling methodology for e-commerce, standardized in ISO TC 1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based on ISO-111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ere asked: “Could SDMX data be modelled according to CCTS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Both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s and e-commerce do have connection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s and international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s transactions and business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ystems today map between business transactions and statistical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mapping between CCTS (e-commerce transactions) and SDMX (statistics) is potentially a real-world use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nswer is “Ye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our SDMX-to-ISO 11179 mapp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uld express our semant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them to the e-commerce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relationship between specific data e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as a quick, straightforward validation of our 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 11179 is very useful as a pivotal semantic model for working with other models (CMR, CCT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MX is mapped at the model level, not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a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s are introduced at this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DMX and ISO 11179 registries are complementary in function (semantics + acces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uctural mapping of any model depends on the ISO 11179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 11179 only does semantics, no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 need both structural and semantic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 11179/CMR and SDM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O 11179 provides a useful pivotal model for mapping between CMR (or others) and SDMX constru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O 11179 does not model the semantics of 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etamodel –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useful for the semantics of the models (specific metadata structure) or even instances of the model (specific data s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utility of this mapping depends on the appl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DMX and ISO 11179 registries are complementary in function (semantics + acces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 11179 model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mantics of data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R extends this to cov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rvey lifecycle metadata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s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MX model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ucture of metadata and dat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ggregate statistical dat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upply your own semantics (concep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comparison of like things: it is a connecting of complementary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 – ISO 1117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1179 is a metadata content standard focused primarily on the semantics of data. Secondarily, it provides the rules and structures for registering descriptions of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ndard exists in 6 Parts, and the 2nd edition is now available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art 1: Framework for the specification and standardization of data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art 2: Classification for data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art 3: Registry metamodel and basic attrib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art 4: Rules and guidelines for the formulation of data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art 5: Naming and identification principles for data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art 6: Registration of data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presentation is concerned mainly with Parts 3 an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476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OPE: ISO 11179 Part 3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Level View -  Data Elements and Concepts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14768" t="26482" r="21446" b="12481"/>
          <a:stretch/>
        </p:blipFill>
        <p:spPr>
          <a:xfrm>
            <a:off x="539640" y="1773360"/>
            <a:ext cx="7777440" cy="4651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60360" y="1844640"/>
            <a:ext cx="208764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ry Ide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48360" y="1916280"/>
            <a:ext cx="252072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ries of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5080" y="4437000"/>
            <a:ext cx="208728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r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03280" y="5726160"/>
            <a:ext cx="187344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r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03640" y="4365720"/>
            <a:ext cx="338472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3166: Country Cod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 – CM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MR model is designed to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data necessary to describe the survey lif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ages between similar designs and processes used across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metadata to drive systems in support of the survey life cy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MR model extends the ISO 11179 (Part 3) metamodel to support CMR specific artefa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27407" t="10817" r="25822" b="55733"/>
          <a:stretch/>
        </p:blipFill>
        <p:spPr>
          <a:xfrm>
            <a:off x="1684440" y="620640"/>
            <a:ext cx="4832280" cy="2592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27407" t="45193" r="25822" b="13917"/>
          <a:stretch/>
        </p:blipFill>
        <p:spPr>
          <a:xfrm>
            <a:off x="1835280" y="3284640"/>
            <a:ext cx="4832280" cy="3168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 - CM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549360"/>
            <a:ext cx="4752720" cy="2592360"/>
          </a:xfrm>
          <a:prstGeom prst="rect">
            <a:avLst/>
          </a:prstGeom>
          <a:solidFill>
            <a:srgbClr val="c0c0c0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63640" y="54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11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35280" y="33498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6589440" y="1915920"/>
            <a:ext cx="1150920" cy="2592360"/>
          </a:xfrm>
          <a:custGeom>
            <a:avLst/>
            <a:gdLst>
              <a:gd name="textAreaLeft" fmla="*/ 154080 w 1150920"/>
              <a:gd name="textAreaRight" fmla="*/ 996840 w 1150920"/>
              <a:gd name="textAreaTop" fmla="*/ 453600 h 2592360"/>
              <a:gd name="textAreaBottom" fmla="*/ 187956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72360" y="4168800"/>
            <a:ext cx="208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s to appropriate ISO 11179 artefact to supply semantics and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63640" y="3357720"/>
            <a:ext cx="4753080" cy="3311280"/>
          </a:xfrm>
          <a:prstGeom prst="rect">
            <a:avLst/>
          </a:prstGeom>
          <a:solidFill>
            <a:srgbClr val="ccffff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6:00:13Z</dcterms:created>
  <dc:creator> Chris Nelson</dc:creator>
  <dc:description/>
  <dc:language>en-US</dc:language>
  <cp:lastModifiedBy>Jessica Gardner</cp:lastModifiedBy>
  <dcterms:modified xsi:type="dcterms:W3CDTF">2006-04-07T10:56:16Z</dcterms:modified>
  <cp:revision>141</cp:revision>
  <dc:subject/>
  <dc:title>Slide 1</dc:title>
</cp:coreProperties>
</file>