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227-9FE4-49F3-9D15-BD36667B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6D5-2FC7-4385-A3D1-3E5D8E6F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5A1-CE97-4C42-824E-8C24B9FC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711-4CF9-4535-963C-543476A0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E03B-5210-4A97-93EC-CBA3E043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12B5-9E05-4682-A23A-645C1633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F65C-ED49-491D-8C19-03987984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6F0C-2B0A-4DC8-9A9F-F01188A0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9CDF-EE0A-4BCA-B56D-661F33DE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3447-E5CD-490A-B16C-4F09B94C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FC5E-FE11-414F-9119-73FFB15A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246-FFAF-4FDB-8DF2-E120B3DA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08FD-BE81-4DBC-B252-8E3A4617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C293-91C8-4B43-88C9-81D6C203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0EF7-57D5-4131-88AE-2D5E1E1A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B135-3568-4ED2-8080-970063EA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E857-E96D-4392-86A3-9F6AF5FD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69E-5BE2-4F70-934D-70CA5101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8FA-443D-4DED-8E56-92BECF91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285-3E3D-493C-928E-CFFD73B0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376-856F-40AC-B4C3-864CCCA5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38F-5475-4871-887A-88C0E960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C79-1615-4068-85DA-3DB499DB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758-816F-408F-9B1A-333449F3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A76A-1468-4423-BDF1-919D6A065C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E7A8-AE27-4A63-92B8-86DB41C89A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sotc.iso.org/livelink/livelink/fetch/2000/2489/Ittf_Home/PubliclyAvailableStandards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cc66"/>
                </a:solidFill>
                <a:latin typeface="Times New Roman"/>
              </a:rPr>
              <a:t>Metadata Standards and Their Support of Data Management Needs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aniel W. Gillm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Bureau of Labor Statistic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ul Johan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Statistics Canad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3B0D-836A-4501-862E-33D7849960F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tadata Sche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BRL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extensible business reporting languag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DI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ata documentation initiativ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DMX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statistical data and metadata exchang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uch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â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l Group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lassification + variable model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WM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mmon warehouse metamode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090-785A-4297-A879-AA69790C62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tadata Sche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83822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BRL – XML for Financial Data and Meta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cording + Transferr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stance documents based on “taxonomie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chema – element struct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abels – reuse across languages and purpo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ferences – to legal or accounting standard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resentation – rules for specifying hierarchy of el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lculations – rules for calculations between el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finitions – rules for other relationships between el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D2B-3FDD-4B13-8899-5275F7693E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tadata Sche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DI (data documentation initiativ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ta archives, for codeboo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 chap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cument; Study; File; Data; Oth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in concept – data s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scrib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icrod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9A2-E9A2-4479-8257-7CB82F1F76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tadata Sche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DMX (statistical data and metadata exchang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IS, ECB, IMF, World Bank, UN, Eurostat, OEC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in concept – data or metadata structure defini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heme for defining data and metadata transfer struct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scrib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acro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ime se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E68-5411-4226-94D5-BA97CC0864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tadata Sche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uch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â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l Group (classification + variable model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weden, Norway, Netherlands, Switzerland, 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rman IT compan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d include Denmark, Finl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in concepts – classification, vari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crib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assifications, micro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425-9EA0-42F4-A1EA-11F0164EAD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tadata Sche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WM – Common Warehouse Metamo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MG – Object Management Grou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ormation supply chain = Survey life-cyc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ol integ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mon metadata model framewo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p between to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are meta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on view of meta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AC6-7E45-41A4-B96A-0AB97EBD57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tegr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27080" y="3456000"/>
            <a:ext cx="863640" cy="7920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11440" y="3529080"/>
            <a:ext cx="863640" cy="7920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5800" y="2232000"/>
            <a:ext cx="863640" cy="7923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83080" y="3384720"/>
            <a:ext cx="863640" cy="7920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4537080"/>
            <a:ext cx="863640" cy="7920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59080" y="5616720"/>
            <a:ext cx="4895640" cy="7920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98720" y="3600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358128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SO11179/ CM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38720" y="25210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D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83080" y="3672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47530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W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38360" y="5832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sauri/search resourc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90720" y="3960720"/>
            <a:ext cx="647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475080" y="3024360"/>
            <a:ext cx="647640" cy="504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75080" y="3960720"/>
            <a:ext cx="936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75080" y="4321080"/>
            <a:ext cx="720720" cy="57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9080" y="2376360"/>
            <a:ext cx="1079280" cy="648000"/>
          </a:xfrm>
          <a:prstGeom prst="wedgeRectCallout">
            <a:avLst>
              <a:gd name="adj1" fmla="val -22060"/>
              <a:gd name="adj2" fmla="val 114462"/>
            </a:avLst>
          </a:prstGeom>
          <a:solidFill>
            <a:srgbClr val="4d4d4d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ata Coll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1295280"/>
            <a:ext cx="1224000" cy="648000"/>
          </a:xfrm>
          <a:prstGeom prst="wedgeRectCallout">
            <a:avLst>
              <a:gd name="adj1" fmla="val -19907"/>
              <a:gd name="adj2" fmla="val 97305"/>
            </a:avLst>
          </a:prstGeom>
          <a:solidFill>
            <a:srgbClr val="4d4d4d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ata Dissemin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9080" y="2016000"/>
            <a:ext cx="1224000" cy="1224000"/>
          </a:xfrm>
          <a:prstGeom prst="wedgeRectCallout">
            <a:avLst>
              <a:gd name="adj1" fmla="val -152203"/>
              <a:gd name="adj2" fmla="val 62449"/>
            </a:avLst>
          </a:prstGeom>
          <a:solidFill>
            <a:srgbClr val="777777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Transfer between Organizations and Organizational Uni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4191120"/>
            <a:ext cx="1224000" cy="647640"/>
          </a:xfrm>
          <a:prstGeom prst="wedgeRectCallout">
            <a:avLst>
              <a:gd name="adj1" fmla="val -132620"/>
              <a:gd name="adj2" fmla="val 68629"/>
            </a:avLst>
          </a:prstGeom>
          <a:solidFill>
            <a:srgbClr val="777777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Interoperabil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674720" y="4248000"/>
            <a:ext cx="0" cy="13687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043080" y="4320720"/>
            <a:ext cx="0" cy="12956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275440" y="4176720"/>
            <a:ext cx="0" cy="144000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2362320"/>
            <a:ext cx="1079280" cy="647640"/>
          </a:xfrm>
          <a:prstGeom prst="wedgeRectCallout">
            <a:avLst>
              <a:gd name="adj1" fmla="val -22060"/>
              <a:gd name="adj2" fmla="val 114462"/>
            </a:avLst>
          </a:prstGeom>
          <a:solidFill>
            <a:srgbClr val="777777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1281240"/>
            <a:ext cx="1224000" cy="647640"/>
          </a:xfrm>
          <a:prstGeom prst="wedgeRectCallout">
            <a:avLst>
              <a:gd name="adj1" fmla="val -19907"/>
              <a:gd name="adj2" fmla="val 97305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Dissemin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750-92C9-4BA0-A467-3889DAEBA6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tegr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2FE-BC0D-47DD-A0DA-5C6124AEE6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clu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tadata Constru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oughout survey life-cyc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y link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7C6-AB2E-45D5-AC0C-2B3C25B55A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rminology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O/IEC 1117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tistica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rporate Metadata Repository Mo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tadata Sche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BRL; Neuch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â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el; DDI; SDMX; CW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g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244-E75C-4639-9A98-688DDBE50C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erminology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perty = something observ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 = perceivable or conceiv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racteristic = abstraction of properties of obj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ept = unique combination of characteristic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signation = association of sign with concep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5E7-11F8-404E-BEC8-F8223CC962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erminology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ep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nsion = sum of characterist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ension = set of corresponding ob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neral = 2 or more objects in exten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signation = term (Example: ma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ividual = 1 object in exten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signation = appelation (Example: Da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00E-9D4A-4DC8-96C8-0FDF7A9174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SO/IEC 11179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Edition Published (in 2005); 3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Edition underw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ely available on we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isotc.iso.org/livelink/livelink/fetch/2000/2489/Ittf_Home/PubliclyAvailableStandard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e als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O/IEC TR 20943 (Achieving Content Consistenc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O/IEC 11404 (Language Independent Datatyp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ture – ISO/IEC 2094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operability and Bind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C9E-C169-4923-87FC-32F35EF237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SO/IEC 11179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 Cla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is being counted here?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 – METIS 2006 attende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per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racteristic of the object cla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 – country of birt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Element Concept := OC + 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222-97AD-4B5C-80CA-0AF86F8401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SO/IEC 11179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lue Dom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are the allowed value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 – ISO 3166-1 Country codes (2-alph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Element := DEC + V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C298-40CE-43ED-A214-B20292FB8D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atistical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pulation (concept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Object Cla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aracteristic (concept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Property &lt;11179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alues (designation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alue Doma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neral concep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cro-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 concep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B5C-62EA-46D6-900F-8D8E636C0E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M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MR –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rporate Metadata Repository Mod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ension of ISO/IEC 1117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statistical surve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a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nai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ta se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IS Work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A3A-9F9E-486C-9387-65D4D17015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pril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22:33:44Z</dcterms:created>
  <dc:creator>GILLMAN_D</dc:creator>
  <dc:description/>
  <dc:language>en-US</dc:language>
  <cp:lastModifiedBy>Jessica Gardner</cp:lastModifiedBy>
  <cp:lastPrinted>2002-02-27T23:21:12Z</cp:lastPrinted>
  <dcterms:modified xsi:type="dcterms:W3CDTF">2006-04-07T10:54:50Z</dcterms:modified>
  <cp:revision>157</cp:revision>
  <dc:subject/>
  <dc:title>Using Metadata to Support the Survey Life-Cycle FedCASIC 200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60219360</vt:r8>
  </property>
  <property fmtid="{D5CDD505-2E9C-101B-9397-08002B2CF9AE}" pid="3" name="_AuthorEmail">
    <vt:lpwstr>Gillman.Daniel@bls.gov</vt:lpwstr>
  </property>
  <property fmtid="{D5CDD505-2E9C-101B-9397-08002B2CF9AE}" pid="4" name="_AuthorEmailDisplayName">
    <vt:lpwstr>Gillman, Daniel - BLS</vt:lpwstr>
  </property>
  <property fmtid="{D5CDD505-2E9C-101B-9397-08002B2CF9AE}" pid="5" name="_EmailSubject">
    <vt:lpwstr>PowerPoint for IP #7</vt:lpwstr>
  </property>
</Properties>
</file>